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B0C-D0E2-456D-ADF2-F2E4B801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7F3-3242-4C1A-B8DA-C9DD5204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76A-B8E1-4A2B-A8DA-4F77A43F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4C2-1306-4956-A1B0-783D15F2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223-5EEA-4D1E-A767-67221853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3D8-0193-4776-93A6-F791740F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46E-7768-453A-9AE5-CB244164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F3A-EC96-4A3D-8831-7D8D8B53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0DB-26A2-406F-AD72-3DFF0F5F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ADC-041B-4CF9-BE13-E278B5C3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335-FDAE-4C1D-98E2-102A1CFA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56C-DDFF-4543-9723-5D19C9C3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56B9-4875-44A7-B5E6-C1B29EB8A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9760" y="252360"/>
            <a:ext cx="95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ntwurf und Implementierung der Verschlüsselungskompo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32040" y="6548400"/>
            <a:ext cx="8076960" cy="3049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rwth_comnets2" descr=""/>
          <p:cNvPicPr/>
          <p:nvPr/>
        </p:nvPicPr>
        <p:blipFill>
          <a:blip r:embed="rId1"/>
          <a:stretch/>
        </p:blipFill>
        <p:spPr>
          <a:xfrm>
            <a:off x="689040" y="6548400"/>
            <a:ext cx="1066680" cy="2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2040" y="654840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Communic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" y="6548400"/>
            <a:ext cx="609480" cy="3049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53360" y="6642000"/>
            <a:ext cx="83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ComNe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14400"/>
            <a:ext cx="9753480" cy="53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schlossene Arb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ierung des Verschlüsselungsmoduls für Nutzdaten der RTP/I-Pakete (Default: AES (Rijndael) Algorithmus mit 128-bit symmetrischem Schlüss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ierung von Modulen zur Benutzerauthentisierung und zum Schlüsselaustaus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ierung eines zentralen Schlüsselservers mit Access-Daten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ublic-key basierter Datenaustausch zwischen Schlüsselserver und ml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ktionen zur Anforderung der aktuellen (Benutzer-spezifischen) Sitzungsliste, Auswahl von Sitzung und Empfang von Chiffrierschlüsseln, Registrierung neuer Sitzung (evtl. nur für bestimmten Benutzerkreis) und sichere Generierung von Chiffrierschlüsseln (beim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rverseitiges Programm mit GUI zur Sitzungs- und Teilnehmer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hlerbehandlungsmechanis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der implementierten Module in mlb version 0.6.10 (Win-Ver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durchführung mit bis zu 3 mlb-clients innerhalb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blic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ulintegration in der aktuellen mlb-version 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95440" y="6629400"/>
            <a:ext cx="383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P3: Sicherungssystem zum Schutz von Urheberrechten an Teach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90612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60" y="252360"/>
            <a:ext cx="98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mplementierung des zentralen Schlüsselservers und Client-Mod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32040" y="6548400"/>
            <a:ext cx="8076960" cy="3049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rwth_comnets2" descr=""/>
          <p:cNvPicPr/>
          <p:nvPr/>
        </p:nvPicPr>
        <p:blipFill>
          <a:blip r:embed="rId1"/>
          <a:stretch/>
        </p:blipFill>
        <p:spPr>
          <a:xfrm>
            <a:off x="689040" y="6548400"/>
            <a:ext cx="1066680" cy="297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832040" y="654840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Communic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40" y="6548400"/>
            <a:ext cx="609480" cy="3049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53360" y="6642000"/>
            <a:ext cx="83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ComNe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133720"/>
            <a:ext cx="434340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133720"/>
            <a:ext cx="2057400" cy="32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438280"/>
            <a:ext cx="1371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819520"/>
            <a:ext cx="13716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Sock 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200400"/>
            <a:ext cx="13716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581280"/>
            <a:ext cx="1371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438280"/>
            <a:ext cx="1371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819520"/>
            <a:ext cx="13716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Sock 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200400"/>
            <a:ext cx="13716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581280"/>
            <a:ext cx="1371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2" idx="2"/>
            <a:endCxn id="66" idx="2"/>
          </p:cNvCxnSpPr>
          <p:nvPr/>
        </p:nvCxnSpPr>
        <p:spPr>
          <a:xfrm flipH="1" rot="16200000">
            <a:off x="2742480" y="2770920"/>
            <a:ext cx="2160" cy="2439000"/>
          </a:xfrm>
          <a:prstGeom prst="bentConnector3">
            <a:avLst>
              <a:gd name="adj1" fmla="val 1440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5943600" y="2438280"/>
            <a:ext cx="137304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77840" y="499896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lb 0.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42800" y="49989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server (137.226.4.88:10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6240" y="259092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6280" y="3048120"/>
            <a:ext cx="684000" cy="76176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24382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1676520"/>
            <a:ext cx="2057400" cy="304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e PRNG “Yarrow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038480" y="18288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8458200" y="1905120"/>
            <a:ext cx="457200" cy="609480"/>
            <a:chOff x="8458200" y="1905120"/>
            <a:chExt cx="457200" cy="609480"/>
          </a:xfrm>
        </p:grpSpPr>
        <p:sp>
          <p:nvSpPr>
            <p:cNvPr id="78" name=""/>
            <p:cNvSpPr/>
            <p:nvPr/>
          </p:nvSpPr>
          <p:spPr>
            <a:xfrm>
              <a:off x="8458200" y="1905120"/>
              <a:ext cx="457200" cy="609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523360" y="19728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23360" y="20401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719200" y="19728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719200" y="20401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23360" y="21081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19200" y="21081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523360" y="21758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719200" y="21758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23360" y="22435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719200" y="22435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23360" y="23112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719200" y="23112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23360" y="23792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19200" y="23792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8229600" y="16002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458200" y="2971800"/>
            <a:ext cx="457200" cy="609480"/>
            <a:chOff x="8458200" y="2971800"/>
            <a:chExt cx="457200" cy="609480"/>
          </a:xfrm>
        </p:grpSpPr>
        <p:sp>
          <p:nvSpPr>
            <p:cNvPr id="95" name=""/>
            <p:cNvSpPr/>
            <p:nvPr/>
          </p:nvSpPr>
          <p:spPr>
            <a:xfrm>
              <a:off x="8458200" y="2971800"/>
              <a:ext cx="457200" cy="609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23360" y="30394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23360" y="31068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19200" y="30394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19200" y="31068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23360" y="31748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19200" y="31748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23360" y="32425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719200" y="32425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23360" y="33102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19200" y="33102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23360" y="33778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19200" y="33778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23360" y="34459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19200" y="34459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8076600" y="26668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xed s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458200" y="4038480"/>
            <a:ext cx="457200" cy="609840"/>
            <a:chOff x="8458200" y="4038480"/>
            <a:chExt cx="457200" cy="609840"/>
          </a:xfrm>
        </p:grpSpPr>
        <p:sp>
          <p:nvSpPr>
            <p:cNvPr id="112" name=""/>
            <p:cNvSpPr/>
            <p:nvPr/>
          </p:nvSpPr>
          <p:spPr>
            <a:xfrm>
              <a:off x="8458200" y="4038480"/>
              <a:ext cx="457200" cy="609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23360" y="41061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23360" y="41738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719200" y="41061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719200" y="41738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23360" y="42415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719200" y="42415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23360" y="43095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19200" y="43095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23360" y="43768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719200" y="43768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23360" y="44449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719200" y="44449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23360" y="45126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719200" y="45126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8076600" y="373392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. s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458200" y="5105520"/>
            <a:ext cx="457200" cy="609480"/>
            <a:chOff x="8458200" y="5105520"/>
            <a:chExt cx="457200" cy="609480"/>
          </a:xfrm>
        </p:grpSpPr>
        <p:sp>
          <p:nvSpPr>
            <p:cNvPr id="129" name=""/>
            <p:cNvSpPr/>
            <p:nvPr/>
          </p:nvSpPr>
          <p:spPr>
            <a:xfrm>
              <a:off x="8458200" y="5105520"/>
              <a:ext cx="457200" cy="6094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23360" y="51732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3360" y="52405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19200" y="51732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719200" y="52405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23360" y="53085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19200" y="53085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23360" y="53762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19200" y="53762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23360" y="54439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719200" y="54439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23360" y="55116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719200" y="55116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23360" y="55796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19200" y="55796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8080200" y="480060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086600" y="3276720"/>
            <a:ext cx="1295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086600" y="220968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086600" y="35053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086600" y="3657600"/>
            <a:ext cx="1295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95440" y="6629400"/>
            <a:ext cx="383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P3: Sicherungssystem zum Schutz von Urheberrechten an Teach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90612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82960" y="252360"/>
            <a:ext cx="57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erver Administration Programm -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2040" y="6548400"/>
            <a:ext cx="8076960" cy="3049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rwth_comnets2" descr=""/>
          <p:cNvPicPr/>
          <p:nvPr/>
        </p:nvPicPr>
        <p:blipFill>
          <a:blip r:embed="rId1"/>
          <a:stretch/>
        </p:blipFill>
        <p:spPr>
          <a:xfrm>
            <a:off x="689040" y="6548400"/>
            <a:ext cx="1066680" cy="297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32040" y="654840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Communic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0" y="6548400"/>
            <a:ext cx="609480" cy="3049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53360" y="6642000"/>
            <a:ext cx="83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ComNe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KeyServer_first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3944880" cy="2832120"/>
          </a:xfrm>
          <a:prstGeom prst="rect">
            <a:avLst/>
          </a:prstGeom>
          <a:ln w="0">
            <a:noFill/>
          </a:ln>
        </p:spPr>
      </p:pic>
      <p:pic>
        <p:nvPicPr>
          <p:cNvPr id="158" name="KeyServer_addUser2" descr=""/>
          <p:cNvPicPr/>
          <p:nvPr/>
        </p:nvPicPr>
        <p:blipFill>
          <a:blip r:embed="rId3"/>
          <a:stretch/>
        </p:blipFill>
        <p:spPr>
          <a:xfrm>
            <a:off x="3200400" y="2057400"/>
            <a:ext cx="3765600" cy="4343400"/>
          </a:xfrm>
          <a:prstGeom prst="rect">
            <a:avLst/>
          </a:prstGeom>
          <a:ln w="0">
            <a:noFill/>
          </a:ln>
        </p:spPr>
      </p:pic>
      <p:pic>
        <p:nvPicPr>
          <p:cNvPr id="159" name="KeyServer_addSession" descr=""/>
          <p:cNvPicPr/>
          <p:nvPr/>
        </p:nvPicPr>
        <p:blipFill>
          <a:blip r:embed="rId4"/>
          <a:stretch/>
        </p:blipFill>
        <p:spPr>
          <a:xfrm>
            <a:off x="5791320" y="1066680"/>
            <a:ext cx="3981240" cy="3911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095440" y="6629400"/>
            <a:ext cx="383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P3: Sicherungssystem zum Schutz von Urheberrechten an Teach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886200"/>
            <a:ext cx="228600" cy="60948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3480" y="4495680"/>
            <a:ext cx="227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Hauptfenster 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Schlüsselserver-Anwend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59436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Hinzufügen neuer User bzw. Editieren von Userd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5943600"/>
            <a:ext cx="762120" cy="22860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541008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3300"/>
                </a:solidFill>
                <a:latin typeface="Arial"/>
              </a:rPr>
              <a:t>Hinzufügen/Anmeldung neuer mlb-Sitz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4876920"/>
            <a:ext cx="228600" cy="533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90612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67280" y="252360"/>
            <a:ext cx="72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mplementierung von Watermarking-Algorit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32040" y="6548400"/>
            <a:ext cx="8076960" cy="3049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rwth_comnets2" descr=""/>
          <p:cNvPicPr/>
          <p:nvPr/>
        </p:nvPicPr>
        <p:blipFill>
          <a:blip r:embed="rId1"/>
          <a:stretch/>
        </p:blipFill>
        <p:spPr>
          <a:xfrm>
            <a:off x="689040" y="6548400"/>
            <a:ext cx="1066680" cy="297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32040" y="654840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Communic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0" y="6548400"/>
            <a:ext cx="609480" cy="3049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53360" y="6642000"/>
            <a:ext cx="83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ComNe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914400"/>
            <a:ext cx="97534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schlossene Arbe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termarking-Algorithmus für Audioda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ierung des Verfahrens mittels Wahrnehmungsverdeckung im Zeit- und Frequenzbereich für PCM-Audioausschnitte mit 32 kHz und 44,1 kHz Abtast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mierung der Algorithmus-Parameter, z.B. Amplitudenverstärkungsfaktor der Wasserzeichenbitmuster (wichtig für auditiven Eindruck und Robusthe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chführung von Testreihen mit unterschiedlichen Audioausschnitten und Prüfung der Wasserzeichen-Robustheit bei weiterer Signalverarbeitung (z.B. Filterung, MP3-Kompres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termarking-Algorithmus für Videoda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ierung des ausgewählten Spread-Spectrum Verfahrens für unkomprimierte Videodaten (AVI-Vide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indent="-1965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ptimierung der Algorithmus-Parameter (z.B. „chip-rate“) und Durchführung einer Testrei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486400"/>
            <a:ext cx="990612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ch in Arbe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ierung des Watermarking-Algorithmus für komprimierte Videodaten (z.B. MPEG-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95440" y="6629400"/>
            <a:ext cx="383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P3: Sicherungssystem zum Schutz von Urheberrechten an Teach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90612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4280" y="252360"/>
            <a:ext cx="89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mplitudenvergleich (Audio) – Mit und Ohne Wasserze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32040" y="6548400"/>
            <a:ext cx="8076960" cy="3049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rwth_comnets2" descr=""/>
          <p:cNvPicPr/>
          <p:nvPr/>
        </p:nvPicPr>
        <p:blipFill>
          <a:blip r:embed="rId1"/>
          <a:stretch/>
        </p:blipFill>
        <p:spPr>
          <a:xfrm>
            <a:off x="689040" y="6548400"/>
            <a:ext cx="1066680" cy="297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832040" y="6548400"/>
            <a:ext cx="30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Communicatio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" y="6548400"/>
            <a:ext cx="609480" cy="3049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53360" y="6642000"/>
            <a:ext cx="83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ComNe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44840" y="16956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Vergleich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467480" cy="5376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95440" y="6629400"/>
            <a:ext cx="3836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TP3: Sicherungssystem zum Schutz von Urheberrechten an Teachwa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3:44:29Z</dcterms:created>
  <dc:creator>ComNets</dc:creator>
  <dc:description/>
  <dc:language>en-US</dc:language>
  <cp:lastModifiedBy>ComNets</cp:lastModifiedBy>
  <dcterms:modified xsi:type="dcterms:W3CDTF">2001-08-14T17:04:03Z</dcterms:modified>
  <cp:revision>17</cp:revision>
  <dc:subject/>
  <dc:title>PowerPoint-Präsentation</dc:title>
</cp:coreProperties>
</file>