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43A4-9D6C-490D-8066-2DF95068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F35-7B66-4C1E-830C-0FA10CD1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D99-71AD-405D-9AF5-849773E3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1C4-B849-4F35-B54E-FB1176D9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B0AD-C7AE-4237-9528-E72681DA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E98-64FB-4C67-A831-E28B3BC5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12C-E1BD-4BBD-950C-A04191DD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163-4A5D-46E1-B17D-32BA0F0A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28C0-DF65-4CA4-BC2E-AA9A9AD4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4D4-B5D2-47F0-8CEB-26439C32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3CC-8CAD-42E4-9BD2-9FB18C10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A885-8683-4EE6-BFE8-DAD6BDAD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8F67-F5A9-4C32-ABF8-C67523A3C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5760" y="6321600"/>
            <a:ext cx="264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Lehrstuhl Kommunikationsnetze, RWTH A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rof. Dr.-Ing. B. Wa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Kopernikusstr. 16, 52074 A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248520"/>
            <a:ext cx="9906120" cy="75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71600"/>
            <a:ext cx="9906120" cy="76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4920"/>
            <a:ext cx="9906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paket 2 (8 Monate/8 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urf und Implementierung der Verschlüsselungskompo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96000" y="6583320"/>
            <a:ext cx="321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ETTE Projekttreffen, Mannheim, 22.01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60840" y="6324480"/>
            <a:ext cx="535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3: Sicherungssystem zum Schutz von Urheberrechten an Teach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7920" y="1600200"/>
          <a:ext cx="701028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70102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0" y="4662360"/>
            <a:ext cx="990612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ementierung der Nutzdatenverschlüsselung auf RTP/I Ebene (mit RTP/I C++ API 1.0 f. Window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führung von Tests zwischen mehreren Teilnehmern (PCs) innerhalb eines LANs mit RTP/I-Testanwend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5760" y="6321600"/>
            <a:ext cx="264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Lehrstuhl Kommunikationsnetze, RWTH A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rof. Dr.-Ing. B. Wa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Kopernikusstr. 16, 52074 A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248520"/>
            <a:ext cx="9906120" cy="75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9906120" cy="76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4920"/>
            <a:ext cx="9906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paket 2 (8 Monate/8 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urf und Implementierung der Verschlüsselungskompo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60840" y="6324480"/>
            <a:ext cx="535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3: Sicherungssystem zum Schutz von Urheberrechten an Teach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447920"/>
            <a:ext cx="9906120" cy="42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weiterung des RTP/I-Pakets zwecks Verschlüsselu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-ID: Algorithmus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-ID: Sitzungsschlüssel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Länge der (unverschlüsselten) Nutz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ung der fünf ADU-Typ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vent A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State A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lta state A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e query A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ue A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blic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ementierung mit der aktuellen RTP/I Biblioth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in ml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905120"/>
            <a:ext cx="4208400" cy="83160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25080" y="2124000"/>
            <a:ext cx="1489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TP/I Header (28 byt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02120" y="2311560"/>
            <a:ext cx="1370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U Header (X byt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2736720"/>
            <a:ext cx="1077840" cy="44316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28800" y="2855880"/>
            <a:ext cx="828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ID (1 byt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11960" y="2736720"/>
            <a:ext cx="3130560" cy="44316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25800" y="2855880"/>
            <a:ext cx="828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-ID (3 byt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179880"/>
            <a:ext cx="4208400" cy="1643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4400" y="4114800"/>
            <a:ext cx="1209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r Data (X byt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3182760"/>
            <a:ext cx="2104920" cy="427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39040" y="3182760"/>
            <a:ext cx="2089080" cy="427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35600" y="3274920"/>
            <a:ext cx="1006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ngth (2 byt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63520" y="327492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F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94200" y="6583320"/>
            <a:ext cx="321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ETTE Projekttreffen, Mannheim, 22.01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92200" y="491004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TP/I Pa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12040" y="5791320"/>
            <a:ext cx="533520" cy="274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97040" y="577044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schlüsse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12040" y="5427720"/>
            <a:ext cx="533520" cy="2746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97040" y="540540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verschlüsse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-5760" y="6321600"/>
            <a:ext cx="264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Lehrstuhl Kommunikationsnetze, RWTH A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rof. Dr.-Ing. B. Wa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Kopernikusstr. 16, 52074 A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248520"/>
            <a:ext cx="9906120" cy="75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71600"/>
            <a:ext cx="9906120" cy="76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04920"/>
            <a:ext cx="9906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thentisierungs- und Schlüsselaustausch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über einen vertrauenswürdigen Schlüssel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60840" y="6324480"/>
            <a:ext cx="535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3: Sicherungssystem zum Schutz von Urheberrechten an Teach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94200" y="6583320"/>
            <a:ext cx="321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ETTE Projekttreffen, Mannheim, 22.01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27400" y="1871640"/>
            <a:ext cx="1219320" cy="609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RUS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KEY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84200" y="3548160"/>
            <a:ext cx="609840" cy="6094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09040" y="3548160"/>
            <a:ext cx="609480" cy="6094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32320" y="5376960"/>
            <a:ext cx="609480" cy="6094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51440" y="3624120"/>
            <a:ext cx="144756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841400" y="2176560"/>
            <a:ext cx="2133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48680" y="1805040"/>
            <a:ext cx="2152440" cy="27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9462" y="17696"/>
                </a:moveTo>
                <a:lnTo>
                  <a:pt x="-765" y="868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nerate Session Key 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5499000" y="2176560"/>
            <a:ext cx="22860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993680" y="2405160"/>
            <a:ext cx="19810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99000" y="2405160"/>
            <a:ext cx="2133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46320" y="3776760"/>
            <a:ext cx="1828800" cy="228600"/>
          </a:xfrm>
          <a:prstGeom prst="leftRightArrow">
            <a:avLst>
              <a:gd name="adj1" fmla="val 50000"/>
              <a:gd name="adj2" fmla="val 15925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75320" y="3776760"/>
            <a:ext cx="1981080" cy="228600"/>
          </a:xfrm>
          <a:prstGeom prst="leftRightArrow">
            <a:avLst>
              <a:gd name="adj1" fmla="val 50000"/>
              <a:gd name="adj2" fmla="val 17252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4241880" y="4652640"/>
            <a:ext cx="1066680" cy="228600"/>
          </a:xfrm>
          <a:prstGeom prst="leftRightArrow">
            <a:avLst>
              <a:gd name="adj1" fmla="val 50000"/>
              <a:gd name="adj2" fmla="val 9289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2633760"/>
            <a:ext cx="622080" cy="3047760"/>
          </a:xfrm>
          <a:custGeom>
            <a:avLst/>
            <a:gdLst/>
            <a:ahLst/>
            <a:rect l="l" t="t" r="r" b="b"/>
            <a:pathLst>
              <a:path w="392" h="1920">
                <a:moveTo>
                  <a:pt x="344" y="1920"/>
                </a:moveTo>
                <a:cubicBezTo>
                  <a:pt x="172" y="1504"/>
                  <a:pt x="0" y="1088"/>
                  <a:pt x="8" y="768"/>
                </a:cubicBezTo>
                <a:cubicBezTo>
                  <a:pt x="16" y="448"/>
                  <a:pt x="204" y="224"/>
                  <a:pt x="3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118120" y="2633760"/>
            <a:ext cx="698400" cy="3047760"/>
          </a:xfrm>
          <a:custGeom>
            <a:avLst/>
            <a:gdLst/>
            <a:ahLst/>
            <a:rect l="l" t="t" r="r" b="b"/>
            <a:pathLst>
              <a:path w="392" h="1920">
                <a:moveTo>
                  <a:pt x="344" y="1920"/>
                </a:moveTo>
                <a:cubicBezTo>
                  <a:pt x="172" y="1504"/>
                  <a:pt x="0" y="1088"/>
                  <a:pt x="8" y="768"/>
                </a:cubicBezTo>
                <a:cubicBezTo>
                  <a:pt x="16" y="448"/>
                  <a:pt x="204" y="224"/>
                  <a:pt x="3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33680" y="3548160"/>
            <a:ext cx="986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K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(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39000" y="3548160"/>
            <a:ext cx="986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K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(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4030560" y="4641480"/>
            <a:ext cx="986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K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(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9729800">
            <a:off x="1691640" y="2633400"/>
            <a:ext cx="214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Key Request, Session-ID, Key-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63200">
            <a:off x="5729040" y="2633400"/>
            <a:ext cx="214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Key Request, Session-ID, Key-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8400">
            <a:off x="2757600" y="4767120"/>
            <a:ext cx="130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Key Reques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ession-ID, Key-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9729800">
            <a:off x="2791800" y="2919960"/>
            <a:ext cx="765720" cy="2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1000" spc="-1" strike="noStrike" baseline="-50000">
                <a:solidFill>
                  <a:srgbClr val="000000"/>
                </a:solidFill>
                <a:latin typeface="Arial"/>
              </a:rPr>
              <a:t>Pb,A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(K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723800">
            <a:off x="6040800" y="2948040"/>
            <a:ext cx="765720" cy="2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1000" spc="-1" strike="noStrike" baseline="-50000">
                <a:solidFill>
                  <a:srgbClr val="000000"/>
                </a:solidFill>
                <a:latin typeface="Arial"/>
              </a:rPr>
              <a:t>Pb</a:t>
            </a:r>
            <a:r>
              <a:rPr b="1" lang="de-DE" sz="10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1" lang="de-DE" sz="1000" spc="-1" strike="noStrike" baseline="-50000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(K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43800">
            <a:off x="5599800" y="4767120"/>
            <a:ext cx="765720" cy="2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1000" spc="-1" strike="noStrike" baseline="-50000">
                <a:solidFill>
                  <a:srgbClr val="000000"/>
                </a:solidFill>
                <a:latin typeface="Arial"/>
              </a:rPr>
              <a:t>Pb,C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(K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1080" y="4691160"/>
            <a:ext cx="222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Pb,A/B/C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: Public Key of A/B/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187800" y="2316240"/>
            <a:ext cx="4343400" cy="32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6880" y="2316240"/>
            <a:ext cx="2057400" cy="32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760" y="6321600"/>
            <a:ext cx="264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Lehrstuhl Kommunikationsnetze, RWTH A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rof. Dr.-Ing. B. Wa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Kopernikusstr. 16, 52074 A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248520"/>
            <a:ext cx="9906120" cy="75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371600"/>
            <a:ext cx="9906120" cy="76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04920"/>
            <a:ext cx="9906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mplementierung eines Testsystems für Authentis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Schlüsselaustau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60840" y="6324480"/>
            <a:ext cx="535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3: Sicherungssystem zum Schutz von Urheberrechten an Teach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4200" y="6583320"/>
            <a:ext cx="321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ETTE Projekttreffen, Mannheim, 22.01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1800" y="2620800"/>
            <a:ext cx="1371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01800" y="3002040"/>
            <a:ext cx="13716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Sock 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01800" y="3382920"/>
            <a:ext cx="13716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01800" y="3763800"/>
            <a:ext cx="1371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2620800"/>
            <a:ext cx="1371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40080" y="3002040"/>
            <a:ext cx="13716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Sock 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40080" y="3382920"/>
            <a:ext cx="13716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40080" y="3763800"/>
            <a:ext cx="1371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2"/>
            <a:endCxn id="121" idx="2"/>
          </p:cNvCxnSpPr>
          <p:nvPr/>
        </p:nvCxnSpPr>
        <p:spPr>
          <a:xfrm flipH="1" rot="16200000">
            <a:off x="2805120" y="2953440"/>
            <a:ext cx="2160" cy="2439000"/>
          </a:xfrm>
          <a:prstGeom prst="bentConnector3">
            <a:avLst>
              <a:gd name="adj1" fmla="val 1440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6006960" y="2620800"/>
            <a:ext cx="1371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76560" y="52228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l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14640" y="521172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key serv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06240" y="2697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SQL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88200" y="3230640"/>
            <a:ext cx="685800" cy="76176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11680" y="27734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16600" y="262080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35360" y="1859040"/>
            <a:ext cx="2057400" cy="304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e PRNG “Yarrow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101840" y="20113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521560" y="2087640"/>
            <a:ext cx="457200" cy="609480"/>
            <a:chOff x="8521560" y="2087640"/>
            <a:chExt cx="457200" cy="609480"/>
          </a:xfrm>
        </p:grpSpPr>
        <p:sp>
          <p:nvSpPr>
            <p:cNvPr id="133" name=""/>
            <p:cNvSpPr/>
            <p:nvPr/>
          </p:nvSpPr>
          <p:spPr>
            <a:xfrm>
              <a:off x="8521560" y="2087640"/>
              <a:ext cx="457200" cy="6094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586720" y="21553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86720" y="22226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782560" y="21553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82560" y="22226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86720" y="22906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782560" y="22906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586720" y="23583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82560" y="23583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86720" y="24260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82560" y="24260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86720" y="24937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782560" y="24937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86720" y="25617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782560" y="25617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8292960" y="17827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521560" y="3154320"/>
            <a:ext cx="457200" cy="609480"/>
            <a:chOff x="8521560" y="3154320"/>
            <a:chExt cx="457200" cy="609480"/>
          </a:xfrm>
        </p:grpSpPr>
        <p:sp>
          <p:nvSpPr>
            <p:cNvPr id="150" name=""/>
            <p:cNvSpPr/>
            <p:nvPr/>
          </p:nvSpPr>
          <p:spPr>
            <a:xfrm>
              <a:off x="8521560" y="3154320"/>
              <a:ext cx="457200" cy="6094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586720" y="32220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586720" y="32893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782560" y="32220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782560" y="32893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86720" y="33573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782560" y="33573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586720" y="34250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782560" y="34250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86720" y="34927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782560" y="34927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586720" y="35604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782560" y="35604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586720" y="36284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782560" y="36284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8139960" y="28494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xed s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521560" y="4221000"/>
            <a:ext cx="457200" cy="609840"/>
            <a:chOff x="8521560" y="4221000"/>
            <a:chExt cx="457200" cy="609840"/>
          </a:xfrm>
        </p:grpSpPr>
        <p:sp>
          <p:nvSpPr>
            <p:cNvPr id="167" name=""/>
            <p:cNvSpPr/>
            <p:nvPr/>
          </p:nvSpPr>
          <p:spPr>
            <a:xfrm>
              <a:off x="8521560" y="4221000"/>
              <a:ext cx="457200" cy="6098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86720" y="42886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586720" y="43563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782560" y="42886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782560" y="43563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86720" y="44240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782560" y="44240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86720" y="44920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782560" y="44920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586720" y="45594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782560" y="45594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86720" y="46274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782560" y="46274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86720" y="46951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782560" y="46951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8140320" y="391644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. s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521560" y="5288040"/>
            <a:ext cx="457200" cy="609480"/>
            <a:chOff x="8521560" y="5288040"/>
            <a:chExt cx="457200" cy="609480"/>
          </a:xfrm>
        </p:grpSpPr>
        <p:sp>
          <p:nvSpPr>
            <p:cNvPr id="184" name=""/>
            <p:cNvSpPr/>
            <p:nvPr/>
          </p:nvSpPr>
          <p:spPr>
            <a:xfrm>
              <a:off x="8521560" y="5288040"/>
              <a:ext cx="457200" cy="6094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586720" y="53557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586720" y="54230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782560" y="53557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782560" y="54230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586720" y="54910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782560" y="54910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586720" y="55587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782560" y="55587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86720" y="56264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782560" y="56264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586720" y="56941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82560" y="56941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586720" y="57621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782560" y="57621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8143920" y="498312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149600" y="3459240"/>
            <a:ext cx="12956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149600" y="2392200"/>
            <a:ext cx="12956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7149600" y="3687840"/>
            <a:ext cx="1295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7149600" y="3840120"/>
            <a:ext cx="12956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-5760" y="6321600"/>
            <a:ext cx="264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Lehrstuhl Kommunikationsnetze, RWTH A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rof. Dr.-Ing. B. Wa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Kopernikusstr. 16, 52074 A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248520"/>
            <a:ext cx="9906120" cy="75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371600"/>
            <a:ext cx="9906120" cy="76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04920"/>
            <a:ext cx="9906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paket 3 (3 Monate/2 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alyse von Watermarking-Algorit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60840" y="6324480"/>
            <a:ext cx="535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3: Sicherungssystem zum Schutz von Urheberrechten an Teach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94200" y="6583320"/>
            <a:ext cx="321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ETTE Projekttreffen, Mannheim, 22.01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519200"/>
            <a:ext cx="66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alyse von Audio-Watermarking (PCM-Audio) Algorith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857240"/>
            <a:ext cx="9906120" cy="39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forderungen an Audio-Watermarki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bettung in die gesamte Audio-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hör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stisch nicht erkenn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bust gegen Manipulation und weitere Signalver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kt extrahierbar mit geeignetem Verfahren und 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istierende Audio-Watermarking Verfahr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cho-Kodi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hasen-Kodi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SS (Direct Sequence Spread Spectr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HSS (Frequency Hopping Spread Spectr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Wahrnehmungsverdeckung in Zeit- und Frequenzbere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-5760" y="6321600"/>
            <a:ext cx="264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Lehrstuhl Kommunikationsnetze, RWTH A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rof. Dr.-Ing. B. Wa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Kopernikusstr. 16, 52074 A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6248520"/>
            <a:ext cx="9906120" cy="75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371600"/>
            <a:ext cx="9906120" cy="76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60840" y="6324480"/>
            <a:ext cx="535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3: Sicherungssystem zum Schutz von Urheberrechten an Teach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94200" y="6583320"/>
            <a:ext cx="321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ETTE Projekttreffen, Mannheim, 22.01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992840"/>
            <a:ext cx="990612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onderheit: hohe Bitrate, unhörbar, robust, Berücksichtigung des menschlichen Gehör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rechenaufwend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merkung: evtl. patenti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95560" y="29923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06680" y="223056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06680" y="2230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1080" y="299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87560" y="2840040"/>
            <a:ext cx="547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07080" y="2840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21280" y="299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06880" y="2763720"/>
            <a:ext cx="94932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54800" y="3373560"/>
            <a:ext cx="5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859360" y="367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859360" y="314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12000" y="299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83600" y="284004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06880" y="223056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35880" y="2230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92480" y="2001960"/>
            <a:ext cx="94932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02360" y="2992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69200" y="2840040"/>
            <a:ext cx="54756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83600" y="421164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24160" y="3906720"/>
            <a:ext cx="187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hor’s signature y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06680" y="2992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06680" y="43639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35880" y="31449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88160" y="436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76400" y="2687760"/>
            <a:ext cx="453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6960" y="4211640"/>
            <a:ext cx="141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’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k) = 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k) + 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81800" y="4516560"/>
            <a:ext cx="18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ermarked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00280" y="2687760"/>
            <a:ext cx="479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2760" y="1925640"/>
            <a:ext cx="420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01200" y="2687760"/>
            <a:ext cx="503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38560" y="2687760"/>
            <a:ext cx="479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05240" y="2687760"/>
            <a:ext cx="462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39120" y="3373560"/>
            <a:ext cx="487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76200" y="2590920"/>
            <a:ext cx="1722600" cy="855360"/>
            <a:chOff x="376200" y="2590920"/>
            <a:chExt cx="1722600" cy="855360"/>
          </a:xfrm>
        </p:grpSpPr>
        <p:sp>
          <p:nvSpPr>
            <p:cNvPr id="252" name=""/>
            <p:cNvSpPr/>
            <p:nvPr/>
          </p:nvSpPr>
          <p:spPr>
            <a:xfrm>
              <a:off x="376200" y="2992320"/>
              <a:ext cx="1057320" cy="1800"/>
            </a:xfrm>
            <a:prstGeom prst="line">
              <a:avLst/>
            </a:prstGeom>
            <a:ln w="936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440" y="2857680"/>
              <a:ext cx="144360" cy="277560"/>
            </a:xfrm>
            <a:custGeom>
              <a:avLst/>
              <a:gdLst/>
              <a:ahLst/>
              <a:rect l="l" t="t" r="r" b="b"/>
              <a:pathLst>
                <a:path w="542" h="525">
                  <a:moveTo>
                    <a:pt x="0" y="250"/>
                  </a:moveTo>
                  <a:lnTo>
                    <a:pt x="7" y="205"/>
                  </a:lnTo>
                  <a:lnTo>
                    <a:pt x="17" y="161"/>
                  </a:lnTo>
                  <a:lnTo>
                    <a:pt x="25" y="128"/>
                  </a:lnTo>
                  <a:lnTo>
                    <a:pt x="38" y="113"/>
                  </a:lnTo>
                  <a:lnTo>
                    <a:pt x="51" y="102"/>
                  </a:lnTo>
                  <a:lnTo>
                    <a:pt x="65" y="101"/>
                  </a:lnTo>
                  <a:lnTo>
                    <a:pt x="82" y="105"/>
                  </a:lnTo>
                  <a:lnTo>
                    <a:pt x="96" y="119"/>
                  </a:lnTo>
                  <a:lnTo>
                    <a:pt x="104" y="137"/>
                  </a:lnTo>
                  <a:lnTo>
                    <a:pt x="110" y="162"/>
                  </a:lnTo>
                  <a:lnTo>
                    <a:pt x="138" y="325"/>
                  </a:lnTo>
                  <a:lnTo>
                    <a:pt x="145" y="350"/>
                  </a:lnTo>
                  <a:lnTo>
                    <a:pt x="151" y="366"/>
                  </a:lnTo>
                  <a:lnTo>
                    <a:pt x="168" y="378"/>
                  </a:lnTo>
                  <a:lnTo>
                    <a:pt x="185" y="379"/>
                  </a:lnTo>
                  <a:lnTo>
                    <a:pt x="199" y="371"/>
                  </a:lnTo>
                  <a:lnTo>
                    <a:pt x="208" y="352"/>
                  </a:lnTo>
                  <a:lnTo>
                    <a:pt x="215" y="325"/>
                  </a:lnTo>
                  <a:lnTo>
                    <a:pt x="253" y="86"/>
                  </a:lnTo>
                  <a:lnTo>
                    <a:pt x="259" y="51"/>
                  </a:lnTo>
                  <a:lnTo>
                    <a:pt x="266" y="28"/>
                  </a:lnTo>
                  <a:lnTo>
                    <a:pt x="275" y="12"/>
                  </a:lnTo>
                  <a:lnTo>
                    <a:pt x="286" y="4"/>
                  </a:lnTo>
                  <a:lnTo>
                    <a:pt x="302" y="0"/>
                  </a:lnTo>
                  <a:lnTo>
                    <a:pt x="321" y="5"/>
                  </a:lnTo>
                  <a:lnTo>
                    <a:pt x="334" y="25"/>
                  </a:lnTo>
                  <a:lnTo>
                    <a:pt x="341" y="43"/>
                  </a:lnTo>
                  <a:lnTo>
                    <a:pt x="346" y="67"/>
                  </a:lnTo>
                  <a:lnTo>
                    <a:pt x="404" y="451"/>
                  </a:lnTo>
                  <a:lnTo>
                    <a:pt x="411" y="483"/>
                  </a:lnTo>
                  <a:lnTo>
                    <a:pt x="421" y="510"/>
                  </a:lnTo>
                  <a:lnTo>
                    <a:pt x="433" y="521"/>
                  </a:lnTo>
                  <a:lnTo>
                    <a:pt x="453" y="525"/>
                  </a:lnTo>
                  <a:lnTo>
                    <a:pt x="470" y="509"/>
                  </a:lnTo>
                  <a:lnTo>
                    <a:pt x="479" y="485"/>
                  </a:lnTo>
                  <a:lnTo>
                    <a:pt x="487" y="453"/>
                  </a:lnTo>
                  <a:lnTo>
                    <a:pt x="542" y="105"/>
                  </a:lnTo>
                </a:path>
              </a:pathLst>
            </a:custGeom>
            <a:noFill/>
            <a:ln w="93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4800" y="2590920"/>
              <a:ext cx="247680" cy="792000"/>
            </a:xfrm>
            <a:custGeom>
              <a:avLst/>
              <a:gdLst/>
              <a:ahLst/>
              <a:rect l="l" t="t" r="r" b="b"/>
              <a:pathLst>
                <a:path w="926" h="1497">
                  <a:moveTo>
                    <a:pt x="0" y="611"/>
                  </a:moveTo>
                  <a:lnTo>
                    <a:pt x="48" y="330"/>
                  </a:lnTo>
                  <a:lnTo>
                    <a:pt x="54" y="307"/>
                  </a:lnTo>
                  <a:lnTo>
                    <a:pt x="69" y="296"/>
                  </a:lnTo>
                  <a:lnTo>
                    <a:pt x="82" y="292"/>
                  </a:lnTo>
                  <a:lnTo>
                    <a:pt x="103" y="296"/>
                  </a:lnTo>
                  <a:lnTo>
                    <a:pt x="114" y="309"/>
                  </a:lnTo>
                  <a:lnTo>
                    <a:pt x="120" y="330"/>
                  </a:lnTo>
                  <a:lnTo>
                    <a:pt x="232" y="1143"/>
                  </a:lnTo>
                  <a:lnTo>
                    <a:pt x="243" y="1185"/>
                  </a:lnTo>
                  <a:lnTo>
                    <a:pt x="253" y="1200"/>
                  </a:lnTo>
                  <a:lnTo>
                    <a:pt x="271" y="1207"/>
                  </a:lnTo>
                  <a:lnTo>
                    <a:pt x="285" y="1212"/>
                  </a:lnTo>
                  <a:lnTo>
                    <a:pt x="304" y="1205"/>
                  </a:lnTo>
                  <a:lnTo>
                    <a:pt x="318" y="1188"/>
                  </a:lnTo>
                  <a:lnTo>
                    <a:pt x="329" y="1143"/>
                  </a:lnTo>
                  <a:lnTo>
                    <a:pt x="440" y="201"/>
                  </a:lnTo>
                  <a:lnTo>
                    <a:pt x="447" y="155"/>
                  </a:lnTo>
                  <a:lnTo>
                    <a:pt x="454" y="141"/>
                  </a:lnTo>
                  <a:lnTo>
                    <a:pt x="462" y="127"/>
                  </a:lnTo>
                  <a:lnTo>
                    <a:pt x="475" y="116"/>
                  </a:lnTo>
                  <a:lnTo>
                    <a:pt x="490" y="114"/>
                  </a:lnTo>
                  <a:lnTo>
                    <a:pt x="507" y="120"/>
                  </a:lnTo>
                  <a:lnTo>
                    <a:pt x="522" y="129"/>
                  </a:lnTo>
                  <a:lnTo>
                    <a:pt x="530" y="141"/>
                  </a:lnTo>
                  <a:lnTo>
                    <a:pt x="538" y="155"/>
                  </a:lnTo>
                  <a:lnTo>
                    <a:pt x="545" y="194"/>
                  </a:lnTo>
                  <a:lnTo>
                    <a:pt x="646" y="1402"/>
                  </a:lnTo>
                  <a:lnTo>
                    <a:pt x="653" y="1454"/>
                  </a:lnTo>
                  <a:lnTo>
                    <a:pt x="662" y="1478"/>
                  </a:lnTo>
                  <a:lnTo>
                    <a:pt x="680" y="1490"/>
                  </a:lnTo>
                  <a:lnTo>
                    <a:pt x="697" y="1497"/>
                  </a:lnTo>
                  <a:lnTo>
                    <a:pt x="714" y="1490"/>
                  </a:lnTo>
                  <a:lnTo>
                    <a:pt x="723" y="1478"/>
                  </a:lnTo>
                  <a:lnTo>
                    <a:pt x="729" y="1457"/>
                  </a:lnTo>
                  <a:lnTo>
                    <a:pt x="735" y="1407"/>
                  </a:lnTo>
                  <a:lnTo>
                    <a:pt x="866" y="86"/>
                  </a:lnTo>
                  <a:lnTo>
                    <a:pt x="872" y="58"/>
                  </a:lnTo>
                  <a:lnTo>
                    <a:pt x="881" y="33"/>
                  </a:lnTo>
                  <a:lnTo>
                    <a:pt x="892" y="17"/>
                  </a:lnTo>
                  <a:lnTo>
                    <a:pt x="902" y="5"/>
                  </a:lnTo>
                  <a:lnTo>
                    <a:pt x="914" y="0"/>
                  </a:lnTo>
                  <a:lnTo>
                    <a:pt x="926" y="0"/>
                  </a:lnTo>
                </a:path>
              </a:pathLst>
            </a:custGeom>
            <a:noFill/>
            <a:ln w="93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47800" y="2590920"/>
              <a:ext cx="247680" cy="792000"/>
            </a:xfrm>
            <a:custGeom>
              <a:avLst/>
              <a:gdLst/>
              <a:ahLst/>
              <a:rect l="l" t="t" r="r" b="b"/>
              <a:pathLst>
                <a:path w="927" h="1497">
                  <a:moveTo>
                    <a:pt x="927" y="614"/>
                  </a:moveTo>
                  <a:lnTo>
                    <a:pt x="879" y="330"/>
                  </a:lnTo>
                  <a:lnTo>
                    <a:pt x="872" y="307"/>
                  </a:lnTo>
                  <a:lnTo>
                    <a:pt x="858" y="296"/>
                  </a:lnTo>
                  <a:lnTo>
                    <a:pt x="844" y="292"/>
                  </a:lnTo>
                  <a:lnTo>
                    <a:pt x="823" y="296"/>
                  </a:lnTo>
                  <a:lnTo>
                    <a:pt x="813" y="309"/>
                  </a:lnTo>
                  <a:lnTo>
                    <a:pt x="805" y="330"/>
                  </a:lnTo>
                  <a:lnTo>
                    <a:pt x="694" y="1143"/>
                  </a:lnTo>
                  <a:lnTo>
                    <a:pt x="683" y="1185"/>
                  </a:lnTo>
                  <a:lnTo>
                    <a:pt x="674" y="1200"/>
                  </a:lnTo>
                  <a:lnTo>
                    <a:pt x="655" y="1207"/>
                  </a:lnTo>
                  <a:lnTo>
                    <a:pt x="641" y="1212"/>
                  </a:lnTo>
                  <a:lnTo>
                    <a:pt x="622" y="1205"/>
                  </a:lnTo>
                  <a:lnTo>
                    <a:pt x="608" y="1188"/>
                  </a:lnTo>
                  <a:lnTo>
                    <a:pt x="598" y="1143"/>
                  </a:lnTo>
                  <a:lnTo>
                    <a:pt x="486" y="201"/>
                  </a:lnTo>
                  <a:lnTo>
                    <a:pt x="478" y="155"/>
                  </a:lnTo>
                  <a:lnTo>
                    <a:pt x="473" y="141"/>
                  </a:lnTo>
                  <a:lnTo>
                    <a:pt x="465" y="127"/>
                  </a:lnTo>
                  <a:lnTo>
                    <a:pt x="451" y="116"/>
                  </a:lnTo>
                  <a:lnTo>
                    <a:pt x="438" y="114"/>
                  </a:lnTo>
                  <a:lnTo>
                    <a:pt x="420" y="120"/>
                  </a:lnTo>
                  <a:lnTo>
                    <a:pt x="404" y="129"/>
                  </a:lnTo>
                  <a:lnTo>
                    <a:pt x="396" y="141"/>
                  </a:lnTo>
                  <a:lnTo>
                    <a:pt x="389" y="155"/>
                  </a:lnTo>
                  <a:lnTo>
                    <a:pt x="382" y="194"/>
                  </a:lnTo>
                  <a:lnTo>
                    <a:pt x="280" y="1402"/>
                  </a:lnTo>
                  <a:lnTo>
                    <a:pt x="273" y="1454"/>
                  </a:lnTo>
                  <a:lnTo>
                    <a:pt x="264" y="1478"/>
                  </a:lnTo>
                  <a:lnTo>
                    <a:pt x="246" y="1490"/>
                  </a:lnTo>
                  <a:lnTo>
                    <a:pt x="230" y="1497"/>
                  </a:lnTo>
                  <a:lnTo>
                    <a:pt x="213" y="1490"/>
                  </a:lnTo>
                  <a:lnTo>
                    <a:pt x="204" y="1478"/>
                  </a:lnTo>
                  <a:lnTo>
                    <a:pt x="197" y="1457"/>
                  </a:lnTo>
                  <a:lnTo>
                    <a:pt x="191" y="1407"/>
                  </a:lnTo>
                  <a:lnTo>
                    <a:pt x="60" y="86"/>
                  </a:lnTo>
                  <a:lnTo>
                    <a:pt x="55" y="58"/>
                  </a:lnTo>
                  <a:lnTo>
                    <a:pt x="46" y="33"/>
                  </a:lnTo>
                  <a:lnTo>
                    <a:pt x="35" y="17"/>
                  </a:lnTo>
                  <a:lnTo>
                    <a:pt x="25" y="5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08320" y="2989440"/>
              <a:ext cx="690480" cy="1440"/>
            </a:xfrm>
            <a:prstGeom prst="line">
              <a:avLst/>
            </a:prstGeom>
            <a:ln w="936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527480" y="2652840"/>
              <a:ext cx="247320" cy="792000"/>
            </a:xfrm>
            <a:custGeom>
              <a:avLst/>
              <a:gdLst/>
              <a:ahLst/>
              <a:rect l="l" t="t" r="r" b="b"/>
              <a:pathLst>
                <a:path w="926" h="1497">
                  <a:moveTo>
                    <a:pt x="0" y="611"/>
                  </a:moveTo>
                  <a:lnTo>
                    <a:pt x="48" y="330"/>
                  </a:lnTo>
                  <a:lnTo>
                    <a:pt x="54" y="307"/>
                  </a:lnTo>
                  <a:lnTo>
                    <a:pt x="69" y="296"/>
                  </a:lnTo>
                  <a:lnTo>
                    <a:pt x="82" y="292"/>
                  </a:lnTo>
                  <a:lnTo>
                    <a:pt x="103" y="296"/>
                  </a:lnTo>
                  <a:lnTo>
                    <a:pt x="114" y="309"/>
                  </a:lnTo>
                  <a:lnTo>
                    <a:pt x="120" y="330"/>
                  </a:lnTo>
                  <a:lnTo>
                    <a:pt x="232" y="1143"/>
                  </a:lnTo>
                  <a:lnTo>
                    <a:pt x="243" y="1185"/>
                  </a:lnTo>
                  <a:lnTo>
                    <a:pt x="253" y="1200"/>
                  </a:lnTo>
                  <a:lnTo>
                    <a:pt x="271" y="1207"/>
                  </a:lnTo>
                  <a:lnTo>
                    <a:pt x="285" y="1212"/>
                  </a:lnTo>
                  <a:lnTo>
                    <a:pt x="304" y="1205"/>
                  </a:lnTo>
                  <a:lnTo>
                    <a:pt x="318" y="1188"/>
                  </a:lnTo>
                  <a:lnTo>
                    <a:pt x="329" y="1143"/>
                  </a:lnTo>
                  <a:lnTo>
                    <a:pt x="440" y="201"/>
                  </a:lnTo>
                  <a:lnTo>
                    <a:pt x="447" y="155"/>
                  </a:lnTo>
                  <a:lnTo>
                    <a:pt x="454" y="141"/>
                  </a:lnTo>
                  <a:lnTo>
                    <a:pt x="462" y="127"/>
                  </a:lnTo>
                  <a:lnTo>
                    <a:pt x="475" y="116"/>
                  </a:lnTo>
                  <a:lnTo>
                    <a:pt x="490" y="114"/>
                  </a:lnTo>
                  <a:lnTo>
                    <a:pt x="507" y="120"/>
                  </a:lnTo>
                  <a:lnTo>
                    <a:pt x="522" y="129"/>
                  </a:lnTo>
                  <a:lnTo>
                    <a:pt x="530" y="141"/>
                  </a:lnTo>
                  <a:lnTo>
                    <a:pt x="538" y="155"/>
                  </a:lnTo>
                  <a:lnTo>
                    <a:pt x="545" y="194"/>
                  </a:lnTo>
                  <a:lnTo>
                    <a:pt x="646" y="1402"/>
                  </a:lnTo>
                  <a:lnTo>
                    <a:pt x="653" y="1454"/>
                  </a:lnTo>
                  <a:lnTo>
                    <a:pt x="662" y="1478"/>
                  </a:lnTo>
                  <a:lnTo>
                    <a:pt x="680" y="1490"/>
                  </a:lnTo>
                  <a:lnTo>
                    <a:pt x="697" y="1497"/>
                  </a:lnTo>
                  <a:lnTo>
                    <a:pt x="714" y="1490"/>
                  </a:lnTo>
                  <a:lnTo>
                    <a:pt x="723" y="1478"/>
                  </a:lnTo>
                  <a:lnTo>
                    <a:pt x="729" y="1457"/>
                  </a:lnTo>
                  <a:lnTo>
                    <a:pt x="735" y="1407"/>
                  </a:lnTo>
                  <a:lnTo>
                    <a:pt x="866" y="86"/>
                  </a:lnTo>
                  <a:lnTo>
                    <a:pt x="872" y="58"/>
                  </a:lnTo>
                  <a:lnTo>
                    <a:pt x="881" y="33"/>
                  </a:lnTo>
                  <a:lnTo>
                    <a:pt x="892" y="17"/>
                  </a:lnTo>
                  <a:lnTo>
                    <a:pt x="902" y="5"/>
                  </a:lnTo>
                  <a:lnTo>
                    <a:pt x="914" y="0"/>
                  </a:lnTo>
                  <a:lnTo>
                    <a:pt x="926" y="0"/>
                  </a:lnTo>
                </a:path>
              </a:pathLst>
            </a:custGeom>
            <a:noFill/>
            <a:ln w="93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89000" y="2844720"/>
              <a:ext cx="144720" cy="277920"/>
            </a:xfrm>
            <a:custGeom>
              <a:avLst/>
              <a:gdLst/>
              <a:ahLst/>
              <a:rect l="l" t="t" r="r" b="b"/>
              <a:pathLst>
                <a:path w="541" h="525">
                  <a:moveTo>
                    <a:pt x="541" y="250"/>
                  </a:moveTo>
                  <a:lnTo>
                    <a:pt x="534" y="205"/>
                  </a:lnTo>
                  <a:lnTo>
                    <a:pt x="524" y="161"/>
                  </a:lnTo>
                  <a:lnTo>
                    <a:pt x="516" y="128"/>
                  </a:lnTo>
                  <a:lnTo>
                    <a:pt x="505" y="113"/>
                  </a:lnTo>
                  <a:lnTo>
                    <a:pt x="490" y="102"/>
                  </a:lnTo>
                  <a:lnTo>
                    <a:pt x="477" y="101"/>
                  </a:lnTo>
                  <a:lnTo>
                    <a:pt x="459" y="105"/>
                  </a:lnTo>
                  <a:lnTo>
                    <a:pt x="446" y="119"/>
                  </a:lnTo>
                  <a:lnTo>
                    <a:pt x="438" y="137"/>
                  </a:lnTo>
                  <a:lnTo>
                    <a:pt x="431" y="162"/>
                  </a:lnTo>
                  <a:lnTo>
                    <a:pt x="403" y="325"/>
                  </a:lnTo>
                  <a:lnTo>
                    <a:pt x="396" y="350"/>
                  </a:lnTo>
                  <a:lnTo>
                    <a:pt x="390" y="366"/>
                  </a:lnTo>
                  <a:lnTo>
                    <a:pt x="374" y="378"/>
                  </a:lnTo>
                  <a:lnTo>
                    <a:pt x="357" y="379"/>
                  </a:lnTo>
                  <a:lnTo>
                    <a:pt x="342" y="371"/>
                  </a:lnTo>
                  <a:lnTo>
                    <a:pt x="335" y="352"/>
                  </a:lnTo>
                  <a:lnTo>
                    <a:pt x="327" y="325"/>
                  </a:lnTo>
                  <a:lnTo>
                    <a:pt x="289" y="86"/>
                  </a:lnTo>
                  <a:lnTo>
                    <a:pt x="282" y="51"/>
                  </a:lnTo>
                  <a:lnTo>
                    <a:pt x="275" y="28"/>
                  </a:lnTo>
                  <a:lnTo>
                    <a:pt x="266" y="12"/>
                  </a:lnTo>
                  <a:lnTo>
                    <a:pt x="255" y="4"/>
                  </a:lnTo>
                  <a:lnTo>
                    <a:pt x="238" y="0"/>
                  </a:lnTo>
                  <a:lnTo>
                    <a:pt x="220" y="5"/>
                  </a:lnTo>
                  <a:lnTo>
                    <a:pt x="206" y="25"/>
                  </a:lnTo>
                  <a:lnTo>
                    <a:pt x="200" y="43"/>
                  </a:lnTo>
                  <a:lnTo>
                    <a:pt x="196" y="67"/>
                  </a:lnTo>
                  <a:lnTo>
                    <a:pt x="138" y="451"/>
                  </a:lnTo>
                  <a:lnTo>
                    <a:pt x="131" y="483"/>
                  </a:lnTo>
                  <a:lnTo>
                    <a:pt x="121" y="510"/>
                  </a:lnTo>
                  <a:lnTo>
                    <a:pt x="109" y="521"/>
                  </a:lnTo>
                  <a:lnTo>
                    <a:pt x="88" y="525"/>
                  </a:lnTo>
                  <a:lnTo>
                    <a:pt x="71" y="509"/>
                  </a:lnTo>
                  <a:lnTo>
                    <a:pt x="62" y="485"/>
                  </a:lnTo>
                  <a:lnTo>
                    <a:pt x="55" y="453"/>
                  </a:lnTo>
                  <a:lnTo>
                    <a:pt x="0" y="105"/>
                  </a:lnTo>
                </a:path>
              </a:pathLst>
            </a:custGeom>
            <a:noFill/>
            <a:ln w="93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774800" y="2653560"/>
              <a:ext cx="247680" cy="792360"/>
            </a:xfrm>
            <a:custGeom>
              <a:avLst/>
              <a:gdLst/>
              <a:ahLst/>
              <a:rect l="l" t="t" r="r" b="b"/>
              <a:pathLst>
                <a:path w="927" h="1497">
                  <a:moveTo>
                    <a:pt x="927" y="614"/>
                  </a:moveTo>
                  <a:lnTo>
                    <a:pt x="879" y="330"/>
                  </a:lnTo>
                  <a:lnTo>
                    <a:pt x="872" y="307"/>
                  </a:lnTo>
                  <a:lnTo>
                    <a:pt x="858" y="296"/>
                  </a:lnTo>
                  <a:lnTo>
                    <a:pt x="844" y="292"/>
                  </a:lnTo>
                  <a:lnTo>
                    <a:pt x="823" y="296"/>
                  </a:lnTo>
                  <a:lnTo>
                    <a:pt x="813" y="309"/>
                  </a:lnTo>
                  <a:lnTo>
                    <a:pt x="805" y="330"/>
                  </a:lnTo>
                  <a:lnTo>
                    <a:pt x="694" y="1143"/>
                  </a:lnTo>
                  <a:lnTo>
                    <a:pt x="683" y="1185"/>
                  </a:lnTo>
                  <a:lnTo>
                    <a:pt x="674" y="1200"/>
                  </a:lnTo>
                  <a:lnTo>
                    <a:pt x="655" y="1207"/>
                  </a:lnTo>
                  <a:lnTo>
                    <a:pt x="641" y="1212"/>
                  </a:lnTo>
                  <a:lnTo>
                    <a:pt x="622" y="1205"/>
                  </a:lnTo>
                  <a:lnTo>
                    <a:pt x="608" y="1188"/>
                  </a:lnTo>
                  <a:lnTo>
                    <a:pt x="598" y="1143"/>
                  </a:lnTo>
                  <a:lnTo>
                    <a:pt x="486" y="201"/>
                  </a:lnTo>
                  <a:lnTo>
                    <a:pt x="478" y="155"/>
                  </a:lnTo>
                  <a:lnTo>
                    <a:pt x="473" y="141"/>
                  </a:lnTo>
                  <a:lnTo>
                    <a:pt x="465" y="127"/>
                  </a:lnTo>
                  <a:lnTo>
                    <a:pt x="451" y="116"/>
                  </a:lnTo>
                  <a:lnTo>
                    <a:pt x="438" y="114"/>
                  </a:lnTo>
                  <a:lnTo>
                    <a:pt x="420" y="120"/>
                  </a:lnTo>
                  <a:lnTo>
                    <a:pt x="404" y="129"/>
                  </a:lnTo>
                  <a:lnTo>
                    <a:pt x="396" y="141"/>
                  </a:lnTo>
                  <a:lnTo>
                    <a:pt x="389" y="155"/>
                  </a:lnTo>
                  <a:lnTo>
                    <a:pt x="382" y="194"/>
                  </a:lnTo>
                  <a:lnTo>
                    <a:pt x="280" y="1402"/>
                  </a:lnTo>
                  <a:lnTo>
                    <a:pt x="273" y="1454"/>
                  </a:lnTo>
                  <a:lnTo>
                    <a:pt x="264" y="1478"/>
                  </a:lnTo>
                  <a:lnTo>
                    <a:pt x="246" y="1490"/>
                  </a:lnTo>
                  <a:lnTo>
                    <a:pt x="230" y="1497"/>
                  </a:lnTo>
                  <a:lnTo>
                    <a:pt x="213" y="1490"/>
                  </a:lnTo>
                  <a:lnTo>
                    <a:pt x="204" y="1478"/>
                  </a:lnTo>
                  <a:lnTo>
                    <a:pt x="197" y="1457"/>
                  </a:lnTo>
                  <a:lnTo>
                    <a:pt x="191" y="1407"/>
                  </a:lnTo>
                  <a:lnTo>
                    <a:pt x="60" y="86"/>
                  </a:lnTo>
                  <a:lnTo>
                    <a:pt x="55" y="58"/>
                  </a:lnTo>
                  <a:lnTo>
                    <a:pt x="46" y="33"/>
                  </a:lnTo>
                  <a:lnTo>
                    <a:pt x="35" y="17"/>
                  </a:lnTo>
                  <a:lnTo>
                    <a:pt x="25" y="5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36960" y="2921040"/>
              <a:ext cx="144360" cy="277920"/>
            </a:xfrm>
            <a:custGeom>
              <a:avLst/>
              <a:gdLst/>
              <a:ahLst/>
              <a:rect l="l" t="t" r="r" b="b"/>
              <a:pathLst>
                <a:path w="541" h="525">
                  <a:moveTo>
                    <a:pt x="541" y="250"/>
                  </a:moveTo>
                  <a:lnTo>
                    <a:pt x="534" y="205"/>
                  </a:lnTo>
                  <a:lnTo>
                    <a:pt x="524" y="161"/>
                  </a:lnTo>
                  <a:lnTo>
                    <a:pt x="516" y="128"/>
                  </a:lnTo>
                  <a:lnTo>
                    <a:pt x="505" y="113"/>
                  </a:lnTo>
                  <a:lnTo>
                    <a:pt x="490" y="102"/>
                  </a:lnTo>
                  <a:lnTo>
                    <a:pt x="477" y="101"/>
                  </a:lnTo>
                  <a:lnTo>
                    <a:pt x="459" y="105"/>
                  </a:lnTo>
                  <a:lnTo>
                    <a:pt x="446" y="119"/>
                  </a:lnTo>
                  <a:lnTo>
                    <a:pt x="438" y="137"/>
                  </a:lnTo>
                  <a:lnTo>
                    <a:pt x="431" y="162"/>
                  </a:lnTo>
                  <a:lnTo>
                    <a:pt x="403" y="325"/>
                  </a:lnTo>
                  <a:lnTo>
                    <a:pt x="396" y="350"/>
                  </a:lnTo>
                  <a:lnTo>
                    <a:pt x="390" y="366"/>
                  </a:lnTo>
                  <a:lnTo>
                    <a:pt x="374" y="378"/>
                  </a:lnTo>
                  <a:lnTo>
                    <a:pt x="357" y="379"/>
                  </a:lnTo>
                  <a:lnTo>
                    <a:pt x="342" y="371"/>
                  </a:lnTo>
                  <a:lnTo>
                    <a:pt x="335" y="352"/>
                  </a:lnTo>
                  <a:lnTo>
                    <a:pt x="327" y="325"/>
                  </a:lnTo>
                  <a:lnTo>
                    <a:pt x="289" y="86"/>
                  </a:lnTo>
                  <a:lnTo>
                    <a:pt x="282" y="51"/>
                  </a:lnTo>
                  <a:lnTo>
                    <a:pt x="275" y="28"/>
                  </a:lnTo>
                  <a:lnTo>
                    <a:pt x="266" y="12"/>
                  </a:lnTo>
                  <a:lnTo>
                    <a:pt x="255" y="4"/>
                  </a:lnTo>
                  <a:lnTo>
                    <a:pt x="238" y="0"/>
                  </a:lnTo>
                  <a:lnTo>
                    <a:pt x="220" y="5"/>
                  </a:lnTo>
                  <a:lnTo>
                    <a:pt x="206" y="25"/>
                  </a:lnTo>
                  <a:lnTo>
                    <a:pt x="200" y="43"/>
                  </a:lnTo>
                  <a:lnTo>
                    <a:pt x="196" y="67"/>
                  </a:lnTo>
                  <a:lnTo>
                    <a:pt x="138" y="451"/>
                  </a:lnTo>
                  <a:lnTo>
                    <a:pt x="131" y="483"/>
                  </a:lnTo>
                  <a:lnTo>
                    <a:pt x="121" y="510"/>
                  </a:lnTo>
                  <a:lnTo>
                    <a:pt x="109" y="521"/>
                  </a:lnTo>
                  <a:lnTo>
                    <a:pt x="88" y="525"/>
                  </a:lnTo>
                  <a:lnTo>
                    <a:pt x="71" y="509"/>
                  </a:lnTo>
                  <a:lnTo>
                    <a:pt x="62" y="485"/>
                  </a:lnTo>
                  <a:lnTo>
                    <a:pt x="55" y="453"/>
                  </a:lnTo>
                  <a:lnTo>
                    <a:pt x="0" y="105"/>
                  </a:lnTo>
                </a:path>
              </a:pathLst>
            </a:custGeom>
            <a:noFill/>
            <a:ln w="93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0800000">
              <a:off x="1380960" y="2905200"/>
              <a:ext cx="144360" cy="277920"/>
            </a:xfrm>
            <a:custGeom>
              <a:avLst/>
              <a:gdLst/>
              <a:ahLst/>
              <a:rect l="l" t="t" r="r" b="b"/>
              <a:pathLst>
                <a:path w="541" h="525">
                  <a:moveTo>
                    <a:pt x="541" y="250"/>
                  </a:moveTo>
                  <a:lnTo>
                    <a:pt x="534" y="205"/>
                  </a:lnTo>
                  <a:lnTo>
                    <a:pt x="524" y="161"/>
                  </a:lnTo>
                  <a:lnTo>
                    <a:pt x="516" y="128"/>
                  </a:lnTo>
                  <a:lnTo>
                    <a:pt x="505" y="113"/>
                  </a:lnTo>
                  <a:lnTo>
                    <a:pt x="490" y="102"/>
                  </a:lnTo>
                  <a:lnTo>
                    <a:pt x="477" y="101"/>
                  </a:lnTo>
                  <a:lnTo>
                    <a:pt x="459" y="105"/>
                  </a:lnTo>
                  <a:lnTo>
                    <a:pt x="446" y="119"/>
                  </a:lnTo>
                  <a:lnTo>
                    <a:pt x="438" y="137"/>
                  </a:lnTo>
                  <a:lnTo>
                    <a:pt x="431" y="162"/>
                  </a:lnTo>
                  <a:lnTo>
                    <a:pt x="403" y="325"/>
                  </a:lnTo>
                  <a:lnTo>
                    <a:pt x="396" y="350"/>
                  </a:lnTo>
                  <a:lnTo>
                    <a:pt x="390" y="366"/>
                  </a:lnTo>
                  <a:lnTo>
                    <a:pt x="374" y="378"/>
                  </a:lnTo>
                  <a:lnTo>
                    <a:pt x="357" y="379"/>
                  </a:lnTo>
                  <a:lnTo>
                    <a:pt x="342" y="371"/>
                  </a:lnTo>
                  <a:lnTo>
                    <a:pt x="335" y="352"/>
                  </a:lnTo>
                  <a:lnTo>
                    <a:pt x="327" y="325"/>
                  </a:lnTo>
                  <a:lnTo>
                    <a:pt x="289" y="86"/>
                  </a:lnTo>
                  <a:lnTo>
                    <a:pt x="282" y="51"/>
                  </a:lnTo>
                  <a:lnTo>
                    <a:pt x="275" y="28"/>
                  </a:lnTo>
                  <a:lnTo>
                    <a:pt x="266" y="12"/>
                  </a:lnTo>
                  <a:lnTo>
                    <a:pt x="255" y="4"/>
                  </a:lnTo>
                  <a:lnTo>
                    <a:pt x="238" y="0"/>
                  </a:lnTo>
                  <a:lnTo>
                    <a:pt x="220" y="5"/>
                  </a:lnTo>
                  <a:lnTo>
                    <a:pt x="206" y="25"/>
                  </a:lnTo>
                  <a:lnTo>
                    <a:pt x="200" y="43"/>
                  </a:lnTo>
                  <a:lnTo>
                    <a:pt x="196" y="67"/>
                  </a:lnTo>
                  <a:lnTo>
                    <a:pt x="138" y="451"/>
                  </a:lnTo>
                  <a:lnTo>
                    <a:pt x="131" y="483"/>
                  </a:lnTo>
                  <a:lnTo>
                    <a:pt x="121" y="510"/>
                  </a:lnTo>
                  <a:lnTo>
                    <a:pt x="109" y="521"/>
                  </a:lnTo>
                  <a:lnTo>
                    <a:pt x="88" y="525"/>
                  </a:lnTo>
                  <a:lnTo>
                    <a:pt x="71" y="509"/>
                  </a:lnTo>
                  <a:lnTo>
                    <a:pt x="62" y="485"/>
                  </a:lnTo>
                  <a:lnTo>
                    <a:pt x="55" y="453"/>
                  </a:lnTo>
                  <a:lnTo>
                    <a:pt x="0" y="105"/>
                  </a:lnTo>
                </a:path>
              </a:pathLst>
            </a:custGeom>
            <a:noFill/>
            <a:ln w="9360">
              <a:solidFill>
                <a:srgbClr val="ff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66840" y="2576520"/>
            <a:ext cx="595440" cy="9334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04920"/>
            <a:ext cx="9906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dio-Watermarking mit Wahrnehmungsverdeck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 Zeit- und Frequenzbereich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60800" y="3086280"/>
            <a:ext cx="479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-5760" y="6321600"/>
            <a:ext cx="264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Lehrstuhl Kommunikationsnetze, RWTH A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rof. Dr.-Ing. B. Wa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Kopernikusstr. 16, 52074 A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248520"/>
            <a:ext cx="9906120" cy="75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371600"/>
            <a:ext cx="9906120" cy="76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04920"/>
            <a:ext cx="9906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dio-Watermarking mit Wahrnehmungsverdeck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 Zeit- und Frequenzbereich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60840" y="6324480"/>
            <a:ext cx="535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3: Sicherungssystem zum Schutz von Urheberrechten an Teach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4200" y="6583320"/>
            <a:ext cx="321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ETTE Projekttreffen, Mannheim, 22.01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specthres" descr=""/>
          <p:cNvPicPr/>
          <p:nvPr/>
        </p:nvPicPr>
        <p:blipFill>
          <a:blip r:embed="rId1"/>
          <a:stretch/>
        </p:blipFill>
        <p:spPr>
          <a:xfrm>
            <a:off x="1546200" y="1598760"/>
            <a:ext cx="631836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-5760" y="6321600"/>
            <a:ext cx="264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Lehrstuhl Kommunikationsnetze, RWTH A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rof. Dr.-Ing. B. Wa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Kopernikusstr. 16, 52074 A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6248520"/>
            <a:ext cx="9906120" cy="75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1371600"/>
            <a:ext cx="9906120" cy="76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04920"/>
            <a:ext cx="9906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dio-Watermarking mit Wahrnehmungsverdeck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 Zeit- und Frequenzbereich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60840" y="6324480"/>
            <a:ext cx="535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3: Sicherungssystem zum Schutz von Urheberrechten an Teach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94200" y="6583320"/>
            <a:ext cx="321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ETTE Projekttreffen, Mannheim, 22.01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sample" descr=""/>
          <p:cNvPicPr/>
          <p:nvPr/>
        </p:nvPicPr>
        <p:blipFill>
          <a:blip r:embed="rId1"/>
          <a:stretch/>
        </p:blipFill>
        <p:spPr>
          <a:xfrm>
            <a:off x="1612800" y="1587600"/>
            <a:ext cx="63882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-5760" y="6321600"/>
            <a:ext cx="264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Lehrstuhl Kommunikationsnetze, RWTH A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rof. Dr.-Ing. B. Wa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Kopernikusstr. 16, 52074 A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248520"/>
            <a:ext cx="9906120" cy="75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1371600"/>
            <a:ext cx="9906120" cy="76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04920"/>
            <a:ext cx="9906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paket 4 (4 Monate/6 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urf und Implementierung der Watermarking-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60840" y="6324480"/>
            <a:ext cx="535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3: Sicherungssystem zum Schutz von Urheberrechten an Teach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94200" y="6583320"/>
            <a:ext cx="321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ETTE Projekttreffen, Mannheim, 22.01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469880"/>
            <a:ext cx="9906120" cy="39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lementierung des Audio-Watermarking Algorithmus (Einbettung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M-Audio (WAV) 44.1 kHz, 16 bit, m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dauer: 112 s für eine 10 s Audio-Sequenz (PII 266 MM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blic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ntwicklung des Audio-Watermarking-Moduls (32 kHz, 48 kHz, stereo, Erkennungsprozess, u.a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se von Video-Watermarking Algorith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ementierung des ausgewählten Video-Watermarking Algorithm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führung von Versuchen zur Manipulation bzw. Entfernung  des Wasserzeichens (für Audio und Vide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des Watermarking-Moduls in m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14:47:47Z</dcterms:created>
  <dc:creator>ian</dc:creator>
  <dc:description/>
  <dc:language>en-US</dc:language>
  <cp:lastModifiedBy>ian</cp:lastModifiedBy>
  <cp:lastPrinted>2001-01-21T20:07:17Z</cp:lastPrinted>
  <dcterms:modified xsi:type="dcterms:W3CDTF">2001-01-21T20:19:42Z</dcterms:modified>
  <cp:revision>19</cp:revision>
  <dc:subject/>
  <dc:title>Kein Folientitel</dc:title>
</cp:coreProperties>
</file>