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62F-0A4E-4F64-9CF8-13941BA7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149-ACF7-4C43-BB61-409F5E0C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8D0-86A3-4367-A7FA-E4F2A6F4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A88-FFCF-4E99-B278-2C8C0027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88A-5BD2-4C66-BB06-39B73D6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B1A-A48F-4B5F-A93D-1BD2027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257-0D91-43EB-9586-A611BA46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127-2A3A-47BD-A0D8-0B368E78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2C5-6AC2-4757-B84D-D72B067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9E9-D56B-4AD5-B3C3-3501A06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378-320E-4E6E-B5EE-476FDE67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D03-D1B5-49EC-8A9C-E39D18D0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8E4-3203-4A6D-95C0-E20910137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23880" y="1143000"/>
            <a:ext cx="504396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tatusbericht zum TP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ultimedia lectur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gust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ürgen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iversität Man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54640" y="30492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8/9: Aufzeichnung und Wieder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1355760"/>
            <a:ext cx="92012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ynchronisiertes Aufzeichn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lokal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Präsentationen per AOF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Audio und ml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ynchronisiertes Aufzeichne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verteilt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Präsentationen per IMoD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beliebige RTP- und RTP/I-Strö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560" y="30492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10: Erprobung neuer Lehrfo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1355760"/>
            <a:ext cx="9201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ar nich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89200" y="3049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11/12: Einsatz u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8560" y="1355760"/>
            <a:ext cx="92012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okales Szenario: 2 Vorlesungen in Freib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eldversuch A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satz im 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02800" y="30492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13: Zwischenberi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8560" y="1355760"/>
            <a:ext cx="9201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lich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6960" y="304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Offene 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8560" y="1355760"/>
            <a:ext cx="920124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llbild - Präsentations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äsentations-Ani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o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te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ent für Handh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7760" y="30492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Organisatoris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8560" y="914400"/>
            <a:ext cx="92012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bse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gramme und Benutzer-Anl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ww.informatik.uni-mannheim.de/informatik/pi4/projects/mlb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jektmit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abriela Maass (Uni Freiburg) zum 31.06. ausgeschi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rius Kurtinaitis (Uni Mannheim) zum 01.06. ein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lb Source-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röffentlichung unter G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bl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M MM 2001 “Consistency Control for Distributed Interactiv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d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6880" y="30492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Ei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8560" y="1219320"/>
            <a:ext cx="92012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S 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2 (lokale) Vorlesungen Uni Freibur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ometrische Algorithme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allel Algorithms and Applications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S 01/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leseminar „Ubiquitous Computing“ (MA, FR, 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rlesung „Distributed Systems“ von Prof. Leue (F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7040" y="30492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Über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680" y="1508040"/>
            <a:ext cx="93898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 der 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ene Pun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satoris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87800" y="196524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87800" y="287964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87800" y="379404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5640" y="30492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Verdana"/>
              </a:rPr>
              <a:t>AP 1: mlb für Linux und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8560" y="1355760"/>
            <a:ext cx="920124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e Version 0.7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ditieren von graphischen Objek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portieren, Speichern und Laden von Dokum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okales Rekorden von mlb und Audio (A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munikation mit RTP/I und S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llaborative Dienste (Telepointer, Feedback, Melden, C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6960" y="30492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2: Integration von Audio und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8560" y="1355760"/>
            <a:ext cx="9201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decs (Hardware oder Software) nach wie vor ex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7400" y="304920"/>
            <a:ext cx="75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3: Trennung von Dozenten- und Studentensich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8560" y="1355760"/>
            <a:ext cx="92012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stützung verschiedener Lehrszena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sten verschiedener Eingabegerä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stützung kollaborativer Gruppenarb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mart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acom-Tabl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79840" y="30492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4: Medienerweiterung (diskre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8560" y="1355760"/>
            <a:ext cx="92012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rekter Import zahlreicher Grafik- und Dokumentenformate (GIF,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PG, PS, PDF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port anderer Formate über die obigen (z.B. HTML als 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0080" y="30492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5: Medienerweiterung (kontinuierlich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8560" y="1355760"/>
            <a:ext cx="92012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sätzliche Übertragung von Strömen mit hoher Bandbreit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blemat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ynchrones Starten von zusätzlichen Anwendungen (Movie-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layer, Animationen): Application-Launch-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06760" y="30492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6: Präsentationsani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8560" y="1355760"/>
            <a:ext cx="9201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Arb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0440" y="30492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AP 7: Private Arbeitsbere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8560" y="1355760"/>
            <a:ext cx="92012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 Gruppen-Arbeitsbereich („Shared Document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hrere private Arbeitsbereiche („Private Document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erachische Dokumenten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nsfer zwischen Arbeitsber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chsel des Gruppen-Arbeitsbereichs jederzei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760" y="6431040"/>
            <a:ext cx="97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ürgen Vogel, Universität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07:43:44Z</dcterms:created>
  <dc:creator>Jürgen Vogel</dc:creator>
  <dc:description/>
  <dc:language>en-US</dc:language>
  <cp:lastModifiedBy>Praktische Informatik IV</cp:lastModifiedBy>
  <dcterms:modified xsi:type="dcterms:W3CDTF">2001-08-13T14:11:26Z</dcterms:modified>
  <cp:revision>7</cp:revision>
  <dc:subject/>
  <dc:title>Technik-Meeting August 2001</dc:title>
</cp:coreProperties>
</file>