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03A-0CAB-4181-B7BF-6A4921D2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6B5-83D0-4357-8DF2-06839132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93F-F85A-4101-993D-47F7E127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74BF-67F7-4E0A-B063-9BADFFCD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6ECE-DC68-48B3-BFF2-65647097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370A-5EA7-494B-993D-EFA372C8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356-A64D-4A54-B916-3733B335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DAF-5E0E-48DA-BFAB-597535C3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0EEA-AE0C-4A18-B981-0F2643CC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1A5-D5A4-4459-A3D0-301EE49B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B12-25AA-4CAD-AEBB-E513D7ED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02F5-4A69-4A67-9918-7049751C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2D57-517D-4A9F-BF53-A1C7119D1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143000"/>
            <a:ext cx="914400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bericht zum Teilprojekt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media lecture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uar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abriela Maass, Universität Frei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Jürgen Vogel, Universität Man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30040" y="187200"/>
            <a:ext cx="540000" cy="6478560"/>
          </a:xfrm>
          <a:prstGeom prst="rect">
            <a:avLst/>
          </a:prstGeom>
          <a:gradFill rotWithShape="0">
            <a:gsLst>
              <a:gs pos="0">
                <a:srgbClr val="9aa9f4"/>
              </a:gs>
              <a:gs pos="100000">
                <a:srgbClr val="11258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-2755440" y="32187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ultimedia lectur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95480" y="608040"/>
            <a:ext cx="7735680" cy="0"/>
          </a:xfrm>
          <a:prstGeom prst="line">
            <a:avLst/>
          </a:prstGeom>
          <a:ln w="633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76400" y="152280"/>
            <a:ext cx="769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rbeitspakete 8/9: Recor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93680" y="6400800"/>
            <a:ext cx="7736040" cy="0"/>
          </a:xfrm>
          <a:prstGeom prst="line">
            <a:avLst/>
          </a:prstGeom>
          <a:ln w="255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6324480"/>
            <a:ext cx="7697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Jürgen Vogel   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98720" y="866880"/>
            <a:ext cx="773100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fga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es Recording von mlb, Audio und Video mit wahlfreiem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ugriff beim Abspiel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 der Arbe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30040" y="187200"/>
            <a:ext cx="540000" cy="6478560"/>
          </a:xfrm>
          <a:prstGeom prst="rect">
            <a:avLst/>
          </a:prstGeom>
          <a:gradFill rotWithShape="0">
            <a:gsLst>
              <a:gs pos="0">
                <a:srgbClr val="9aa9f4"/>
              </a:gs>
              <a:gs pos="100000">
                <a:srgbClr val="11258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-2755440" y="32187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ultimedia lectur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95480" y="608040"/>
            <a:ext cx="7735680" cy="0"/>
          </a:xfrm>
          <a:prstGeom prst="line">
            <a:avLst/>
          </a:prstGeom>
          <a:ln w="633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76400" y="152280"/>
            <a:ext cx="769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nstige Arbeiten: Netzwerkschnittstelle (1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93680" y="6400800"/>
            <a:ext cx="7736040" cy="0"/>
          </a:xfrm>
          <a:prstGeom prst="line">
            <a:avLst/>
          </a:prstGeom>
          <a:ln w="255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6324480"/>
            <a:ext cx="7697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Jürgen Vogel   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1600200"/>
            <a:ext cx="2971800" cy="76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2362320"/>
            <a:ext cx="2971800" cy="761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3276720"/>
            <a:ext cx="2971800" cy="761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4191120"/>
            <a:ext cx="2971800" cy="761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17524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b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2514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P/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429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3434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DP /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30040" y="187200"/>
            <a:ext cx="540000" cy="6478560"/>
          </a:xfrm>
          <a:prstGeom prst="rect">
            <a:avLst/>
          </a:prstGeom>
          <a:gradFill rotWithShape="0">
            <a:gsLst>
              <a:gs pos="0">
                <a:srgbClr val="9aa9f4"/>
              </a:gs>
              <a:gs pos="100000">
                <a:srgbClr val="11258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-2755440" y="32187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ultimedia lectur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95480" y="608040"/>
            <a:ext cx="7735680" cy="0"/>
          </a:xfrm>
          <a:prstGeom prst="line">
            <a:avLst/>
          </a:prstGeom>
          <a:ln w="633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76400" y="152280"/>
            <a:ext cx="769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zwerkschnittstelle (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98720" y="914400"/>
            <a:ext cx="7731000" cy="24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uverlässiger Multicast-Transportdienst (Paketverluste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ihenfolgeerhaltun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genständiger Prozess (Transparen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dows / 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3680" y="6400800"/>
            <a:ext cx="7736040" cy="0"/>
          </a:xfrm>
          <a:prstGeom prst="line">
            <a:avLst/>
          </a:prstGeom>
          <a:ln w="255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6324480"/>
            <a:ext cx="7697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Jürgen Vogel   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08080" y="3181320"/>
            <a:ext cx="7731000" cy="39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P/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wendungsprotokoll für verteilte interaktive Med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gemeingültiges Medienmodell ermöglicht standardisiert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Übertragung und Entwicklung von generischen Dien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iert in Java und C++ (Windows / Un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ische Dienste: Late Join, Recording, Security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30040" y="187200"/>
            <a:ext cx="540000" cy="6478560"/>
          </a:xfrm>
          <a:prstGeom prst="rect">
            <a:avLst/>
          </a:prstGeom>
          <a:gradFill rotWithShape="0">
            <a:gsLst>
              <a:gs pos="0">
                <a:srgbClr val="9aa9f4"/>
              </a:gs>
              <a:gs pos="100000">
                <a:srgbClr val="11258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-2755440" y="32187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ultimedia lectur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95480" y="608040"/>
            <a:ext cx="7735680" cy="0"/>
          </a:xfrm>
          <a:prstGeom prst="line">
            <a:avLst/>
          </a:prstGeom>
          <a:ln w="633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76400" y="152280"/>
            <a:ext cx="769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zwerkschnittstelle (3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98720" y="1098720"/>
            <a:ext cx="77310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b-Protok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2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isierung eines allgemeinen Whiteboard-Protokoll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geplant: Internet-Dra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2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llständig implementiert (auf Basis der RTP/I-C++-Bibliothe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2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genständige RTP/I-Sitzungen: Telepointer, Hand Raising Tool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t, ... (standardisie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93680" y="6400800"/>
            <a:ext cx="7736040" cy="0"/>
          </a:xfrm>
          <a:prstGeom prst="line">
            <a:avLst/>
          </a:prstGeom>
          <a:ln w="255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6324480"/>
            <a:ext cx="7697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Jürgen Vogel   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30040" y="187200"/>
            <a:ext cx="540000" cy="6478560"/>
          </a:xfrm>
          <a:prstGeom prst="rect">
            <a:avLst/>
          </a:prstGeom>
          <a:gradFill rotWithShape="0">
            <a:gsLst>
              <a:gs pos="0">
                <a:srgbClr val="9aa9f4"/>
              </a:gs>
              <a:gs pos="100000">
                <a:srgbClr val="11258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-2755440" y="32187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ultimedia lectur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95480" y="608040"/>
            <a:ext cx="7735680" cy="0"/>
          </a:xfrm>
          <a:prstGeom prst="line">
            <a:avLst/>
          </a:prstGeom>
          <a:ln w="633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76400" y="152280"/>
            <a:ext cx="769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onstige Arbeiten: Konsistenzerh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93680" y="6400800"/>
            <a:ext cx="7736040" cy="0"/>
          </a:xfrm>
          <a:prstGeom prst="line">
            <a:avLst/>
          </a:prstGeom>
          <a:ln w="255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6324480"/>
            <a:ext cx="7697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Jürgen Vogel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743200" y="1371600"/>
            <a:ext cx="1981080" cy="1371600"/>
            <a:chOff x="2743200" y="1371600"/>
            <a:chExt cx="1981080" cy="1371600"/>
          </a:xfrm>
        </p:grpSpPr>
        <p:sp>
          <p:nvSpPr>
            <p:cNvPr id="141" name=""/>
            <p:cNvSpPr/>
            <p:nvPr/>
          </p:nvSpPr>
          <p:spPr>
            <a:xfrm>
              <a:off x="3124080" y="14479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67080" y="14479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24080" y="1523880"/>
              <a:ext cx="1143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123720" y="182880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1371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3200" y="22096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1600200"/>
              <a:ext cx="6094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098720" y="838080"/>
            <a:ext cx="7731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ion: replizierte Datenh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08080" y="2787480"/>
            <a:ext cx="7731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sistenzerhaltung ist Voraussetzung für Group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98720" y="3657600"/>
            <a:ext cx="773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sistenzerh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zip: globale Ordnung auf allen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auer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verge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usality Preserv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ten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öglichkeiten: pessimistische (Locking, Floor Control, Token,...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 optimistische Verfahren (Operational Transformation, State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s, Local Lag, Timewarp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30040" y="187200"/>
            <a:ext cx="540000" cy="6478560"/>
          </a:xfrm>
          <a:prstGeom prst="rect">
            <a:avLst/>
          </a:prstGeom>
          <a:gradFill rotWithShape="0">
            <a:gsLst>
              <a:gs pos="0">
                <a:srgbClr val="9aa9f4"/>
              </a:gs>
              <a:gs pos="100000">
                <a:srgbClr val="11258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-2755440" y="32187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ultimedia lectur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95480" y="608040"/>
            <a:ext cx="7735680" cy="0"/>
          </a:xfrm>
          <a:prstGeom prst="line">
            <a:avLst/>
          </a:prstGeom>
          <a:ln w="633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6400" y="152280"/>
            <a:ext cx="769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93680" y="6400800"/>
            <a:ext cx="7736040" cy="0"/>
          </a:xfrm>
          <a:prstGeom prst="line">
            <a:avLst/>
          </a:prstGeom>
          <a:ln w="255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6324480"/>
            <a:ext cx="7697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Jürgen Vogel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8720" y="1098720"/>
            <a:ext cx="773100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mpon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2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P/I-ID-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2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2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143000"/>
            <a:ext cx="914400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 Arbeiten der letzten 6 Monate in Freibur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30040" y="187200"/>
            <a:ext cx="540000" cy="6478560"/>
          </a:xfrm>
          <a:prstGeom prst="rect">
            <a:avLst/>
          </a:prstGeom>
          <a:gradFill rotWithShape="0">
            <a:gsLst>
              <a:gs pos="0">
                <a:srgbClr val="9aa9f4"/>
              </a:gs>
              <a:gs pos="100000">
                <a:srgbClr val="11258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2755440" y="32187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ultimedia lectur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95480" y="608040"/>
            <a:ext cx="7735680" cy="0"/>
          </a:xfrm>
          <a:prstGeom prst="line">
            <a:avLst/>
          </a:prstGeom>
          <a:ln w="633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6400" y="152280"/>
            <a:ext cx="769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93680" y="6400800"/>
            <a:ext cx="7736040" cy="0"/>
          </a:xfrm>
          <a:prstGeom prst="line">
            <a:avLst/>
          </a:prstGeom>
          <a:ln w="255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6324480"/>
            <a:ext cx="7697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Gabriela Maass   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 Universität Frei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98720" y="1212840"/>
            <a:ext cx="773100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peichern der mlb-Seiten als PostScript-Dok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zeugen von Sei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reiben der grafischen Objekte (Platzieren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reiben von Text (entsprechenden Font wähl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ichern der Bilder (Landscape, Portra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30040" y="187200"/>
            <a:ext cx="540000" cy="6478560"/>
          </a:xfrm>
          <a:prstGeom prst="rect">
            <a:avLst/>
          </a:prstGeom>
          <a:gradFill rotWithShape="0">
            <a:gsLst>
              <a:gs pos="0">
                <a:srgbClr val="9aa9f4"/>
              </a:gs>
              <a:gs pos="100000">
                <a:srgbClr val="11258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-2755440" y="32187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ultimedia lectur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95480" y="608040"/>
            <a:ext cx="7735680" cy="0"/>
          </a:xfrm>
          <a:prstGeom prst="line">
            <a:avLst/>
          </a:prstGeom>
          <a:ln w="633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76400" y="152280"/>
            <a:ext cx="769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nbinden von Bilder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93680" y="6400800"/>
            <a:ext cx="7736040" cy="0"/>
          </a:xfrm>
          <a:prstGeom prst="line">
            <a:avLst/>
          </a:prstGeom>
          <a:ln w="255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6324480"/>
            <a:ext cx="7697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Gabriela Maass   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 Universität Frei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8720" y="1212840"/>
            <a:ext cx="7731000" cy="30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nzelbi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nze Dokumente (PostScript, P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ess-Di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peichern der Bilder im mlb-Dok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sblick: Implemenmtierung und Erprobung des von Rainer Mülller entwickelten Aufzeichnungsformats zur effizienten Speicherung der Da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30040" y="187200"/>
            <a:ext cx="540000" cy="6478560"/>
          </a:xfrm>
          <a:prstGeom prst="rect">
            <a:avLst/>
          </a:prstGeom>
          <a:gradFill rotWithShape="0">
            <a:gsLst>
              <a:gs pos="0">
                <a:srgbClr val="9aa9f4"/>
              </a:gs>
              <a:gs pos="100000">
                <a:srgbClr val="11258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-2755440" y="32187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ultimedia lectur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95480" y="608040"/>
            <a:ext cx="7735680" cy="0"/>
          </a:xfrm>
          <a:prstGeom prst="line">
            <a:avLst/>
          </a:prstGeom>
          <a:ln w="633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76400" y="152280"/>
            <a:ext cx="769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usätzliche Funktione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93680" y="6400800"/>
            <a:ext cx="7736040" cy="0"/>
          </a:xfrm>
          <a:prstGeom prst="line">
            <a:avLst/>
          </a:prstGeom>
          <a:ln w="255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6324480"/>
            <a:ext cx="7697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Gabriela Maass   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 Universität Frei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98720" y="1212840"/>
            <a:ext cx="773100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pieren von Objek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itenhintergrundfarbe set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30040" y="187200"/>
            <a:ext cx="540000" cy="6478560"/>
          </a:xfrm>
          <a:prstGeom prst="rect">
            <a:avLst/>
          </a:prstGeom>
          <a:gradFill rotWithShape="0">
            <a:gsLst>
              <a:gs pos="0">
                <a:srgbClr val="9aa9f4"/>
              </a:gs>
              <a:gs pos="100000">
                <a:srgbClr val="11258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-2755440" y="32187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ultimedia lectur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5480" y="608040"/>
            <a:ext cx="7735680" cy="0"/>
          </a:xfrm>
          <a:prstGeom prst="line">
            <a:avLst/>
          </a:prstGeom>
          <a:ln w="633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76400" y="152280"/>
            <a:ext cx="769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iederu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93680" y="6400800"/>
            <a:ext cx="7736040" cy="0"/>
          </a:xfrm>
          <a:prstGeom prst="line">
            <a:avLst/>
          </a:prstGeom>
          <a:ln w="255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6324480"/>
            <a:ext cx="7697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Jürgen Vogel   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98720" y="1212840"/>
            <a:ext cx="7731000" cy="24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fortschritte laut Arbeits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nstige Arb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sb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30040" y="187200"/>
            <a:ext cx="540000" cy="6478560"/>
          </a:xfrm>
          <a:prstGeom prst="rect">
            <a:avLst/>
          </a:prstGeom>
          <a:gradFill rotWithShape="0">
            <a:gsLst>
              <a:gs pos="0">
                <a:srgbClr val="9aa9f4"/>
              </a:gs>
              <a:gs pos="100000">
                <a:srgbClr val="11258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-2755440" y="32187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ultimedia lectur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95480" y="608040"/>
            <a:ext cx="7735680" cy="0"/>
          </a:xfrm>
          <a:prstGeom prst="line">
            <a:avLst/>
          </a:prstGeom>
          <a:ln w="633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76400" y="152280"/>
            <a:ext cx="769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fnah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93680" y="6400800"/>
            <a:ext cx="7736040" cy="0"/>
          </a:xfrm>
          <a:prstGeom prst="line">
            <a:avLst/>
          </a:prstGeom>
          <a:ln w="255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6324480"/>
            <a:ext cx="7697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Gabriela Maass   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 Universität Frei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98720" y="1212840"/>
            <a:ext cx="7731000" cy="27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ieren der Audio-Aufnahme unter Window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nbinden der Audio-Aufnahme in das ml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peichern der mlb-Events im AOF-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matisches Erstellen von html-Seiten nach Beendigung der Aufnah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peichern der Folien als g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30040" y="187200"/>
            <a:ext cx="540000" cy="6478560"/>
          </a:xfrm>
          <a:prstGeom prst="rect">
            <a:avLst/>
          </a:prstGeom>
          <a:gradFill rotWithShape="0">
            <a:gsLst>
              <a:gs pos="0">
                <a:srgbClr val="9aa9f4"/>
              </a:gs>
              <a:gs pos="100000">
                <a:srgbClr val="11258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-2755440" y="32187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ultimedia lectur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95480" y="608040"/>
            <a:ext cx="7735680" cy="0"/>
          </a:xfrm>
          <a:prstGeom prst="line">
            <a:avLst/>
          </a:prstGeom>
          <a:ln w="633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76400" y="152280"/>
            <a:ext cx="769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/ Teste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93680" y="6400800"/>
            <a:ext cx="7736040" cy="0"/>
          </a:xfrm>
          <a:prstGeom prst="line">
            <a:avLst/>
          </a:prstGeom>
          <a:ln w="255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6324480"/>
            <a:ext cx="7697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Gabriela Maass   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 Universität Frei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98720" y="1212840"/>
            <a:ext cx="773100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ste Tests durch Mitglieder der MM-Gruppe in Freib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ster geplanter Einsatz im Febr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30040" y="187200"/>
            <a:ext cx="540000" cy="6478560"/>
          </a:xfrm>
          <a:prstGeom prst="rect">
            <a:avLst/>
          </a:prstGeom>
          <a:gradFill rotWithShape="0">
            <a:gsLst>
              <a:gs pos="0">
                <a:srgbClr val="9aa9f4"/>
              </a:gs>
              <a:gs pos="100000">
                <a:srgbClr val="11258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-2755440" y="32187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ultimedia lectur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95480" y="608040"/>
            <a:ext cx="7735680" cy="0"/>
          </a:xfrm>
          <a:prstGeom prst="line">
            <a:avLst/>
          </a:prstGeom>
          <a:ln w="633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76400" y="152280"/>
            <a:ext cx="769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treami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93680" y="6400800"/>
            <a:ext cx="7736040" cy="0"/>
          </a:xfrm>
          <a:prstGeom prst="line">
            <a:avLst/>
          </a:prstGeom>
          <a:ln w="255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6324480"/>
            <a:ext cx="7697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Gabriela Maass   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 Universität Frei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98720" y="1212840"/>
            <a:ext cx="773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ersuchung des Flash-Formates auf seine Tauglichkeit zur Wiedergabe von AOF-Dokumenten über das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uche AOF-Aufzeichnungen automatisch in Flash-Dateien umzuwande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uche mit RealAudio und SM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30040" y="187200"/>
            <a:ext cx="540000" cy="6478560"/>
          </a:xfrm>
          <a:prstGeom prst="rect">
            <a:avLst/>
          </a:prstGeom>
          <a:gradFill rotWithShape="0">
            <a:gsLst>
              <a:gs pos="0">
                <a:srgbClr val="9aa9f4"/>
              </a:gs>
              <a:gs pos="100000">
                <a:srgbClr val="11258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-2755440" y="32187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ultimedia lectur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5480" y="608040"/>
            <a:ext cx="7735680" cy="0"/>
          </a:xfrm>
          <a:prstGeom prst="line">
            <a:avLst/>
          </a:prstGeom>
          <a:ln w="633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76400" y="152280"/>
            <a:ext cx="769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sb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93680" y="6400800"/>
            <a:ext cx="7736040" cy="0"/>
          </a:xfrm>
          <a:prstGeom prst="line">
            <a:avLst/>
          </a:prstGeom>
          <a:ln w="255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6324480"/>
            <a:ext cx="7697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Jürgen Vogel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98720" y="914400"/>
            <a:ext cx="7731000" cy="56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sistenzerh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ion des Late Join-Diens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ine Feedback und Vo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äsentationsanim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Drafts für RTP/I und Protokolle (mlb, Hand Raising Too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t, Telepointer, Voting, Online Feedb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ease 1 (Debugging, GUI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nsatz im SS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0040" y="187200"/>
            <a:ext cx="540000" cy="6478560"/>
          </a:xfrm>
          <a:prstGeom prst="rect">
            <a:avLst/>
          </a:prstGeom>
          <a:gradFill rotWithShape="0">
            <a:gsLst>
              <a:gs pos="0">
                <a:srgbClr val="9aa9f4"/>
              </a:gs>
              <a:gs pos="100000">
                <a:srgbClr val="11258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2755440" y="32187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ultimedia lectur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95480" y="608040"/>
            <a:ext cx="7735680" cy="0"/>
          </a:xfrm>
          <a:prstGeom prst="line">
            <a:avLst/>
          </a:prstGeom>
          <a:ln w="633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76400" y="152280"/>
            <a:ext cx="769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beitspakete - Übersich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3680" y="6400800"/>
            <a:ext cx="7736040" cy="0"/>
          </a:xfrm>
          <a:prstGeom prst="line">
            <a:avLst/>
          </a:prstGeom>
          <a:ln w="255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6324480"/>
            <a:ext cx="7697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Jürgen Vogel   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8720" y="866880"/>
            <a:ext cx="7731000" cy="57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ion von dlb und AOFwb zum multimedia lecture board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Windows und Un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ion von Audio und 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zenten und Studentens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/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enerweiterung (HTML, Movie-Annotation, kont. Medi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äsentationsanim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vate Arbeitsbere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/9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ue Lehr- und Lernf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/1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/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0040" y="187200"/>
            <a:ext cx="540000" cy="6478560"/>
          </a:xfrm>
          <a:prstGeom prst="rect">
            <a:avLst/>
          </a:prstGeom>
          <a:gradFill rotWithShape="0">
            <a:gsLst>
              <a:gs pos="0">
                <a:srgbClr val="9aa9f4"/>
              </a:gs>
              <a:gs pos="100000">
                <a:srgbClr val="11258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2755440" y="32187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ultimedia lectur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95480" y="608040"/>
            <a:ext cx="7735680" cy="0"/>
          </a:xfrm>
          <a:prstGeom prst="line">
            <a:avLst/>
          </a:prstGeom>
          <a:ln w="633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76400" y="152280"/>
            <a:ext cx="769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rbeitspaket 1: mlb - Prototyp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93680" y="6400800"/>
            <a:ext cx="7736040" cy="0"/>
          </a:xfrm>
          <a:prstGeom prst="line">
            <a:avLst/>
          </a:prstGeom>
          <a:ln w="255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6324480"/>
            <a:ext cx="7697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Jürgen Vogel   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98720" y="866880"/>
            <a:ext cx="7731000" cy="51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fga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ion von dlb und AOFwb zum plattformunabhängigen mlb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klusive Überarbeit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 der Arbe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achische Dokumentenstruktur mit Seiten und Kapite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sche Objekte und Bi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xt mit TrueType-Fo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epointer, Hand Raising Tool, C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id / Sn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ichern und Laden von Dokum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zwerkschnittst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uffähiger Prototyp (De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30040" y="187200"/>
            <a:ext cx="540000" cy="6478560"/>
          </a:xfrm>
          <a:prstGeom prst="rect">
            <a:avLst/>
          </a:prstGeom>
          <a:gradFill rotWithShape="0">
            <a:gsLst>
              <a:gs pos="0">
                <a:srgbClr val="9aa9f4"/>
              </a:gs>
              <a:gs pos="100000">
                <a:srgbClr val="11258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-2755440" y="32187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ultimedia lectur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95480" y="608040"/>
            <a:ext cx="7735680" cy="0"/>
          </a:xfrm>
          <a:prstGeom prst="line">
            <a:avLst/>
          </a:prstGeom>
          <a:ln w="633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76400" y="152280"/>
            <a:ext cx="769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rbeitspaket 2: Integration von Audio und Video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93680" y="6400800"/>
            <a:ext cx="7736040" cy="0"/>
          </a:xfrm>
          <a:prstGeom prst="line">
            <a:avLst/>
          </a:prstGeom>
          <a:ln w="255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6324480"/>
            <a:ext cx="7697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Jürgen Vogel   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98720" y="866880"/>
            <a:ext cx="773100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fga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ion von Audio- und Videokommunikation (MBone-Too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 der Arbe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nd: Hardware-Codecs (z.B. VIR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gestrebt: Aufruf der MBone-Tools über die mlb-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0040" y="187200"/>
            <a:ext cx="540000" cy="6478560"/>
          </a:xfrm>
          <a:prstGeom prst="rect">
            <a:avLst/>
          </a:prstGeom>
          <a:gradFill rotWithShape="0">
            <a:gsLst>
              <a:gs pos="0">
                <a:srgbClr val="9aa9f4"/>
              </a:gs>
              <a:gs pos="100000">
                <a:srgbClr val="11258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-2755440" y="32187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ultimedia lectur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95480" y="608040"/>
            <a:ext cx="7735680" cy="0"/>
          </a:xfrm>
          <a:prstGeom prst="line">
            <a:avLst/>
          </a:prstGeom>
          <a:ln w="633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76400" y="152280"/>
            <a:ext cx="769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beitspaket 3: Trennung von Studenten- und Dozentensich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93680" y="6400800"/>
            <a:ext cx="7736040" cy="0"/>
          </a:xfrm>
          <a:prstGeom prst="line">
            <a:avLst/>
          </a:prstGeom>
          <a:ln w="255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6324480"/>
            <a:ext cx="7697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Jürgen Vogel   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98720" y="866880"/>
            <a:ext cx="7731000" cy="38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fga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erstützung von Telepräsentation und Telekooperation; Teste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chiedener Eingabemed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 der Arbe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rücksichtigung der Besonderheiten des SmartBoards (Nu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usklicks, keine Mausbewegungen; keine mittlere Maustas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mnächst: Erprobung eines Wacom-Tabletts mit LCD-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0040" y="187200"/>
            <a:ext cx="540000" cy="6478560"/>
          </a:xfrm>
          <a:prstGeom prst="rect">
            <a:avLst/>
          </a:prstGeom>
          <a:gradFill rotWithShape="0">
            <a:gsLst>
              <a:gs pos="0">
                <a:srgbClr val="9aa9f4"/>
              </a:gs>
              <a:gs pos="100000">
                <a:srgbClr val="11258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-2755440" y="32187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ultimedia lectur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95480" y="608040"/>
            <a:ext cx="7735680" cy="0"/>
          </a:xfrm>
          <a:prstGeom prst="line">
            <a:avLst/>
          </a:prstGeom>
          <a:ln w="633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76400" y="152280"/>
            <a:ext cx="769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beitspakete 4/5: Medienerweit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3680" y="6400800"/>
            <a:ext cx="7736040" cy="0"/>
          </a:xfrm>
          <a:prstGeom prst="line">
            <a:avLst/>
          </a:prstGeom>
          <a:ln w="255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6324480"/>
            <a:ext cx="7697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Jürgen Vogel   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98720" y="866880"/>
            <a:ext cx="773100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fga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ion von HTML und digitalem Audio und 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 der Arbe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ort von HTML-Seiten als Bil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0040" y="187200"/>
            <a:ext cx="540000" cy="6478560"/>
          </a:xfrm>
          <a:prstGeom prst="rect">
            <a:avLst/>
          </a:prstGeom>
          <a:gradFill rotWithShape="0">
            <a:gsLst>
              <a:gs pos="0">
                <a:srgbClr val="9aa9f4"/>
              </a:gs>
              <a:gs pos="100000">
                <a:srgbClr val="11258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-2755440" y="32187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ultimedia lectur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95480" y="608040"/>
            <a:ext cx="7735680" cy="0"/>
          </a:xfrm>
          <a:prstGeom prst="line">
            <a:avLst/>
          </a:prstGeom>
          <a:ln w="633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76400" y="152280"/>
            <a:ext cx="769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rbeitspaket 6: Präsentationsanim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93680" y="6400800"/>
            <a:ext cx="7736040" cy="0"/>
          </a:xfrm>
          <a:prstGeom prst="line">
            <a:avLst/>
          </a:prstGeom>
          <a:ln w="255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6324480"/>
            <a:ext cx="7697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Jürgen Vogel   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98720" y="866880"/>
            <a:ext cx="7731000" cy="24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fga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ion von einfachen Präsentationsanim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 der Arbe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imationen (Aufblenden von Objekten) sind in de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kumentenstruktur vorgesehen aber noch nicht integr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0040" y="187200"/>
            <a:ext cx="540000" cy="6478560"/>
          </a:xfrm>
          <a:prstGeom prst="rect">
            <a:avLst/>
          </a:prstGeom>
          <a:gradFill rotWithShape="0">
            <a:gsLst>
              <a:gs pos="0">
                <a:srgbClr val="9aa9f4"/>
              </a:gs>
              <a:gs pos="100000">
                <a:srgbClr val="11258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2755440" y="32187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ultimedia lectur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95480" y="608040"/>
            <a:ext cx="7735680" cy="0"/>
          </a:xfrm>
          <a:prstGeom prst="line">
            <a:avLst/>
          </a:prstGeom>
          <a:ln w="633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76400" y="152280"/>
            <a:ext cx="769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beitspaket 7: Private Arbeitsbere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93680" y="6400800"/>
            <a:ext cx="7736040" cy="0"/>
          </a:xfrm>
          <a:prstGeom prst="line">
            <a:avLst/>
          </a:prstGeom>
          <a:ln w="25560">
            <a:solidFill>
              <a:srgbClr val="1125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6324480"/>
            <a:ext cx="7697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7697880"/>
                <a:tab algn="r" pos="7715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Jürgen Vogel   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98720" y="866880"/>
            <a:ext cx="773100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fga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erstützung von Gruppenarb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 der Arbe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llel mehrere private Arbeitsbreiche und ein verteilter Arbeits-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re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chsel des verteilten Arbeitsbereichs jederzeit möglic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Gruppenarbeit mit mehreren verteilten Arbeitsbereich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9T10:37:44Z</dcterms:created>
  <dc:creator>Praktische Infoprmatik IV</dc:creator>
  <dc:description/>
  <dc:language>en-US</dc:language>
  <cp:lastModifiedBy>Praktische Informatik IV</cp:lastModifiedBy>
  <cp:lastPrinted>2001-01-18T16:14:44Z</cp:lastPrinted>
  <dcterms:modified xsi:type="dcterms:W3CDTF">2001-02-26T15:46:07Z</dcterms:modified>
  <cp:revision>65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Benutzer\jvogel\Dokumente\Papers\ISCC2000\foliensatz</vt:lpwstr>
  </property>
  <property fmtid="{D5CDD505-2E9C-101B-9397-08002B2CF9AE}" pid="14" name="ScreenSize">
    <vt:r8>3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