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jpeg" ContentType="image/jpeg"/>
  <Override PartName="/ppt/media/image15.png" ContentType="image/png"/>
  <Override PartName="/ppt/media/image55.wmf" ContentType="image/x-wmf"/>
  <Override PartName="/ppt/media/image16.png" ContentType="image/png"/>
  <Override PartName="/ppt/media/image14.png" ContentType="image/png"/>
  <Override PartName="/ppt/media/image10.jpeg" ContentType="image/jpeg"/>
  <Override PartName="/ppt/media/image54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50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5.png" ContentType="image/png"/>
  <Override PartName="/ppt/media/image35.png" ContentType="image/png"/>
  <Override PartName="/ppt/media/image46.wmf" ContentType="image/x-wmf"/>
  <Override PartName="/ppt/media/image47.wmf" ContentType="image/x-wmf"/>
  <Override PartName="/ppt/media/image38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081-B0F2-41CF-B33C-9E86B61F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Arial"/>
              </a:rPr>
              <a:t>Netzanbindung RWTH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stellung auf G-W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in B-WIN Anschluß mehr, d.h. ATM-PVCs können nicht terminiert werd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bleme mit der MBone-Anbindung über G-WIN wg. Fehler in der Router Software (cisco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Übertragung von MBone-Sessions nach Aachen nicht fehlerfre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Übertragung von Sessions aus Aachen in den MBone nicht mögli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Arial"/>
              </a:rPr>
              <a:t>Uni Mannheim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ine Anbindung vom VIROR-LAN an das G_WIN des DF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Überbrückungslösung: Anbindung Aachen Mannheim über Internet mit Hilfe des Reflekto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erhandlung mit DFN wegen ATM-PV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Arial"/>
              </a:rPr>
              <a:t>NEC Heidelber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bindung an G-W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mpfang und Senden in den MBone des DFN in guter Qualitä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st MBone-Traffic im ATM/ADSL Labor-Testb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65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2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76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2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76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763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65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8080"/>
            <a:ext cx="739152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Hintergr3" descr=""/>
          <p:cNvPicPr/>
          <p:nvPr/>
        </p:nvPicPr>
        <p:blipFill>
          <a:blip r:embed="rId2"/>
          <a:stretch/>
        </p:blipFill>
        <p:spPr>
          <a:xfrm>
            <a:off x="7437600" y="0"/>
            <a:ext cx="170640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9067680" y="1219320"/>
            <a:ext cx="76320" cy="5638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NETTE  -  Applications and Network Technology for Teleteach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EC Europe Ltd., CCRLE Heidel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wmf"/><Relationship Id="rId3" Type="http://schemas.openxmlformats.org/officeDocument/2006/relationships/image" Target="../media/image21.png"/><Relationship Id="rId4" Type="http://schemas.openxmlformats.org/officeDocument/2006/relationships/image" Target="../media/image27.wmf"/><Relationship Id="rId5" Type="http://schemas.openxmlformats.org/officeDocument/2006/relationships/image" Target="../media/image21.png"/><Relationship Id="rId6" Type="http://schemas.openxmlformats.org/officeDocument/2006/relationships/image" Target="../media/image27.wmf"/><Relationship Id="rId7" Type="http://schemas.openxmlformats.org/officeDocument/2006/relationships/image" Target="../media/image21.png"/><Relationship Id="rId8" Type="http://schemas.openxmlformats.org/officeDocument/2006/relationships/image" Target="../media/image27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8.png"/><Relationship Id="rId12" Type="http://schemas.openxmlformats.org/officeDocument/2006/relationships/image" Target="../media/image21.png"/><Relationship Id="rId13" Type="http://schemas.openxmlformats.org/officeDocument/2006/relationships/image" Target="../media/image27.wmf"/><Relationship Id="rId14" Type="http://schemas.openxmlformats.org/officeDocument/2006/relationships/image" Target="../media/image29.png"/><Relationship Id="rId15" Type="http://schemas.openxmlformats.org/officeDocument/2006/relationships/image" Target="../media/image27.wmf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wmf"/><Relationship Id="rId3" Type="http://schemas.openxmlformats.org/officeDocument/2006/relationships/image" Target="../media/image21.png"/><Relationship Id="rId4" Type="http://schemas.openxmlformats.org/officeDocument/2006/relationships/image" Target="../media/image27.wmf"/><Relationship Id="rId5" Type="http://schemas.openxmlformats.org/officeDocument/2006/relationships/image" Target="../media/image21.png"/><Relationship Id="rId6" Type="http://schemas.openxmlformats.org/officeDocument/2006/relationships/image" Target="../media/image27.wmf"/><Relationship Id="rId7" Type="http://schemas.openxmlformats.org/officeDocument/2006/relationships/image" Target="../media/image21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image" Target="../media/image21.png"/><Relationship Id="rId11" Type="http://schemas.openxmlformats.org/officeDocument/2006/relationships/image" Target="../media/image27.wmf"/><Relationship Id="rId12" Type="http://schemas.openxmlformats.org/officeDocument/2006/relationships/image" Target="../media/image29.png"/><Relationship Id="rId13" Type="http://schemas.openxmlformats.org/officeDocument/2006/relationships/image" Target="../media/image27.wmf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28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20.wmf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wmf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lewlogo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4633920" cy="29113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pic>
        <p:nvPicPr>
          <p:cNvPr id="50" name="telework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2728800" cy="1571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0"/>
            <a:ext cx="8458200" cy="238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FN-Projekt ANET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2. Halbjahresüberblic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TP1: „I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952880"/>
            <a:ext cx="8077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igitta L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C Europe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1520" y="3657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über ADS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388280" y="3048120"/>
            <a:ext cx="1577880" cy="11840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2  Aufbau Zugangsnetzinfra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752480"/>
            <a:ext cx="2819520" cy="464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7200" y="1752480"/>
            <a:ext cx="1218960" cy="388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486760" y="1828800"/>
            <a:ext cx="113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T OVSt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achen/Hö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4400" y="2514600"/>
            <a:ext cx="693720" cy="266688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19360" y="281952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720" y="259092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 S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51320" y="4267080"/>
            <a:ext cx="1066680" cy="1600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984480" y="3276360"/>
            <a:ext cx="0" cy="9903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20600" y="368784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 M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2360" y="4343400"/>
            <a:ext cx="994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rou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6200" y="182880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WTH 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438280" y="30481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057400" y="4692600"/>
            <a:ext cx="673200" cy="468360"/>
            <a:chOff x="2057400" y="4692600"/>
            <a:chExt cx="673200" cy="46836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057400" y="4692600"/>
              <a:ext cx="6732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303640" y="485928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2134440" y="3425760"/>
            <a:ext cx="561960" cy="5367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185200" y="3473280"/>
            <a:ext cx="460440" cy="439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213280" y="35053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438280" y="3962520"/>
            <a:ext cx="0" cy="730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2286000"/>
            <a:ext cx="1066680" cy="838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8840" y="2362320"/>
            <a:ext cx="102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742840" y="487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4267080"/>
            <a:ext cx="1523880" cy="106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73" name=""/>
          <p:cNvSpPr/>
          <p:nvPr/>
        </p:nvSpPr>
        <p:spPr>
          <a:xfrm>
            <a:off x="458640" y="464832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-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89480" y="5029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236000" y="1752480"/>
            <a:ext cx="1752120" cy="1218960"/>
            <a:chOff x="7236000" y="1752480"/>
            <a:chExt cx="1752120" cy="1218960"/>
          </a:xfrm>
        </p:grpSpPr>
        <p:sp>
          <p:nvSpPr>
            <p:cNvPr id="376" name=""/>
            <p:cNvSpPr/>
            <p:nvPr/>
          </p:nvSpPr>
          <p:spPr>
            <a:xfrm>
              <a:off x="7400520" y="2221200"/>
              <a:ext cx="1423440" cy="750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6000" y="1752480"/>
              <a:ext cx="1752120" cy="468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703920" y="24382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bluetwist" descr=""/>
          <p:cNvPicPr/>
          <p:nvPr/>
        </p:nvPicPr>
        <p:blipFill>
          <a:blip r:embed="rId4"/>
          <a:stretch/>
        </p:blipFill>
        <p:spPr>
          <a:xfrm>
            <a:off x="6550200" y="270684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454880" y="2666880"/>
            <a:ext cx="16200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74080" y="274320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3000" y="25909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telefon" descr=""/>
          <p:cNvPicPr/>
          <p:nvPr/>
        </p:nvPicPr>
        <p:blipFill>
          <a:blip r:embed="rId5"/>
          <a:stretch/>
        </p:blipFill>
        <p:spPr>
          <a:xfrm>
            <a:off x="7464600" y="2362320"/>
            <a:ext cx="222120" cy="1476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769160" y="2666880"/>
            <a:ext cx="38124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0560" y="2514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1688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22880" y="2286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4640" y="26668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21360" y="26668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236000" y="3962520"/>
            <a:ext cx="1752120" cy="1218600"/>
            <a:chOff x="7236000" y="3962520"/>
            <a:chExt cx="1752120" cy="1218600"/>
          </a:xfrm>
        </p:grpSpPr>
        <p:sp>
          <p:nvSpPr>
            <p:cNvPr id="391" name=""/>
            <p:cNvSpPr/>
            <p:nvPr/>
          </p:nvSpPr>
          <p:spPr>
            <a:xfrm>
              <a:off x="7400520" y="4431240"/>
              <a:ext cx="1423440" cy="7498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6000" y="3962520"/>
              <a:ext cx="1752120" cy="468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702480" y="4648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uetwist" descr=""/>
          <p:cNvPicPr/>
          <p:nvPr/>
        </p:nvPicPr>
        <p:blipFill>
          <a:blip r:embed="rId6"/>
          <a:stretch/>
        </p:blipFill>
        <p:spPr>
          <a:xfrm>
            <a:off x="6550200" y="49165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454880" y="4876920"/>
            <a:ext cx="16200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4080" y="495288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3000" y="480060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telefon" descr=""/>
          <p:cNvPicPr/>
          <p:nvPr/>
        </p:nvPicPr>
        <p:blipFill>
          <a:blip r:embed="rId7"/>
          <a:stretch/>
        </p:blipFill>
        <p:spPr>
          <a:xfrm>
            <a:off x="7464600" y="4572000"/>
            <a:ext cx="222120" cy="147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769160" y="4876920"/>
            <a:ext cx="38124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0560" y="4724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16880" y="4952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2880" y="4495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94640" y="487692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8120" y="48769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07400" y="3429000"/>
            <a:ext cx="0" cy="685800"/>
          </a:xfrm>
          <a:prstGeom prst="line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1360" y="4267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73480" y="304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23880" y="4876920"/>
            <a:ext cx="533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38880" y="586728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anette.rz.rwth-aache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37.226.38.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48160" y="525780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isco6509-r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37.226.38.2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17240" y="19051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ilneh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8379000" y="25146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8379000" y="472428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onu" descr=""/>
          <p:cNvPicPr/>
          <p:nvPr/>
        </p:nvPicPr>
        <p:blipFill>
          <a:blip r:embed="rId10"/>
          <a:stretch/>
        </p:blipFill>
        <p:spPr>
          <a:xfrm>
            <a:off x="4632480" y="3048120"/>
            <a:ext cx="1387440" cy="16160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937040" y="3110040"/>
            <a:ext cx="971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Optical Network Un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505320"/>
            <a:ext cx="606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ff00"/>
                </a:solidFill>
                <a:latin typeface="Arial"/>
              </a:rPr>
              <a:t>Dark F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40560" y="2819520"/>
            <a:ext cx="457200" cy="5331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845480" y="3580920"/>
            <a:ext cx="380880" cy="1295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562360" y="2819520"/>
            <a:ext cx="228600" cy="13716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866920" y="3809880"/>
            <a:ext cx="304920" cy="10670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27280" y="2514600"/>
            <a:ext cx="88920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 rot="10800000">
          <a:off x="3429000" y="1905120"/>
          <a:ext cx="144792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rot="10800000">
                    <a:off x="3429000" y="1905120"/>
                    <a:ext cx="1447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pc" descr=""/>
          <p:cNvPicPr/>
          <p:nvPr/>
        </p:nvPicPr>
        <p:blipFill>
          <a:blip r:embed="rId13"/>
          <a:stretch/>
        </p:blipFill>
        <p:spPr>
          <a:xfrm>
            <a:off x="4191120" y="4724280"/>
            <a:ext cx="1017360" cy="1409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34000" y="106668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ATM/ADSL Zugangsnetz mit NEC Netzwerkkompone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2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bau Zugangsnetzinfra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pril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llationsabschluß ATM/ADSL Zugangsnetzinfrastruktur für 15 Teilnehmeranschlüsse (davon 5 Wohnhe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ai - Septemb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WTH stellt auf Glasfaserbetrieb um, 3 Wohnheime werden aus dem ADSL-Zugangsnetz genommen, bleiben 12 ADSL-Teilneh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ebruar -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ration der Unterstützungsanfrage bei der Deutschen Telekom zwischen 6 Niederlassungen und 11 Ansprechpartnern, bisher keine offizielle Zusage bzw. Absage er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 neue Feldversuch-Teilnehmer warten auf ADSL-Anschlu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ktober: DT Kundenniederlassung Aachen bewilligt Freischaltung der 4 neuen Teilneh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7. November: DT führt Freischaltung 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bau Zugangsnetzinfrastruktur abgeschlossen: insg. 16 Teilneh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4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treuu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teilneh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ittlung bei der Deutschen Telekom wegen der Freischaltung neuer Teilnehmer im ADSL Zugangsn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iguration der Teilnehmeranschlüsse für Multicas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Benutzeranleitungen Installations- und Konfigurationsskrip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eitstellung von LINUX-Kernel/ATM Versions-Up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prüfung/Austausch von Netz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kündigung, Durchführung und Auswertung von Multicast-Test-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bei Anwendung der MBone-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4  Betreuung ADSL Feldversu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treuung Zugangsnetzinfra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itoring von Server und Netzwerkschnitt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örungsannahme/-beseitigung in Zusammenarbe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dem Rechenzentrum der RWTH 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prüfung/Beseitigung von Leitungsstörungen in Zusammenarbeit mit der Deutschen Telek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igurationserweiterungen von Server, Switch und 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el-Upgrade Multicast Server, Anpassung ATM-Pa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führung umfangreicher Funktionalitäts- und Leistungstests von Multicast-Server Upgrades im Labor-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cast- und MBone-Traffic Tests im Labor-Testbed und im ADSL-Zugangsnetz an der R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57200" y="1905120"/>
            <a:ext cx="8229600" cy="3475080"/>
            <a:chOff x="457200" y="1905120"/>
            <a:chExt cx="8229600" cy="3475080"/>
          </a:xfrm>
        </p:grpSpPr>
        <p:sp>
          <p:nvSpPr>
            <p:cNvPr id="433" name=""/>
            <p:cNvSpPr/>
            <p:nvPr/>
          </p:nvSpPr>
          <p:spPr>
            <a:xfrm>
              <a:off x="2057400" y="2027520"/>
              <a:ext cx="2666880" cy="3352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10280" y="1951200"/>
              <a:ext cx="1417680" cy="3200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29200" y="2027520"/>
              <a:ext cx="1219320" cy="3124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27920" y="2027520"/>
              <a:ext cx="843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leko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9960" y="22561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26280" y="240840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6172200" y="2408400"/>
              <a:ext cx="2033280" cy="385920"/>
              <a:chOff x="6172200" y="2408400"/>
              <a:chExt cx="2033280" cy="385920"/>
            </a:xfrm>
          </p:grpSpPr>
          <p:pic>
            <p:nvPicPr>
              <p:cNvPr id="440" name="bluetwist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267624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7439760" y="266292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01920" y="2408400"/>
                <a:ext cx="403560" cy="3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7077600" y="253548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172200" y="2713320"/>
              <a:ext cx="2033280" cy="385560"/>
              <a:chOff x="6172200" y="2713320"/>
              <a:chExt cx="2033280" cy="385560"/>
            </a:xfrm>
          </p:grpSpPr>
          <p:pic>
            <p:nvPicPr>
              <p:cNvPr id="445" name="bluetwist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2200" y="298080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7439760" y="296784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01920" y="271332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077600" y="284040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172200" y="3018240"/>
              <a:ext cx="2033280" cy="385560"/>
              <a:chOff x="6172200" y="3018240"/>
              <a:chExt cx="2033280" cy="385560"/>
            </a:xfrm>
          </p:grpSpPr>
          <p:pic>
            <p:nvPicPr>
              <p:cNvPr id="450" name="bluetwist" descr=""/>
              <p:cNvPicPr/>
              <p:nvPr/>
            </p:nvPicPr>
            <p:blipFill>
              <a:blip r:embed="rId5"/>
              <a:stretch/>
            </p:blipFill>
            <p:spPr>
              <a:xfrm>
                <a:off x="6172200" y="328572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7439760" y="327276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01920" y="301824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7077600" y="314532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172200" y="3322800"/>
              <a:ext cx="2033280" cy="385920"/>
              <a:chOff x="6172200" y="3322800"/>
              <a:chExt cx="2033280" cy="385920"/>
            </a:xfrm>
          </p:grpSpPr>
          <p:pic>
            <p:nvPicPr>
              <p:cNvPr id="455" name="bluetwist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2200" y="359064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7439760" y="357732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01920" y="3322800"/>
                <a:ext cx="403560" cy="3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077600" y="344988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7088400" y="256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88400" y="2865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88400" y="3170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8400" y="34754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88400" y="4694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419720" y="2713320"/>
              <a:ext cx="960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42120" y="24386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52680" y="3704040"/>
              <a:ext cx="1219320" cy="1295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4249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317052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62880" y="332280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48720" y="3780000"/>
              <a:ext cx="1236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IP-Multicas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Access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LINUX/A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5320" y="2408400"/>
              <a:ext cx="888840" cy="798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ATM</a:t>
              </a:r>
              <a:br>
                <a:rPr sz="1200"/>
              </a:br>
              <a:r>
                <a:rPr b="1" lang="en-US" sz="28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743200" y="31705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362320" y="4313520"/>
              <a:ext cx="672840" cy="468360"/>
              <a:chOff x="2362320" y="4313520"/>
              <a:chExt cx="672840" cy="468360"/>
            </a:xfrm>
          </p:grpSpPr>
          <p:pic>
            <p:nvPicPr>
              <p:cNvPr id="47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62320" y="4313520"/>
                <a:ext cx="67284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2608200" y="4480200"/>
                <a:ext cx="180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 flipH="1">
              <a:off x="2439360" y="3548160"/>
              <a:ext cx="561960" cy="536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490120" y="3596040"/>
              <a:ext cx="460440" cy="439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516400" y="36277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43200" y="40845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6000" y="2408400"/>
              <a:ext cx="838080" cy="838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5760" y="2561040"/>
              <a:ext cx="96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971800" y="45421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13880" y="2027520"/>
              <a:ext cx="17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University of Aa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120" y="43898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-WIN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56360" y="1905120"/>
              <a:ext cx="13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tudent H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38880" y="3932640"/>
              <a:ext cx="0" cy="4428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57200" y="2057760"/>
              <a:ext cx="1904760" cy="2941560"/>
              <a:chOff x="457200" y="2057760"/>
              <a:chExt cx="1904760" cy="294156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2057760"/>
                <a:ext cx="1295280" cy="13716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b2b2d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9840" y="2057760"/>
                <a:ext cx="114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University 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Mannhei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43000" y="3429360"/>
                <a:ext cx="0" cy="91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7200" y="4237200"/>
                <a:ext cx="12952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flipH="1">
                <a:off x="1676160" y="4542120"/>
                <a:ext cx="6858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800" y="2590920"/>
                <a:ext cx="968400" cy="779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493" name=""/>
              <p:cNvSpPr/>
              <p:nvPr/>
            </p:nvSpPr>
            <p:spPr>
              <a:xfrm>
                <a:off x="611280" y="2667240"/>
                <a:ext cx="988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ccff"/>
                    </a:solidFill>
                    <a:latin typeface="Arial"/>
                  </a:rPr>
                  <a:t>Tele-Teach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ccff"/>
                    </a:solidFill>
                    <a:latin typeface="Arial"/>
                  </a:rPr>
                  <a:t>Session</a:t>
                </a:r>
                <a:r>
                  <a:rPr b="1" lang="en-US" sz="1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221840" y="38563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un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bluetwist" descr=""/>
            <p:cNvPicPr/>
            <p:nvPr/>
          </p:nvPicPr>
          <p:blipFill>
            <a:blip r:embed="rId12"/>
            <a:stretch/>
          </p:blipFill>
          <p:spPr>
            <a:xfrm>
              <a:off x="6172200" y="4810320"/>
              <a:ext cx="965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440480" y="4795920"/>
              <a:ext cx="455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3"/>
            <a:stretch/>
          </p:blipFill>
          <p:spPr>
            <a:xfrm>
              <a:off x="7802640" y="4542120"/>
              <a:ext cx="40320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077240" y="4669200"/>
              <a:ext cx="363240" cy="253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wgdlb" descr=""/>
            <p:cNvPicPr/>
            <p:nvPr/>
          </p:nvPicPr>
          <p:blipFill>
            <a:blip r:embed="rId14"/>
            <a:stretch/>
          </p:blipFill>
          <p:spPr>
            <a:xfrm>
              <a:off x="7924680" y="4419720"/>
              <a:ext cx="762120" cy="532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500" name="" descr=""/>
            <p:cNvPicPr/>
            <p:nvPr/>
          </p:nvPicPr>
          <p:blipFill>
            <a:blip r:embed="rId15"/>
            <a:stretch/>
          </p:blipFill>
          <p:spPr>
            <a:xfrm>
              <a:off x="7696080" y="4419720"/>
              <a:ext cx="5796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088400" y="4678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72280" y="2484720"/>
              <a:ext cx="799920" cy="2514600"/>
            </a:xfrm>
            <a:prstGeom prst="rect">
              <a:avLst/>
            </a:prstGeom>
            <a:gradFill rotWithShape="0">
              <a:gsLst>
                <a:gs pos="0">
                  <a:srgbClr val="151556"/>
                </a:gs>
                <a:gs pos="50000">
                  <a:srgbClr val="3333cc"/>
                </a:gs>
                <a:gs pos="100000">
                  <a:srgbClr val="15155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943600" y="2637000"/>
              <a:ext cx="228600" cy="2286000"/>
              <a:chOff x="5943600" y="2637000"/>
              <a:chExt cx="228600" cy="2286000"/>
            </a:xfrm>
          </p:grpSpPr>
          <p:sp>
            <p:nvSpPr>
              <p:cNvPr id="504" name=""/>
              <p:cNvSpPr/>
              <p:nvPr/>
            </p:nvSpPr>
            <p:spPr>
              <a:xfrm>
                <a:off x="5943600" y="263700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943600" y="294192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943600" y="324684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943600" y="355140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95880" y="3932640"/>
                <a:ext cx="0" cy="442800"/>
              </a:xfrm>
              <a:prstGeom prst="line">
                <a:avLst/>
              </a:prstGeom>
              <a:ln w="25560">
                <a:solidFill>
                  <a:srgbClr val="99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43600" y="477072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63560" y="441972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-W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371600" y="5486400"/>
            <a:ext cx="914400" cy="466560"/>
          </a:xfrm>
          <a:solidFill>
            <a:srgbClr val="00cc99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anette-mrtg" descr=""/>
          <p:cNvPicPr/>
          <p:nvPr/>
        </p:nvPicPr>
        <p:blipFill>
          <a:blip r:embed="rId16"/>
          <a:stretch/>
        </p:blipFill>
        <p:spPr>
          <a:xfrm>
            <a:off x="228600" y="5162400"/>
            <a:ext cx="2276640" cy="95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"/>
          <p:cNvSpPr/>
          <p:nvPr/>
        </p:nvSpPr>
        <p:spPr>
          <a:xfrm>
            <a:off x="5170320" y="5573880"/>
            <a:ext cx="914400" cy="4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9813" y="5290"/>
                </a:lnTo>
                <a:lnTo>
                  <a:pt x="59813" y="-15649"/>
                </a:lnTo>
                <a:lnTo>
                  <a:pt x="56100" y="-36661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anette-mrtg-bergs" descr=""/>
          <p:cNvPicPr/>
          <p:nvPr/>
        </p:nvPicPr>
        <p:blipFill>
          <a:blip r:embed="rId17"/>
          <a:stretch/>
        </p:blipFill>
        <p:spPr>
          <a:xfrm>
            <a:off x="4572000" y="5251320"/>
            <a:ext cx="2286000" cy="9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5" name=""/>
          <p:cNvSpPr/>
          <p:nvPr/>
        </p:nvSpPr>
        <p:spPr>
          <a:xfrm>
            <a:off x="4233960" y="1474920"/>
            <a:ext cx="914400" cy="4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23888" y="5290"/>
                </a:lnTo>
                <a:lnTo>
                  <a:pt x="23888" y="49298"/>
                </a:lnTo>
                <a:lnTo>
                  <a:pt x="-5588" y="93306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anette-mrtg_atmd" descr=""/>
          <p:cNvPicPr/>
          <p:nvPr/>
        </p:nvPicPr>
        <p:blipFill>
          <a:blip r:embed="rId18"/>
          <a:stretch/>
        </p:blipFill>
        <p:spPr>
          <a:xfrm>
            <a:off x="2971800" y="1287360"/>
            <a:ext cx="2276640" cy="9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5560920" y="3914640"/>
            <a:ext cx="9144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4338" y="5290"/>
                </a:lnTo>
                <a:lnTo>
                  <a:pt x="54338" y="-19396"/>
                </a:lnTo>
                <a:lnTo>
                  <a:pt x="46238" y="-4422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anette-mrtgatm19" descr=""/>
          <p:cNvPicPr/>
          <p:nvPr/>
        </p:nvPicPr>
        <p:blipFill>
          <a:blip r:embed="rId19"/>
          <a:stretch/>
        </p:blipFill>
        <p:spPr>
          <a:xfrm>
            <a:off x="4572000" y="3492360"/>
            <a:ext cx="2281320" cy="9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2589480" y="5029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4  Betreuung ADSL Feldversuch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760" y="9288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der Netzwerkschnittstellen und Datenverkehrsanal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6880" y="1523880"/>
            <a:ext cx="36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-Traffic über ATM-Karte (kCell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1840" y="6156360"/>
            <a:ext cx="60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-/Ausgehender Datenverkehr über  Multicast Server (kByte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6480" y="5334120"/>
            <a:ext cx="21556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nverkehr ü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-Interface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ilnehmer (kByte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4  Betreuung ADSL Feldversuch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tützung Tele-Teaching Feldver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ittlung bei den Rechenzentren wegen Netzanbindung zwischen RWTH Aachen(G-WIN) und VIROR-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 der Multicast-Verbindung über das G-WIN zwischen Heidelberg - Aachen - Mann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ang zum Multicast-Access-Server und Account für Uni Mannheim  zur Installation/Test des Reflekto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tragung von Multicast-Sessions (audio, video, wb) zwischen Heidelberg und den ADSL-Teilnehm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/Analyse MBone-Anbindung und Router-Konfiguration der RWTH in Zusammenarbeit mit dem Rechenzent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tausch von MRouted durch PIMD (Sparse Mod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1  ADSL Feldversuch (Netz- / MBone-Anbind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447920"/>
            <a:ext cx="7924680" cy="2514600"/>
          </a:xfrm>
          <a:prstGeom prst="ellipse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4343400"/>
            <a:ext cx="7925040" cy="2286000"/>
          </a:xfrm>
          <a:prstGeom prst="ellipse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7800">
            <a:off x="4838400" y="4533480"/>
            <a:ext cx="228600" cy="1981080"/>
          </a:xfrm>
          <a:prstGeom prst="rect">
            <a:avLst/>
          </a:prstGeom>
          <a:gradFill rotWithShape="0">
            <a:gsLst>
              <a:gs pos="0">
                <a:srgbClr val="c0004c"/>
              </a:gs>
              <a:gs pos="50000">
                <a:srgbClr val="ff0066"/>
              </a:gs>
              <a:gs pos="100000">
                <a:srgbClr val="c000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20062800">
            <a:off x="1980720" y="2895480"/>
            <a:ext cx="228600" cy="19814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b10046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334120" y="4114800"/>
            <a:ext cx="2971800" cy="2079720"/>
            <a:chOff x="5334120" y="4114800"/>
            <a:chExt cx="2971800" cy="2079720"/>
          </a:xfrm>
        </p:grpSpPr>
        <p:grpSp>
          <p:nvGrpSpPr>
            <p:cNvPr id="533" name=""/>
            <p:cNvGrpSpPr/>
            <p:nvPr/>
          </p:nvGrpSpPr>
          <p:grpSpPr>
            <a:xfrm>
              <a:off x="5334120" y="5105520"/>
              <a:ext cx="2971800" cy="1089000"/>
              <a:chOff x="5334120" y="5105520"/>
              <a:chExt cx="2971800" cy="10890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4120" y="533412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4120" y="546444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34120" y="510552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7" name="logofreimustskiz" descr=""/>
            <p:cNvPicPr/>
            <p:nvPr/>
          </p:nvPicPr>
          <p:blipFill>
            <a:blip r:embed="rId1"/>
            <a:stretch/>
          </p:blipFill>
          <p:spPr>
            <a:xfrm>
              <a:off x="6181920" y="4114800"/>
              <a:ext cx="12762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6265440" y="556272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ibu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447920" y="3657600"/>
            <a:ext cx="2971800" cy="2155680"/>
            <a:chOff x="1447920" y="3657600"/>
            <a:chExt cx="2971800" cy="2155680"/>
          </a:xfrm>
        </p:grpSpPr>
        <p:grpSp>
          <p:nvGrpSpPr>
            <p:cNvPr id="540" name=""/>
            <p:cNvGrpSpPr/>
            <p:nvPr/>
          </p:nvGrpSpPr>
          <p:grpSpPr>
            <a:xfrm>
              <a:off x="1447920" y="4724280"/>
              <a:ext cx="2971800" cy="1089000"/>
              <a:chOff x="1447920" y="4724280"/>
              <a:chExt cx="2971800" cy="1089000"/>
            </a:xfrm>
          </p:grpSpPr>
          <p:sp>
            <p:nvSpPr>
              <p:cNvPr id="541" name=""/>
              <p:cNvSpPr/>
              <p:nvPr/>
            </p:nvSpPr>
            <p:spPr>
              <a:xfrm>
                <a:off x="1447920" y="49528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47920" y="508320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447920" y="47242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4" name="logo_ma" descr=""/>
            <p:cNvPicPr/>
            <p:nvPr/>
          </p:nvPicPr>
          <p:blipFill>
            <a:blip r:embed="rId2"/>
            <a:stretch/>
          </p:blipFill>
          <p:spPr>
            <a:xfrm>
              <a:off x="2567160" y="3657600"/>
              <a:ext cx="73332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278080" y="51814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nhe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 rot="16207800">
            <a:off x="4533480" y="1714320"/>
            <a:ext cx="228600" cy="19810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d70056"/>
              </a:gs>
              <a:gs pos="100000">
                <a:srgbClr val="ff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257800" y="1712880"/>
            <a:ext cx="2971800" cy="1639800"/>
            <a:chOff x="5257800" y="1712880"/>
            <a:chExt cx="2971800" cy="1639800"/>
          </a:xfrm>
        </p:grpSpPr>
        <p:grpSp>
          <p:nvGrpSpPr>
            <p:cNvPr id="548" name=""/>
            <p:cNvGrpSpPr/>
            <p:nvPr/>
          </p:nvGrpSpPr>
          <p:grpSpPr>
            <a:xfrm>
              <a:off x="5257800" y="2263680"/>
              <a:ext cx="2971800" cy="1089000"/>
              <a:chOff x="5257800" y="2263680"/>
              <a:chExt cx="2971800" cy="1089000"/>
            </a:xfrm>
          </p:grpSpPr>
          <p:sp>
            <p:nvSpPr>
              <p:cNvPr id="549" name=""/>
              <p:cNvSpPr/>
              <p:nvPr/>
            </p:nvSpPr>
            <p:spPr>
              <a:xfrm>
                <a:off x="5257800" y="24922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57800" y="262260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57800" y="22636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logo_hdschloss" descr=""/>
            <p:cNvPicPr/>
            <p:nvPr/>
          </p:nvPicPr>
          <p:blipFill>
            <a:blip r:embed="rId3"/>
            <a:stretch/>
          </p:blipFill>
          <p:spPr>
            <a:xfrm>
              <a:off x="5676840" y="1712880"/>
              <a:ext cx="2133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6062760" y="26668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idelbe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7200" y="1828800"/>
            <a:ext cx="4267080" cy="1752480"/>
          </a:xfrm>
          <a:prstGeom prst="ellipse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4120" y="60199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ROR / BelW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3352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-WIN / D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12920" y="31240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2520" y="380988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unne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M-P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21520" y="4800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M-P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838080" y="914400"/>
            <a:ext cx="2971800" cy="2232000"/>
            <a:chOff x="838080" y="914400"/>
            <a:chExt cx="2971800" cy="2232000"/>
          </a:xfrm>
        </p:grpSpPr>
        <p:grpSp>
          <p:nvGrpSpPr>
            <p:cNvPr id="561" name=""/>
            <p:cNvGrpSpPr/>
            <p:nvPr/>
          </p:nvGrpSpPr>
          <p:grpSpPr>
            <a:xfrm>
              <a:off x="838080" y="2057400"/>
              <a:ext cx="2971800" cy="1089000"/>
              <a:chOff x="838080" y="2057400"/>
              <a:chExt cx="2971800" cy="1089000"/>
            </a:xfrm>
          </p:grpSpPr>
          <p:sp>
            <p:nvSpPr>
              <p:cNvPr id="562" name=""/>
              <p:cNvSpPr/>
              <p:nvPr/>
            </p:nvSpPr>
            <p:spPr>
              <a:xfrm>
                <a:off x="838080" y="228600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8080" y="241632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38080" y="205740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1447560" y="914400"/>
              <a:ext cx="1476360" cy="1628640"/>
              <a:chOff x="1447560" y="914400"/>
              <a:chExt cx="1476360" cy="1628640"/>
            </a:xfrm>
          </p:grpSpPr>
          <p:pic>
            <p:nvPicPr>
              <p:cNvPr id="566" name="logo_aachendom" descr=""/>
              <p:cNvPicPr/>
              <p:nvPr/>
            </p:nvPicPr>
            <p:blipFill>
              <a:blip r:embed="rId4"/>
              <a:stretch/>
            </p:blipFill>
            <p:spPr>
              <a:xfrm>
                <a:off x="1724040" y="1066680"/>
                <a:ext cx="1199880" cy="14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1447560" y="914400"/>
                <a:ext cx="8384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1821240" y="25146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269600" y="1676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2520" y="3759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799880" y="1828800"/>
            <a:ext cx="3336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 2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-Multicas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Zugangs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0960" y="3733920"/>
            <a:ext cx="44431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2.1  Multicast Access Server V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2.2  Multicast Access Server V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839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  IP-Multicast Support im Zugangsne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SL-Netze basieren auf End-zu-End ATM-N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-Multicast über ADSL bedeutet daher IP-Multicast über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TM-Kommunik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unkt-zu-Punkt Verbindungen zwischen Sender und Empf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 durch ATM PVCs oder ATM SV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Unterstützung von SVCs bei den derzeit eingesetzten ATM-Fabrikat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cast Kommunikation basiert auf senderorientiertem 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-Multicast Support für ATM/ADSL-Netze basierend auf ATM PV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i Lösungsansätze zur Unterstützung von IP-Multicast über AT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-Multicast Router (Router mit Multicast Server Fkt. für ATM-Subne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S (Multicast Address Resolution Server )/ MCS (Multicas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1 Multicast Access Server V. 1  (Mrout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2 Multicast Access Server V. 2  (MoPV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58672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totyp “IP-Multicast Access Server V.1” (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cast Routing- / PIM Sparse-Mode -Daemon  für LINUX/ATM und ATM PV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r ADSL-Host im Zugangsnetz besitzt einen virtuellen Kanal zum 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S unterhält Multicast-Verbindungen für alle MC-Gruppen des ADSL-Net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altung der Gruppenmitgliedschaft basierend auf I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uting-Protokolle: DVMRP / PIM Sparse-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alität des Multicast Access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cast-Adreßauflösung und Mapping IP-Adressen auf entspr. ATM-Adr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izierung und Forwarding der Multicast-Dateneinheiten zu den ADSL-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, Test und Evaluierung des Prototy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1/00: Entwicklung MAS, Erweiterung LINUX Kernel/ATM für IP-Multicast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Erprobung MAS (Mrouted) im Labor-Testbed mit 6 ADSL-Client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2/00: Transfer MAS nach Aachen, Installation im ATM/ADSL-Zugangsnetz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Konfiguration Netzwerk-Schnittst., Betrieb des MAS im IP-Unicast Mod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3/00: Konfiguration des MAS für IP-Multicast Betrieb, Test MBone-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4/00: Erprobung von Tele-Teaching Szenarien, Test MBone-Traffic/Anbind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Austausch Mrouted durch PIMD, Evaluierung und Performance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blick Arbeitspakete Teilprojekt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n und Ergebnisse N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 1   ADSL Feldver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1.2  Aufbau Netzinfra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1.4  Betreuung  ADSL Feldvers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 2   IP Multicast Support im  Zugangsn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1  Multicast Access Server V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2  Multicast Access Server V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 3   Werkzeuge zur Medien-Skalierung/ -Filt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 und Ausb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5181480"/>
            <a:ext cx="87631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MAS: Auflösung von Multicast Adressen und Mapping auf ATM Adressen, Daten-Re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Übergangslösung der Netzanbindung zwischen Mannheim und Aachen für d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   Tele-Learning Feldversuch über ADSL im WS 00/01 durch Tunnel und Reflektor-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Austausch von Mrouted durch PIMD, da Cisco-Router der RWTH PIM-Protokoll  verwende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MS Gothic"/>
              </a:rPr>
              <a:t>MBone-Anbindung der RWTH über das G-WIN, derzeit nicht im vollen Umfang funktionsfäh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4674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04920" y="1600200"/>
            <a:ext cx="8401320" cy="3475080"/>
            <a:chOff x="304920" y="1600200"/>
            <a:chExt cx="8401320" cy="3475080"/>
          </a:xfrm>
        </p:grpSpPr>
        <p:sp>
          <p:nvSpPr>
            <p:cNvPr id="583" name=""/>
            <p:cNvSpPr/>
            <p:nvPr/>
          </p:nvSpPr>
          <p:spPr>
            <a:xfrm>
              <a:off x="838080" y="3124080"/>
              <a:ext cx="380520" cy="99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04760" y="1722240"/>
              <a:ext cx="2666520" cy="3353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7640" y="1600200"/>
              <a:ext cx="1417320" cy="3200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76560" y="1722240"/>
              <a:ext cx="1218960" cy="3124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076360" y="1722240"/>
              <a:ext cx="8438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leko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ache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87320" y="198108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73280" y="210348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6019560" y="2103480"/>
              <a:ext cx="2032920" cy="385560"/>
              <a:chOff x="6019560" y="2103480"/>
              <a:chExt cx="2032920" cy="385560"/>
            </a:xfrm>
          </p:grpSpPr>
          <p:pic>
            <p:nvPicPr>
              <p:cNvPr id="591" name="bluetwist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9560" y="2370960"/>
                <a:ext cx="96552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7286760" y="235800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48920" y="210348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6924600" y="2230560"/>
                <a:ext cx="36180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019560" y="2408040"/>
              <a:ext cx="2032920" cy="385920"/>
              <a:chOff x="6019560" y="2408040"/>
              <a:chExt cx="2032920" cy="385920"/>
            </a:xfrm>
          </p:grpSpPr>
          <p:pic>
            <p:nvPicPr>
              <p:cNvPr id="596" name="bluetwist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9560" y="2675880"/>
                <a:ext cx="96552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7286760" y="266256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8920" y="2408040"/>
                <a:ext cx="403560" cy="3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6924600" y="2535120"/>
                <a:ext cx="36180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019560" y="2712960"/>
              <a:ext cx="2032920" cy="385560"/>
              <a:chOff x="6019560" y="2712960"/>
              <a:chExt cx="2032920" cy="385560"/>
            </a:xfrm>
          </p:grpSpPr>
          <p:pic>
            <p:nvPicPr>
              <p:cNvPr id="601" name="bluetwist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9560" y="2980440"/>
                <a:ext cx="96552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7286760" y="296748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8920" y="271296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6924600" y="2840040"/>
                <a:ext cx="36180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6019560" y="3017880"/>
              <a:ext cx="2032920" cy="385560"/>
              <a:chOff x="6019560" y="3017880"/>
              <a:chExt cx="2032920" cy="385560"/>
            </a:xfrm>
          </p:grpSpPr>
          <p:pic>
            <p:nvPicPr>
              <p:cNvPr id="606" name="bluetwist" descr=""/>
              <p:cNvPicPr/>
              <p:nvPr/>
            </p:nvPicPr>
            <p:blipFill>
              <a:blip r:embed="rId7"/>
              <a:stretch/>
            </p:blipFill>
            <p:spPr>
              <a:xfrm>
                <a:off x="6019560" y="3285360"/>
                <a:ext cx="96552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7286760" y="327240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8920" y="301788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6924600" y="3144960"/>
                <a:ext cx="36180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6935760" y="2255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35760" y="25606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35760" y="28652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35760" y="4389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266720" y="2408040"/>
              <a:ext cx="960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89480" y="213336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00040" y="3398760"/>
              <a:ext cx="1218960" cy="1295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4249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3809880" y="286524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0240" y="301788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95720" y="3475080"/>
              <a:ext cx="1236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IP-Multicas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Access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LINUX/A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PI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52680" y="2103480"/>
              <a:ext cx="888480" cy="798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ATM</a:t>
              </a:r>
              <a:br>
                <a:rPr sz="1200"/>
              </a:br>
              <a:r>
                <a:rPr b="1" lang="en-US" sz="28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ccccff"/>
                  </a:solidFill>
                  <a:latin typeface="Arial"/>
                  <a:ea typeface="ＭＳ Ｐゴシック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590560" y="28648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287440" y="3243240"/>
              <a:ext cx="561600" cy="536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338200" y="3290760"/>
              <a:ext cx="460080" cy="439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363040" y="33224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590560" y="377928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33360" y="2103480"/>
              <a:ext cx="837720" cy="8380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02760" y="2255760"/>
              <a:ext cx="96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63040" y="172224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WTH  Aa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9480" y="4084560"/>
              <a:ext cx="761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-WIN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03720" y="1600200"/>
              <a:ext cx="163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SL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a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86240" y="3627360"/>
              <a:ext cx="0" cy="4428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0880" y="1752480"/>
              <a:ext cx="1294920" cy="1371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6840" y="1752480"/>
              <a:ext cx="97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Univers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Mannhe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28520" y="3124080"/>
              <a:ext cx="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9"/>
            <a:stretch/>
          </p:blipFill>
          <p:spPr>
            <a:xfrm>
              <a:off x="533160" y="2286000"/>
              <a:ext cx="968040" cy="779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37" name=""/>
            <p:cNvSpPr/>
            <p:nvPr/>
          </p:nvSpPr>
          <p:spPr>
            <a:xfrm>
              <a:off x="458280" y="2361960"/>
              <a:ext cx="98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Tele-Tea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Sess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69560" y="355104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un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9" name="bluetwist" descr=""/>
            <p:cNvPicPr/>
            <p:nvPr/>
          </p:nvPicPr>
          <p:blipFill>
            <a:blip r:embed="rId10"/>
            <a:stretch/>
          </p:blipFill>
          <p:spPr>
            <a:xfrm>
              <a:off x="6019560" y="4505040"/>
              <a:ext cx="964800" cy="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7287840" y="4491000"/>
              <a:ext cx="455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1"/>
            <a:stretch/>
          </p:blipFill>
          <p:spPr>
            <a:xfrm>
              <a:off x="7650000" y="4236840"/>
              <a:ext cx="4028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924600" y="4363920"/>
              <a:ext cx="362880" cy="2541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3" name="wgdlb" descr=""/>
            <p:cNvPicPr/>
            <p:nvPr/>
          </p:nvPicPr>
          <p:blipFill>
            <a:blip r:embed="rId12"/>
            <a:stretch/>
          </p:blipFill>
          <p:spPr>
            <a:xfrm>
              <a:off x="7772040" y="4114800"/>
              <a:ext cx="761760" cy="531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644" name="" descr=""/>
            <p:cNvPicPr/>
            <p:nvPr/>
          </p:nvPicPr>
          <p:blipFill>
            <a:blip r:embed="rId13"/>
            <a:stretch/>
          </p:blipFill>
          <p:spPr>
            <a:xfrm>
              <a:off x="7543440" y="4114800"/>
              <a:ext cx="579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935760" y="4373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179440"/>
              <a:ext cx="799560" cy="2514600"/>
            </a:xfrm>
            <a:prstGeom prst="rect">
              <a:avLst/>
            </a:prstGeom>
            <a:gradFill rotWithShape="0">
              <a:gsLst>
                <a:gs pos="0">
                  <a:srgbClr val="151556"/>
                </a:gs>
                <a:gs pos="50000">
                  <a:srgbClr val="3333cc"/>
                </a:gs>
                <a:gs pos="100000">
                  <a:srgbClr val="15155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790960" y="2332080"/>
              <a:ext cx="228240" cy="2286000"/>
              <a:chOff x="5790960" y="2332080"/>
              <a:chExt cx="228240" cy="2286000"/>
            </a:xfrm>
          </p:grpSpPr>
          <p:sp>
            <p:nvSpPr>
              <p:cNvPr id="648" name=""/>
              <p:cNvSpPr/>
              <p:nvPr/>
            </p:nvSpPr>
            <p:spPr>
              <a:xfrm>
                <a:off x="5790960" y="2332080"/>
                <a:ext cx="22824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0960" y="2637000"/>
                <a:ext cx="22824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90960" y="2941920"/>
                <a:ext cx="22824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90960" y="3246480"/>
                <a:ext cx="22824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42880" y="3627720"/>
                <a:ext cx="0" cy="442800"/>
              </a:xfrm>
              <a:prstGeom prst="line">
                <a:avLst/>
              </a:prstGeom>
              <a:ln w="25560">
                <a:solidFill>
                  <a:srgbClr val="99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0960" y="4465800"/>
                <a:ext cx="22824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742160" y="2179440"/>
              <a:ext cx="181800" cy="716040"/>
              <a:chOff x="7742160" y="2179440"/>
              <a:chExt cx="181800" cy="71604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7742160" y="2179440"/>
                <a:ext cx="151560" cy="93600"/>
                <a:chOff x="7742160" y="2179440"/>
                <a:chExt cx="151560" cy="93600"/>
              </a:xfrm>
            </p:grpSpPr>
            <p:pic>
              <p:nvPicPr>
                <p:cNvPr id="6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742160" y="2179440"/>
                  <a:ext cx="741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7" name=""/>
                <p:cNvSpPr/>
                <p:nvPr/>
              </p:nvSpPr>
              <p:spPr>
                <a:xfrm>
                  <a:off x="7817760" y="2179440"/>
                  <a:ext cx="75960" cy="76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7742160" y="2788920"/>
                <a:ext cx="181800" cy="106560"/>
                <a:chOff x="7742160" y="2788920"/>
                <a:chExt cx="181800" cy="106560"/>
              </a:xfrm>
            </p:grpSpPr>
            <p:pic>
              <p:nvPicPr>
                <p:cNvPr id="65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742160" y="2788920"/>
                  <a:ext cx="741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7848000" y="2819160"/>
                  <a:ext cx="75960" cy="76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1" name=""/>
            <p:cNvGrpSpPr/>
            <p:nvPr/>
          </p:nvGrpSpPr>
          <p:grpSpPr>
            <a:xfrm>
              <a:off x="7654680" y="4203720"/>
              <a:ext cx="309240" cy="222120"/>
              <a:chOff x="7654680" y="4203720"/>
              <a:chExt cx="309240" cy="222120"/>
            </a:xfrm>
          </p:grpSpPr>
          <p:pic>
            <p:nvPicPr>
              <p:cNvPr id="6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97880" y="4276800"/>
                <a:ext cx="6012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59080" y="4203720"/>
                <a:ext cx="20484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661520" y="4203720"/>
                <a:ext cx="96840" cy="7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54680" y="4352760"/>
                <a:ext cx="103680" cy="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699320" y="4333320"/>
                <a:ext cx="59040" cy="18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7" name=""/>
            <p:cNvGrpSpPr/>
            <p:nvPr/>
          </p:nvGrpSpPr>
          <p:grpSpPr>
            <a:xfrm>
              <a:off x="882360" y="3200400"/>
              <a:ext cx="289800" cy="385560"/>
              <a:chOff x="882360" y="3200400"/>
              <a:chExt cx="289800" cy="385560"/>
            </a:xfrm>
          </p:grpSpPr>
          <p:sp>
            <p:nvSpPr>
              <p:cNvPr id="668" name=""/>
              <p:cNvSpPr/>
              <p:nvPr/>
            </p:nvSpPr>
            <p:spPr>
              <a:xfrm>
                <a:off x="882360" y="3290760"/>
                <a:ext cx="22824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88200" y="3200400"/>
                <a:ext cx="1839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3428640" y="3047760"/>
              <a:ext cx="22824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504600" y="2361960"/>
              <a:ext cx="41144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04960" y="2361960"/>
              <a:ext cx="0" cy="10670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181480" y="2971800"/>
              <a:ext cx="25142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9880" y="2590560"/>
              <a:ext cx="0" cy="8384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5181480" y="2590200"/>
              <a:ext cx="0" cy="3812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809520" y="2590560"/>
              <a:ext cx="13712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33560" y="3047760"/>
              <a:ext cx="22824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028840" y="2743200"/>
              <a:ext cx="0" cy="4572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028840" y="4495680"/>
              <a:ext cx="25142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028840" y="3200400"/>
              <a:ext cx="0" cy="12952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114080" y="2743200"/>
              <a:ext cx="9140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14440" y="2743200"/>
              <a:ext cx="0" cy="6858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38480" y="3047760"/>
              <a:ext cx="22824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96960" y="3962160"/>
              <a:ext cx="1080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ATM PV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159760" y="411480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7560" y="4114800"/>
              <a:ext cx="106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1523880" y="4267080"/>
              <a:ext cx="685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21"/>
            <a:stretch/>
          </p:blipFill>
          <p:spPr>
            <a:xfrm>
              <a:off x="304920" y="3932280"/>
              <a:ext cx="129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610560" y="411480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G-W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14240" y="4114800"/>
              <a:ext cx="68544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2818800" y="4267080"/>
              <a:ext cx="380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09680" y="4008240"/>
              <a:ext cx="672480" cy="468360"/>
              <a:chOff x="2209680" y="4008240"/>
              <a:chExt cx="672480" cy="468360"/>
            </a:xfrm>
          </p:grpSpPr>
          <p:pic>
            <p:nvPicPr>
              <p:cNvPr id="69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209680" y="4008240"/>
                <a:ext cx="67248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2455560" y="4174920"/>
                <a:ext cx="180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2514240" y="3809880"/>
              <a:ext cx="74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100 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25040" y="198108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25040" y="266688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0720" y="4419360"/>
              <a:ext cx="111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Cisco-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(PI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124080" y="4152960"/>
              <a:ext cx="22824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 flipH="1" flipV="1">
            <a:off x="4952520" y="3885840"/>
            <a:ext cx="12193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1840" y="1143000"/>
            <a:ext cx="76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Gothic"/>
              </a:rPr>
              <a:t>Funktionalität IP Multicast Access Server V.1 für ATM/ADSL-Zugangsn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38080" y="4267080"/>
            <a:ext cx="6927840" cy="2387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ffffff"/>
              </a:gs>
              <a:gs pos="100000">
                <a:srgbClr val="b1b1b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4038480"/>
            <a:ext cx="7302240" cy="24616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ef3d3"/>
              </a:gs>
              <a:gs pos="100000">
                <a:srgbClr val="ffe59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Interface: atm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DEV_21="atm2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IFCONFIG_21="137.226.80.241 netmask 255.255.255.252 multicast up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Multicast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MCPARM_21="0.0.162 qos cbr:pcr=2Mb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VC_21="137.226.80.24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PARM_21="0.0.62 qos cbr:pcr=4Mb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9000" y="5105520"/>
            <a:ext cx="609480" cy="288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8120" y="5867280"/>
            <a:ext cx="685800" cy="289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1371600"/>
            <a:ext cx="3423960" cy="2011320"/>
          </a:xfrm>
          <a:custGeom>
            <a:avLst/>
            <a:gdLst/>
            <a:ahLst/>
            <a:rect l="l" t="t" r="r" b="b"/>
            <a:pathLst>
              <a:path w="1008" h="696">
                <a:moveTo>
                  <a:pt x="91" y="465"/>
                </a:moveTo>
                <a:lnTo>
                  <a:pt x="72" y="461"/>
                </a:lnTo>
                <a:lnTo>
                  <a:pt x="55" y="455"/>
                </a:lnTo>
                <a:lnTo>
                  <a:pt x="39" y="445"/>
                </a:lnTo>
                <a:lnTo>
                  <a:pt x="26" y="434"/>
                </a:lnTo>
                <a:lnTo>
                  <a:pt x="15" y="420"/>
                </a:lnTo>
                <a:lnTo>
                  <a:pt x="7" y="404"/>
                </a:lnTo>
                <a:lnTo>
                  <a:pt x="2" y="387"/>
                </a:lnTo>
                <a:lnTo>
                  <a:pt x="0" y="369"/>
                </a:lnTo>
                <a:lnTo>
                  <a:pt x="1" y="356"/>
                </a:lnTo>
                <a:lnTo>
                  <a:pt x="3" y="344"/>
                </a:lnTo>
                <a:lnTo>
                  <a:pt x="8" y="333"/>
                </a:lnTo>
                <a:lnTo>
                  <a:pt x="13" y="322"/>
                </a:lnTo>
                <a:lnTo>
                  <a:pt x="21" y="311"/>
                </a:lnTo>
                <a:lnTo>
                  <a:pt x="29" y="302"/>
                </a:lnTo>
                <a:lnTo>
                  <a:pt x="39" y="294"/>
                </a:lnTo>
                <a:lnTo>
                  <a:pt x="50" y="287"/>
                </a:lnTo>
                <a:lnTo>
                  <a:pt x="50" y="288"/>
                </a:lnTo>
                <a:lnTo>
                  <a:pt x="38" y="274"/>
                </a:lnTo>
                <a:lnTo>
                  <a:pt x="29" y="258"/>
                </a:lnTo>
                <a:lnTo>
                  <a:pt x="24" y="241"/>
                </a:lnTo>
                <a:lnTo>
                  <a:pt x="22" y="223"/>
                </a:lnTo>
                <a:lnTo>
                  <a:pt x="23" y="213"/>
                </a:lnTo>
                <a:lnTo>
                  <a:pt x="24" y="204"/>
                </a:lnTo>
                <a:lnTo>
                  <a:pt x="30" y="186"/>
                </a:lnTo>
                <a:lnTo>
                  <a:pt x="40" y="169"/>
                </a:lnTo>
                <a:lnTo>
                  <a:pt x="52" y="155"/>
                </a:lnTo>
                <a:lnTo>
                  <a:pt x="67" y="143"/>
                </a:lnTo>
                <a:lnTo>
                  <a:pt x="84" y="135"/>
                </a:lnTo>
                <a:lnTo>
                  <a:pt x="104" y="129"/>
                </a:lnTo>
                <a:lnTo>
                  <a:pt x="114" y="128"/>
                </a:lnTo>
                <a:lnTo>
                  <a:pt x="124" y="127"/>
                </a:lnTo>
                <a:lnTo>
                  <a:pt x="130" y="128"/>
                </a:lnTo>
                <a:lnTo>
                  <a:pt x="136" y="128"/>
                </a:lnTo>
                <a:lnTo>
                  <a:pt x="135" y="127"/>
                </a:lnTo>
                <a:lnTo>
                  <a:pt x="148" y="108"/>
                </a:lnTo>
                <a:lnTo>
                  <a:pt x="164" y="91"/>
                </a:lnTo>
                <a:lnTo>
                  <a:pt x="182" y="77"/>
                </a:lnTo>
                <a:lnTo>
                  <a:pt x="201" y="65"/>
                </a:lnTo>
                <a:lnTo>
                  <a:pt x="222" y="55"/>
                </a:lnTo>
                <a:lnTo>
                  <a:pt x="245" y="48"/>
                </a:lnTo>
                <a:lnTo>
                  <a:pt x="268" y="44"/>
                </a:lnTo>
                <a:lnTo>
                  <a:pt x="292" y="42"/>
                </a:lnTo>
                <a:lnTo>
                  <a:pt x="316" y="44"/>
                </a:lnTo>
                <a:lnTo>
                  <a:pt x="340" y="48"/>
                </a:lnTo>
                <a:lnTo>
                  <a:pt x="362" y="56"/>
                </a:lnTo>
                <a:lnTo>
                  <a:pt x="384" y="66"/>
                </a:lnTo>
                <a:lnTo>
                  <a:pt x="384" y="66"/>
                </a:lnTo>
                <a:lnTo>
                  <a:pt x="396" y="51"/>
                </a:lnTo>
                <a:lnTo>
                  <a:pt x="409" y="38"/>
                </a:lnTo>
                <a:lnTo>
                  <a:pt x="424" y="27"/>
                </a:lnTo>
                <a:lnTo>
                  <a:pt x="441" y="18"/>
                </a:lnTo>
                <a:lnTo>
                  <a:pt x="458" y="10"/>
                </a:lnTo>
                <a:lnTo>
                  <a:pt x="476" y="5"/>
                </a:lnTo>
                <a:lnTo>
                  <a:pt x="495" y="1"/>
                </a:lnTo>
                <a:lnTo>
                  <a:pt x="515" y="0"/>
                </a:lnTo>
                <a:lnTo>
                  <a:pt x="528" y="1"/>
                </a:lnTo>
                <a:lnTo>
                  <a:pt x="541" y="2"/>
                </a:lnTo>
                <a:lnTo>
                  <a:pt x="565" y="8"/>
                </a:lnTo>
                <a:lnTo>
                  <a:pt x="588" y="17"/>
                </a:lnTo>
                <a:lnTo>
                  <a:pt x="609" y="29"/>
                </a:lnTo>
                <a:lnTo>
                  <a:pt x="628" y="45"/>
                </a:lnTo>
                <a:lnTo>
                  <a:pt x="644" y="63"/>
                </a:lnTo>
                <a:lnTo>
                  <a:pt x="657" y="83"/>
                </a:lnTo>
                <a:lnTo>
                  <a:pt x="666" y="106"/>
                </a:lnTo>
                <a:lnTo>
                  <a:pt x="666" y="105"/>
                </a:lnTo>
                <a:lnTo>
                  <a:pt x="682" y="97"/>
                </a:lnTo>
                <a:lnTo>
                  <a:pt x="700" y="91"/>
                </a:lnTo>
                <a:lnTo>
                  <a:pt x="718" y="87"/>
                </a:lnTo>
                <a:lnTo>
                  <a:pt x="737" y="86"/>
                </a:lnTo>
                <a:lnTo>
                  <a:pt x="751" y="87"/>
                </a:lnTo>
                <a:lnTo>
                  <a:pt x="764" y="89"/>
                </a:lnTo>
                <a:lnTo>
                  <a:pt x="777" y="92"/>
                </a:lnTo>
                <a:lnTo>
                  <a:pt x="790" y="96"/>
                </a:lnTo>
                <a:lnTo>
                  <a:pt x="802" y="101"/>
                </a:lnTo>
                <a:lnTo>
                  <a:pt x="813" y="107"/>
                </a:lnTo>
                <a:lnTo>
                  <a:pt x="833" y="123"/>
                </a:lnTo>
                <a:lnTo>
                  <a:pt x="841" y="132"/>
                </a:lnTo>
                <a:lnTo>
                  <a:pt x="849" y="141"/>
                </a:lnTo>
                <a:lnTo>
                  <a:pt x="856" y="151"/>
                </a:lnTo>
                <a:lnTo>
                  <a:pt x="861" y="162"/>
                </a:lnTo>
                <a:lnTo>
                  <a:pt x="866" y="174"/>
                </a:lnTo>
                <a:lnTo>
                  <a:pt x="869" y="186"/>
                </a:lnTo>
                <a:lnTo>
                  <a:pt x="871" y="198"/>
                </a:lnTo>
                <a:lnTo>
                  <a:pt x="872" y="211"/>
                </a:lnTo>
                <a:lnTo>
                  <a:pt x="872" y="212"/>
                </a:lnTo>
                <a:lnTo>
                  <a:pt x="886" y="215"/>
                </a:lnTo>
                <a:lnTo>
                  <a:pt x="900" y="218"/>
                </a:lnTo>
                <a:lnTo>
                  <a:pt x="914" y="223"/>
                </a:lnTo>
                <a:lnTo>
                  <a:pt x="926" y="229"/>
                </a:lnTo>
                <a:lnTo>
                  <a:pt x="949" y="243"/>
                </a:lnTo>
                <a:lnTo>
                  <a:pt x="969" y="262"/>
                </a:lnTo>
                <a:lnTo>
                  <a:pt x="978" y="272"/>
                </a:lnTo>
                <a:lnTo>
                  <a:pt x="986" y="283"/>
                </a:lnTo>
                <a:lnTo>
                  <a:pt x="992" y="294"/>
                </a:lnTo>
                <a:lnTo>
                  <a:pt x="998" y="306"/>
                </a:lnTo>
                <a:lnTo>
                  <a:pt x="1002" y="319"/>
                </a:lnTo>
                <a:lnTo>
                  <a:pt x="1005" y="332"/>
                </a:lnTo>
                <a:lnTo>
                  <a:pt x="1007" y="345"/>
                </a:lnTo>
                <a:lnTo>
                  <a:pt x="1008" y="359"/>
                </a:lnTo>
                <a:lnTo>
                  <a:pt x="1007" y="371"/>
                </a:lnTo>
                <a:lnTo>
                  <a:pt x="1006" y="383"/>
                </a:lnTo>
                <a:lnTo>
                  <a:pt x="1003" y="395"/>
                </a:lnTo>
                <a:lnTo>
                  <a:pt x="999" y="406"/>
                </a:lnTo>
                <a:lnTo>
                  <a:pt x="989" y="429"/>
                </a:lnTo>
                <a:lnTo>
                  <a:pt x="975" y="449"/>
                </a:lnTo>
                <a:lnTo>
                  <a:pt x="975" y="449"/>
                </a:lnTo>
                <a:lnTo>
                  <a:pt x="979" y="460"/>
                </a:lnTo>
                <a:lnTo>
                  <a:pt x="982" y="472"/>
                </a:lnTo>
                <a:lnTo>
                  <a:pt x="984" y="483"/>
                </a:lnTo>
                <a:lnTo>
                  <a:pt x="985" y="495"/>
                </a:lnTo>
                <a:lnTo>
                  <a:pt x="983" y="515"/>
                </a:lnTo>
                <a:lnTo>
                  <a:pt x="978" y="533"/>
                </a:lnTo>
                <a:lnTo>
                  <a:pt x="970" y="550"/>
                </a:lnTo>
                <a:lnTo>
                  <a:pt x="959" y="566"/>
                </a:lnTo>
                <a:lnTo>
                  <a:pt x="946" y="580"/>
                </a:lnTo>
                <a:lnTo>
                  <a:pt x="930" y="592"/>
                </a:lnTo>
                <a:lnTo>
                  <a:pt x="912" y="601"/>
                </a:lnTo>
                <a:lnTo>
                  <a:pt x="893" y="608"/>
                </a:lnTo>
                <a:lnTo>
                  <a:pt x="894" y="609"/>
                </a:lnTo>
                <a:lnTo>
                  <a:pt x="889" y="627"/>
                </a:lnTo>
                <a:lnTo>
                  <a:pt x="880" y="644"/>
                </a:lnTo>
                <a:lnTo>
                  <a:pt x="869" y="659"/>
                </a:lnTo>
                <a:lnTo>
                  <a:pt x="855" y="671"/>
                </a:lnTo>
                <a:lnTo>
                  <a:pt x="839" y="682"/>
                </a:lnTo>
                <a:lnTo>
                  <a:pt x="821" y="689"/>
                </a:lnTo>
                <a:lnTo>
                  <a:pt x="802" y="694"/>
                </a:lnTo>
                <a:lnTo>
                  <a:pt x="782" y="696"/>
                </a:lnTo>
                <a:lnTo>
                  <a:pt x="770" y="695"/>
                </a:lnTo>
                <a:lnTo>
                  <a:pt x="758" y="693"/>
                </a:lnTo>
                <a:lnTo>
                  <a:pt x="746" y="690"/>
                </a:lnTo>
                <a:lnTo>
                  <a:pt x="735" y="686"/>
                </a:lnTo>
                <a:lnTo>
                  <a:pt x="724" y="681"/>
                </a:lnTo>
                <a:lnTo>
                  <a:pt x="714" y="674"/>
                </a:lnTo>
                <a:lnTo>
                  <a:pt x="704" y="667"/>
                </a:lnTo>
                <a:lnTo>
                  <a:pt x="696" y="658"/>
                </a:lnTo>
                <a:lnTo>
                  <a:pt x="696" y="658"/>
                </a:lnTo>
                <a:lnTo>
                  <a:pt x="688" y="667"/>
                </a:lnTo>
                <a:lnTo>
                  <a:pt x="680" y="674"/>
                </a:lnTo>
                <a:lnTo>
                  <a:pt x="670" y="681"/>
                </a:lnTo>
                <a:lnTo>
                  <a:pt x="660" y="686"/>
                </a:lnTo>
                <a:lnTo>
                  <a:pt x="650" y="690"/>
                </a:lnTo>
                <a:lnTo>
                  <a:pt x="639" y="693"/>
                </a:lnTo>
                <a:lnTo>
                  <a:pt x="627" y="695"/>
                </a:lnTo>
                <a:lnTo>
                  <a:pt x="615" y="696"/>
                </a:lnTo>
                <a:lnTo>
                  <a:pt x="601" y="695"/>
                </a:lnTo>
                <a:lnTo>
                  <a:pt x="587" y="692"/>
                </a:lnTo>
                <a:lnTo>
                  <a:pt x="574" y="688"/>
                </a:lnTo>
                <a:lnTo>
                  <a:pt x="561" y="682"/>
                </a:lnTo>
                <a:lnTo>
                  <a:pt x="550" y="674"/>
                </a:lnTo>
                <a:lnTo>
                  <a:pt x="540" y="665"/>
                </a:lnTo>
                <a:lnTo>
                  <a:pt x="531" y="654"/>
                </a:lnTo>
                <a:lnTo>
                  <a:pt x="524" y="643"/>
                </a:lnTo>
                <a:lnTo>
                  <a:pt x="524" y="641"/>
                </a:lnTo>
                <a:lnTo>
                  <a:pt x="505" y="656"/>
                </a:lnTo>
                <a:lnTo>
                  <a:pt x="495" y="661"/>
                </a:lnTo>
                <a:lnTo>
                  <a:pt x="484" y="666"/>
                </a:lnTo>
                <a:lnTo>
                  <a:pt x="473" y="670"/>
                </a:lnTo>
                <a:lnTo>
                  <a:pt x="461" y="673"/>
                </a:lnTo>
                <a:lnTo>
                  <a:pt x="449" y="674"/>
                </a:lnTo>
                <a:lnTo>
                  <a:pt x="437" y="675"/>
                </a:lnTo>
                <a:lnTo>
                  <a:pt x="420" y="674"/>
                </a:lnTo>
                <a:lnTo>
                  <a:pt x="403" y="671"/>
                </a:lnTo>
                <a:lnTo>
                  <a:pt x="388" y="665"/>
                </a:lnTo>
                <a:lnTo>
                  <a:pt x="373" y="658"/>
                </a:lnTo>
                <a:lnTo>
                  <a:pt x="359" y="649"/>
                </a:lnTo>
                <a:lnTo>
                  <a:pt x="347" y="639"/>
                </a:lnTo>
                <a:lnTo>
                  <a:pt x="336" y="627"/>
                </a:lnTo>
                <a:lnTo>
                  <a:pt x="327" y="613"/>
                </a:lnTo>
                <a:lnTo>
                  <a:pt x="326" y="612"/>
                </a:lnTo>
                <a:lnTo>
                  <a:pt x="308" y="621"/>
                </a:lnTo>
                <a:lnTo>
                  <a:pt x="288" y="627"/>
                </a:lnTo>
                <a:lnTo>
                  <a:pt x="268" y="631"/>
                </a:lnTo>
                <a:lnTo>
                  <a:pt x="247" y="632"/>
                </a:lnTo>
                <a:lnTo>
                  <a:pt x="231" y="631"/>
                </a:lnTo>
                <a:lnTo>
                  <a:pt x="215" y="629"/>
                </a:lnTo>
                <a:lnTo>
                  <a:pt x="200" y="625"/>
                </a:lnTo>
                <a:lnTo>
                  <a:pt x="186" y="620"/>
                </a:lnTo>
                <a:lnTo>
                  <a:pt x="172" y="614"/>
                </a:lnTo>
                <a:lnTo>
                  <a:pt x="159" y="607"/>
                </a:lnTo>
                <a:lnTo>
                  <a:pt x="147" y="598"/>
                </a:lnTo>
                <a:lnTo>
                  <a:pt x="135" y="589"/>
                </a:lnTo>
                <a:lnTo>
                  <a:pt x="125" y="578"/>
                </a:lnTo>
                <a:lnTo>
                  <a:pt x="116" y="567"/>
                </a:lnTo>
                <a:lnTo>
                  <a:pt x="108" y="555"/>
                </a:lnTo>
                <a:lnTo>
                  <a:pt x="101" y="542"/>
                </a:lnTo>
                <a:lnTo>
                  <a:pt x="96" y="528"/>
                </a:lnTo>
                <a:lnTo>
                  <a:pt x="92" y="514"/>
                </a:lnTo>
                <a:lnTo>
                  <a:pt x="90" y="499"/>
                </a:lnTo>
                <a:lnTo>
                  <a:pt x="89" y="484"/>
                </a:lnTo>
                <a:lnTo>
                  <a:pt x="90" y="474"/>
                </a:lnTo>
                <a:lnTo>
                  <a:pt x="91" y="464"/>
                </a:lnTo>
                <a:lnTo>
                  <a:pt x="91" y="465"/>
                </a:lnTo>
                <a:close/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1371600"/>
            <a:ext cx="3423960" cy="2011320"/>
          </a:xfrm>
          <a:custGeom>
            <a:avLst/>
            <a:gdLst/>
            <a:ahLst/>
            <a:rect l="l" t="t" r="r" b="b"/>
            <a:pathLst>
              <a:path w="1008" h="696">
                <a:moveTo>
                  <a:pt x="91" y="465"/>
                </a:moveTo>
                <a:lnTo>
                  <a:pt x="72" y="461"/>
                </a:lnTo>
                <a:lnTo>
                  <a:pt x="55" y="455"/>
                </a:lnTo>
                <a:lnTo>
                  <a:pt x="39" y="445"/>
                </a:lnTo>
                <a:lnTo>
                  <a:pt x="26" y="434"/>
                </a:lnTo>
                <a:lnTo>
                  <a:pt x="15" y="420"/>
                </a:lnTo>
                <a:lnTo>
                  <a:pt x="7" y="404"/>
                </a:lnTo>
                <a:lnTo>
                  <a:pt x="2" y="387"/>
                </a:lnTo>
                <a:lnTo>
                  <a:pt x="0" y="369"/>
                </a:lnTo>
                <a:lnTo>
                  <a:pt x="1" y="356"/>
                </a:lnTo>
                <a:lnTo>
                  <a:pt x="3" y="344"/>
                </a:lnTo>
                <a:lnTo>
                  <a:pt x="8" y="333"/>
                </a:lnTo>
                <a:lnTo>
                  <a:pt x="13" y="322"/>
                </a:lnTo>
                <a:lnTo>
                  <a:pt x="21" y="311"/>
                </a:lnTo>
                <a:lnTo>
                  <a:pt x="29" y="302"/>
                </a:lnTo>
                <a:lnTo>
                  <a:pt x="39" y="294"/>
                </a:lnTo>
                <a:lnTo>
                  <a:pt x="50" y="287"/>
                </a:lnTo>
                <a:lnTo>
                  <a:pt x="50" y="288"/>
                </a:lnTo>
                <a:lnTo>
                  <a:pt x="38" y="274"/>
                </a:lnTo>
                <a:lnTo>
                  <a:pt x="29" y="258"/>
                </a:lnTo>
                <a:lnTo>
                  <a:pt x="24" y="241"/>
                </a:lnTo>
                <a:lnTo>
                  <a:pt x="22" y="223"/>
                </a:lnTo>
                <a:lnTo>
                  <a:pt x="23" y="213"/>
                </a:lnTo>
                <a:lnTo>
                  <a:pt x="24" y="204"/>
                </a:lnTo>
                <a:lnTo>
                  <a:pt x="30" y="186"/>
                </a:lnTo>
                <a:lnTo>
                  <a:pt x="40" y="169"/>
                </a:lnTo>
                <a:lnTo>
                  <a:pt x="52" y="155"/>
                </a:lnTo>
                <a:lnTo>
                  <a:pt x="67" y="143"/>
                </a:lnTo>
                <a:lnTo>
                  <a:pt x="84" y="135"/>
                </a:lnTo>
                <a:lnTo>
                  <a:pt x="104" y="129"/>
                </a:lnTo>
                <a:lnTo>
                  <a:pt x="114" y="128"/>
                </a:lnTo>
                <a:lnTo>
                  <a:pt x="124" y="127"/>
                </a:lnTo>
                <a:lnTo>
                  <a:pt x="130" y="128"/>
                </a:lnTo>
                <a:lnTo>
                  <a:pt x="136" y="128"/>
                </a:lnTo>
                <a:lnTo>
                  <a:pt x="135" y="127"/>
                </a:lnTo>
                <a:lnTo>
                  <a:pt x="148" y="108"/>
                </a:lnTo>
                <a:lnTo>
                  <a:pt x="164" y="91"/>
                </a:lnTo>
                <a:lnTo>
                  <a:pt x="182" y="77"/>
                </a:lnTo>
                <a:lnTo>
                  <a:pt x="201" y="65"/>
                </a:lnTo>
                <a:lnTo>
                  <a:pt x="222" y="55"/>
                </a:lnTo>
                <a:lnTo>
                  <a:pt x="245" y="48"/>
                </a:lnTo>
                <a:lnTo>
                  <a:pt x="268" y="44"/>
                </a:lnTo>
                <a:lnTo>
                  <a:pt x="292" y="42"/>
                </a:lnTo>
                <a:lnTo>
                  <a:pt x="316" y="44"/>
                </a:lnTo>
                <a:lnTo>
                  <a:pt x="340" y="48"/>
                </a:lnTo>
                <a:lnTo>
                  <a:pt x="362" y="56"/>
                </a:lnTo>
                <a:lnTo>
                  <a:pt x="384" y="66"/>
                </a:lnTo>
                <a:lnTo>
                  <a:pt x="384" y="66"/>
                </a:lnTo>
                <a:lnTo>
                  <a:pt x="396" y="51"/>
                </a:lnTo>
                <a:lnTo>
                  <a:pt x="409" y="38"/>
                </a:lnTo>
                <a:lnTo>
                  <a:pt x="424" y="27"/>
                </a:lnTo>
                <a:lnTo>
                  <a:pt x="441" y="18"/>
                </a:lnTo>
                <a:lnTo>
                  <a:pt x="458" y="10"/>
                </a:lnTo>
                <a:lnTo>
                  <a:pt x="476" y="5"/>
                </a:lnTo>
                <a:lnTo>
                  <a:pt x="495" y="1"/>
                </a:lnTo>
                <a:lnTo>
                  <a:pt x="515" y="0"/>
                </a:lnTo>
                <a:lnTo>
                  <a:pt x="528" y="1"/>
                </a:lnTo>
                <a:lnTo>
                  <a:pt x="541" y="2"/>
                </a:lnTo>
                <a:lnTo>
                  <a:pt x="565" y="8"/>
                </a:lnTo>
                <a:lnTo>
                  <a:pt x="588" y="17"/>
                </a:lnTo>
                <a:lnTo>
                  <a:pt x="609" y="29"/>
                </a:lnTo>
                <a:lnTo>
                  <a:pt x="628" y="45"/>
                </a:lnTo>
                <a:lnTo>
                  <a:pt x="644" y="63"/>
                </a:lnTo>
                <a:lnTo>
                  <a:pt x="657" y="83"/>
                </a:lnTo>
                <a:lnTo>
                  <a:pt x="666" y="106"/>
                </a:lnTo>
                <a:lnTo>
                  <a:pt x="666" y="105"/>
                </a:lnTo>
                <a:lnTo>
                  <a:pt x="682" y="97"/>
                </a:lnTo>
                <a:lnTo>
                  <a:pt x="700" y="91"/>
                </a:lnTo>
                <a:lnTo>
                  <a:pt x="718" y="87"/>
                </a:lnTo>
                <a:lnTo>
                  <a:pt x="737" y="86"/>
                </a:lnTo>
                <a:lnTo>
                  <a:pt x="751" y="87"/>
                </a:lnTo>
                <a:lnTo>
                  <a:pt x="764" y="89"/>
                </a:lnTo>
                <a:lnTo>
                  <a:pt x="777" y="92"/>
                </a:lnTo>
                <a:lnTo>
                  <a:pt x="790" y="96"/>
                </a:lnTo>
                <a:lnTo>
                  <a:pt x="802" y="101"/>
                </a:lnTo>
                <a:lnTo>
                  <a:pt x="813" y="107"/>
                </a:lnTo>
                <a:lnTo>
                  <a:pt x="833" y="123"/>
                </a:lnTo>
                <a:lnTo>
                  <a:pt x="841" y="132"/>
                </a:lnTo>
                <a:lnTo>
                  <a:pt x="849" y="141"/>
                </a:lnTo>
                <a:lnTo>
                  <a:pt x="856" y="151"/>
                </a:lnTo>
                <a:lnTo>
                  <a:pt x="861" y="162"/>
                </a:lnTo>
                <a:lnTo>
                  <a:pt x="866" y="174"/>
                </a:lnTo>
                <a:lnTo>
                  <a:pt x="869" y="186"/>
                </a:lnTo>
                <a:lnTo>
                  <a:pt x="871" y="198"/>
                </a:lnTo>
                <a:lnTo>
                  <a:pt x="872" y="211"/>
                </a:lnTo>
                <a:lnTo>
                  <a:pt x="872" y="212"/>
                </a:lnTo>
                <a:lnTo>
                  <a:pt x="886" y="215"/>
                </a:lnTo>
                <a:lnTo>
                  <a:pt x="900" y="218"/>
                </a:lnTo>
                <a:lnTo>
                  <a:pt x="914" y="223"/>
                </a:lnTo>
                <a:lnTo>
                  <a:pt x="926" y="229"/>
                </a:lnTo>
                <a:lnTo>
                  <a:pt x="949" y="243"/>
                </a:lnTo>
                <a:lnTo>
                  <a:pt x="969" y="262"/>
                </a:lnTo>
                <a:lnTo>
                  <a:pt x="978" y="272"/>
                </a:lnTo>
                <a:lnTo>
                  <a:pt x="986" y="283"/>
                </a:lnTo>
                <a:lnTo>
                  <a:pt x="992" y="294"/>
                </a:lnTo>
                <a:lnTo>
                  <a:pt x="998" y="306"/>
                </a:lnTo>
                <a:lnTo>
                  <a:pt x="1002" y="319"/>
                </a:lnTo>
                <a:lnTo>
                  <a:pt x="1005" y="332"/>
                </a:lnTo>
                <a:lnTo>
                  <a:pt x="1007" y="345"/>
                </a:lnTo>
                <a:lnTo>
                  <a:pt x="1008" y="359"/>
                </a:lnTo>
                <a:lnTo>
                  <a:pt x="1007" y="371"/>
                </a:lnTo>
                <a:lnTo>
                  <a:pt x="1006" y="383"/>
                </a:lnTo>
                <a:lnTo>
                  <a:pt x="1003" y="395"/>
                </a:lnTo>
                <a:lnTo>
                  <a:pt x="999" y="406"/>
                </a:lnTo>
                <a:lnTo>
                  <a:pt x="989" y="429"/>
                </a:lnTo>
                <a:lnTo>
                  <a:pt x="975" y="449"/>
                </a:lnTo>
                <a:lnTo>
                  <a:pt x="975" y="449"/>
                </a:lnTo>
                <a:lnTo>
                  <a:pt x="979" y="460"/>
                </a:lnTo>
                <a:lnTo>
                  <a:pt x="982" y="472"/>
                </a:lnTo>
                <a:lnTo>
                  <a:pt x="984" y="483"/>
                </a:lnTo>
                <a:lnTo>
                  <a:pt x="985" y="495"/>
                </a:lnTo>
                <a:lnTo>
                  <a:pt x="983" y="515"/>
                </a:lnTo>
                <a:lnTo>
                  <a:pt x="978" y="533"/>
                </a:lnTo>
                <a:lnTo>
                  <a:pt x="970" y="550"/>
                </a:lnTo>
                <a:lnTo>
                  <a:pt x="959" y="566"/>
                </a:lnTo>
                <a:lnTo>
                  <a:pt x="946" y="580"/>
                </a:lnTo>
                <a:lnTo>
                  <a:pt x="930" y="592"/>
                </a:lnTo>
                <a:lnTo>
                  <a:pt x="912" y="601"/>
                </a:lnTo>
                <a:lnTo>
                  <a:pt x="893" y="608"/>
                </a:lnTo>
                <a:lnTo>
                  <a:pt x="894" y="609"/>
                </a:lnTo>
                <a:lnTo>
                  <a:pt x="889" y="627"/>
                </a:lnTo>
                <a:lnTo>
                  <a:pt x="880" y="644"/>
                </a:lnTo>
                <a:lnTo>
                  <a:pt x="869" y="659"/>
                </a:lnTo>
                <a:lnTo>
                  <a:pt x="855" y="671"/>
                </a:lnTo>
                <a:lnTo>
                  <a:pt x="839" y="682"/>
                </a:lnTo>
                <a:lnTo>
                  <a:pt x="821" y="689"/>
                </a:lnTo>
                <a:lnTo>
                  <a:pt x="802" y="694"/>
                </a:lnTo>
                <a:lnTo>
                  <a:pt x="782" y="696"/>
                </a:lnTo>
                <a:lnTo>
                  <a:pt x="770" y="695"/>
                </a:lnTo>
                <a:lnTo>
                  <a:pt x="758" y="693"/>
                </a:lnTo>
                <a:lnTo>
                  <a:pt x="746" y="690"/>
                </a:lnTo>
                <a:lnTo>
                  <a:pt x="735" y="686"/>
                </a:lnTo>
                <a:lnTo>
                  <a:pt x="724" y="681"/>
                </a:lnTo>
                <a:lnTo>
                  <a:pt x="714" y="674"/>
                </a:lnTo>
                <a:lnTo>
                  <a:pt x="704" y="667"/>
                </a:lnTo>
                <a:lnTo>
                  <a:pt x="696" y="658"/>
                </a:lnTo>
                <a:lnTo>
                  <a:pt x="696" y="658"/>
                </a:lnTo>
                <a:lnTo>
                  <a:pt x="688" y="667"/>
                </a:lnTo>
                <a:lnTo>
                  <a:pt x="680" y="674"/>
                </a:lnTo>
                <a:lnTo>
                  <a:pt x="670" y="681"/>
                </a:lnTo>
                <a:lnTo>
                  <a:pt x="660" y="686"/>
                </a:lnTo>
                <a:lnTo>
                  <a:pt x="650" y="690"/>
                </a:lnTo>
                <a:lnTo>
                  <a:pt x="639" y="693"/>
                </a:lnTo>
                <a:lnTo>
                  <a:pt x="627" y="695"/>
                </a:lnTo>
                <a:lnTo>
                  <a:pt x="615" y="696"/>
                </a:lnTo>
                <a:lnTo>
                  <a:pt x="601" y="695"/>
                </a:lnTo>
                <a:lnTo>
                  <a:pt x="587" y="692"/>
                </a:lnTo>
                <a:lnTo>
                  <a:pt x="574" y="688"/>
                </a:lnTo>
                <a:lnTo>
                  <a:pt x="561" y="682"/>
                </a:lnTo>
                <a:lnTo>
                  <a:pt x="550" y="674"/>
                </a:lnTo>
                <a:lnTo>
                  <a:pt x="540" y="665"/>
                </a:lnTo>
                <a:lnTo>
                  <a:pt x="531" y="654"/>
                </a:lnTo>
                <a:lnTo>
                  <a:pt x="524" y="643"/>
                </a:lnTo>
                <a:lnTo>
                  <a:pt x="524" y="641"/>
                </a:lnTo>
                <a:lnTo>
                  <a:pt x="505" y="656"/>
                </a:lnTo>
                <a:lnTo>
                  <a:pt x="495" y="661"/>
                </a:lnTo>
                <a:lnTo>
                  <a:pt x="484" y="666"/>
                </a:lnTo>
                <a:lnTo>
                  <a:pt x="473" y="670"/>
                </a:lnTo>
                <a:lnTo>
                  <a:pt x="461" y="673"/>
                </a:lnTo>
                <a:lnTo>
                  <a:pt x="449" y="674"/>
                </a:lnTo>
                <a:lnTo>
                  <a:pt x="437" y="675"/>
                </a:lnTo>
                <a:lnTo>
                  <a:pt x="420" y="674"/>
                </a:lnTo>
                <a:lnTo>
                  <a:pt x="403" y="671"/>
                </a:lnTo>
                <a:lnTo>
                  <a:pt x="388" y="665"/>
                </a:lnTo>
                <a:lnTo>
                  <a:pt x="373" y="658"/>
                </a:lnTo>
                <a:lnTo>
                  <a:pt x="359" y="649"/>
                </a:lnTo>
                <a:lnTo>
                  <a:pt x="347" y="639"/>
                </a:lnTo>
                <a:lnTo>
                  <a:pt x="336" y="627"/>
                </a:lnTo>
                <a:lnTo>
                  <a:pt x="327" y="613"/>
                </a:lnTo>
                <a:lnTo>
                  <a:pt x="326" y="612"/>
                </a:lnTo>
                <a:lnTo>
                  <a:pt x="308" y="621"/>
                </a:lnTo>
                <a:lnTo>
                  <a:pt x="288" y="627"/>
                </a:lnTo>
                <a:lnTo>
                  <a:pt x="268" y="631"/>
                </a:lnTo>
                <a:lnTo>
                  <a:pt x="247" y="632"/>
                </a:lnTo>
                <a:lnTo>
                  <a:pt x="231" y="631"/>
                </a:lnTo>
                <a:lnTo>
                  <a:pt x="215" y="629"/>
                </a:lnTo>
                <a:lnTo>
                  <a:pt x="200" y="625"/>
                </a:lnTo>
                <a:lnTo>
                  <a:pt x="186" y="620"/>
                </a:lnTo>
                <a:lnTo>
                  <a:pt x="172" y="614"/>
                </a:lnTo>
                <a:lnTo>
                  <a:pt x="159" y="607"/>
                </a:lnTo>
                <a:lnTo>
                  <a:pt x="147" y="598"/>
                </a:lnTo>
                <a:lnTo>
                  <a:pt x="135" y="589"/>
                </a:lnTo>
                <a:lnTo>
                  <a:pt x="125" y="578"/>
                </a:lnTo>
                <a:lnTo>
                  <a:pt x="116" y="567"/>
                </a:lnTo>
                <a:lnTo>
                  <a:pt x="108" y="555"/>
                </a:lnTo>
                <a:lnTo>
                  <a:pt x="101" y="542"/>
                </a:lnTo>
                <a:lnTo>
                  <a:pt x="96" y="528"/>
                </a:lnTo>
                <a:lnTo>
                  <a:pt x="92" y="514"/>
                </a:lnTo>
                <a:lnTo>
                  <a:pt x="90" y="499"/>
                </a:lnTo>
                <a:lnTo>
                  <a:pt x="89" y="484"/>
                </a:lnTo>
                <a:lnTo>
                  <a:pt x="90" y="474"/>
                </a:lnTo>
                <a:lnTo>
                  <a:pt x="91" y="464"/>
                </a:lnTo>
                <a:lnTo>
                  <a:pt x="91" y="465"/>
                </a:lnTo>
                <a:close/>
              </a:path>
            </a:pathLst>
          </a:custGeom>
          <a:gradFill rotWithShape="0">
            <a:gsLst>
              <a:gs pos="0">
                <a:srgbClr val="9999c0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6440" y="2163600"/>
            <a:ext cx="199800" cy="36720"/>
          </a:xfrm>
          <a:custGeom>
            <a:avLst/>
            <a:gdLst/>
            <a:ahLst/>
            <a:rect l="l" t="t" r="r" b="b"/>
            <a:pathLst>
              <a:path w="59" h="13">
                <a:moveTo>
                  <a:pt x="0" y="13"/>
                </a:moveTo>
                <a:lnTo>
                  <a:pt x="12" y="7"/>
                </a:lnTo>
                <a:lnTo>
                  <a:pt x="25" y="3"/>
                </a:lnTo>
                <a:lnTo>
                  <a:pt x="38" y="1"/>
                </a:lnTo>
                <a:lnTo>
                  <a:pt x="51" y="0"/>
                </a:lnTo>
                <a:lnTo>
                  <a:pt x="55" y="0"/>
                </a:lnTo>
                <a:lnTo>
                  <a:pt x="59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8400" y="1741320"/>
            <a:ext cx="88920" cy="1764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0"/>
                </a:moveTo>
                <a:lnTo>
                  <a:pt x="13" y="2"/>
                </a:lnTo>
                <a:lnTo>
                  <a:pt x="26" y="6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5720" y="1562040"/>
            <a:ext cx="55440" cy="81000"/>
          </a:xfrm>
          <a:custGeom>
            <a:avLst/>
            <a:gdLst/>
            <a:ahLst/>
            <a:rect l="l" t="t" r="r" b="b"/>
            <a:pathLst>
              <a:path w="16" h="28">
                <a:moveTo>
                  <a:pt x="0" y="28"/>
                </a:moveTo>
                <a:lnTo>
                  <a:pt x="8" y="14"/>
                </a:lnTo>
                <a:lnTo>
                  <a:pt x="16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38760" y="1677960"/>
            <a:ext cx="20520" cy="87480"/>
          </a:xfrm>
          <a:custGeom>
            <a:avLst/>
            <a:gdLst/>
            <a:ahLst/>
            <a:rect l="l" t="t" r="r" b="b"/>
            <a:pathLst>
              <a:path w="6" h="30">
                <a:moveTo>
                  <a:pt x="0" y="0"/>
                </a:moveTo>
                <a:lnTo>
                  <a:pt x="4" y="15"/>
                </a:lnTo>
                <a:lnTo>
                  <a:pt x="6" y="3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3680" y="2544840"/>
            <a:ext cx="114120" cy="123840"/>
          </a:xfrm>
          <a:custGeom>
            <a:avLst/>
            <a:gdLst/>
            <a:ahLst/>
            <a:rect l="l" t="t" r="r" b="b"/>
            <a:pathLst>
              <a:path w="34" h="43">
                <a:moveTo>
                  <a:pt x="0" y="0"/>
                </a:moveTo>
                <a:lnTo>
                  <a:pt x="11" y="10"/>
                </a:lnTo>
                <a:lnTo>
                  <a:pt x="20" y="20"/>
                </a:lnTo>
                <a:lnTo>
                  <a:pt x="27" y="31"/>
                </a:lnTo>
                <a:lnTo>
                  <a:pt x="34" y="43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13120" y="3070080"/>
            <a:ext cx="3240" cy="61920"/>
          </a:xfrm>
          <a:custGeom>
            <a:avLst/>
            <a:gdLst/>
            <a:ahLst/>
            <a:rect l="l" t="t" r="r" b="b"/>
            <a:pathLst>
              <a:path w="1" h="21">
                <a:moveTo>
                  <a:pt x="1" y="0"/>
                </a:moveTo>
                <a:lnTo>
                  <a:pt x="1" y="1"/>
                </a:lnTo>
                <a:lnTo>
                  <a:pt x="1" y="2"/>
                </a:lnTo>
                <a:lnTo>
                  <a:pt x="1" y="11"/>
                </a:lnTo>
                <a:lnTo>
                  <a:pt x="0" y="21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9800" y="3197160"/>
            <a:ext cx="60480" cy="7632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26"/>
                </a:moveTo>
                <a:lnTo>
                  <a:pt x="8" y="1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25760" y="3165480"/>
            <a:ext cx="30240" cy="65160"/>
          </a:xfrm>
          <a:custGeom>
            <a:avLst/>
            <a:gdLst/>
            <a:ahLst/>
            <a:rect l="l" t="t" r="r" b="b"/>
            <a:pathLst>
              <a:path w="9" h="22">
                <a:moveTo>
                  <a:pt x="9" y="22"/>
                </a:moveTo>
                <a:lnTo>
                  <a:pt x="4" y="1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84600" y="3076560"/>
            <a:ext cx="104760" cy="63360"/>
          </a:xfrm>
          <a:custGeom>
            <a:avLst/>
            <a:gdLst/>
            <a:ahLst/>
            <a:rect l="l" t="t" r="r" b="b"/>
            <a:pathLst>
              <a:path w="31" h="22">
                <a:moveTo>
                  <a:pt x="31" y="0"/>
                </a:moveTo>
                <a:lnTo>
                  <a:pt x="16" y="12"/>
                </a:lnTo>
                <a:lnTo>
                  <a:pt x="0" y="22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86120" y="2649600"/>
            <a:ext cx="15840" cy="63360"/>
          </a:xfrm>
          <a:custGeom>
            <a:avLst/>
            <a:gdLst/>
            <a:ahLst/>
            <a:rect l="l" t="t" r="r" b="b"/>
            <a:pathLst>
              <a:path w="5" h="22">
                <a:moveTo>
                  <a:pt x="0" y="22"/>
                </a:moveTo>
                <a:lnTo>
                  <a:pt x="2" y="11"/>
                </a:lnTo>
                <a:lnTo>
                  <a:pt x="5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447920"/>
            <a:ext cx="266400" cy="1904760"/>
            <a:chOff x="3295800" y="1447920"/>
            <a:chExt cx="266400" cy="1904760"/>
          </a:xfrm>
        </p:grpSpPr>
        <p:sp>
          <p:nvSpPr>
            <p:cNvPr id="720" name=""/>
            <p:cNvSpPr/>
            <p:nvPr/>
          </p:nvSpPr>
          <p:spPr>
            <a:xfrm>
              <a:off x="3295800" y="1447920"/>
              <a:ext cx="266400" cy="190476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398400" y="1599840"/>
              <a:ext cx="7920" cy="1752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504960" y="1599840"/>
              <a:ext cx="7920" cy="1752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736640" y="1524240"/>
            <a:ext cx="1581120" cy="1415520"/>
            <a:chOff x="1736640" y="1524240"/>
            <a:chExt cx="1581120" cy="1415520"/>
          </a:xfrm>
        </p:grpSpPr>
        <p:sp>
          <p:nvSpPr>
            <p:cNvPr id="724" name=""/>
            <p:cNvSpPr/>
            <p:nvPr/>
          </p:nvSpPr>
          <p:spPr>
            <a:xfrm rot="2938800">
              <a:off x="2417760" y="1279080"/>
              <a:ext cx="218880" cy="190512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791720" y="1693080"/>
              <a:ext cx="1327320" cy="1144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848960" y="1758960"/>
              <a:ext cx="1327680" cy="1144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569400" y="1464480"/>
            <a:ext cx="1477080" cy="1554120"/>
            <a:chOff x="3569400" y="1464480"/>
            <a:chExt cx="1477080" cy="1554120"/>
          </a:xfrm>
        </p:grpSpPr>
        <p:sp>
          <p:nvSpPr>
            <p:cNvPr id="728" name=""/>
            <p:cNvSpPr/>
            <p:nvPr/>
          </p:nvSpPr>
          <p:spPr>
            <a:xfrm rot="19012800">
              <a:off x="4187880" y="1288800"/>
              <a:ext cx="239760" cy="190476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45800" y="1671120"/>
              <a:ext cx="1192320" cy="1284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6000" y="1605600"/>
              <a:ext cx="1191960" cy="1284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85800" cy="5331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3048120" y="32004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 rot="20340000">
            <a:off x="1766880" y="1942560"/>
            <a:ext cx="2673000" cy="355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40" y="2972"/>
                </a:moveTo>
                <a:arcTo wR="10800" hR="10800" stAng="-2787350" swAng="7305504"/>
                <a:lnTo>
                  <a:pt x="10800" y="10800"/>
                </a:lnTo>
                <a:close/>
              </a:path>
              <a:path fill="none" w="21600" h="21600">
                <a:moveTo>
                  <a:pt x="18240" y="2972"/>
                </a:moveTo>
                <a:arcTo wR="10800" hR="10800" stAng="-2787350" swAng="7305504"/>
              </a:path>
            </a:pathLst>
          </a:custGeom>
          <a:noFill/>
          <a:ln cap="rnd" w="25560">
            <a:solidFill>
              <a:srgbClr val="3333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1295280"/>
            <a:ext cx="1219320" cy="609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rot="1260000">
            <a:off x="2448360" y="2763360"/>
            <a:ext cx="2679480" cy="339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40" y="2972"/>
                </a:moveTo>
                <a:arcTo wR="10800" hR="10800" stAng="-2787350" swAng="7697136"/>
                <a:lnTo>
                  <a:pt x="10800" y="10800"/>
                </a:lnTo>
                <a:close/>
              </a:path>
              <a:path fill="none" w="21600" h="21600">
                <a:moveTo>
                  <a:pt x="18240" y="2972"/>
                </a:moveTo>
                <a:arcTo wR="10800" hR="10800" stAng="-2787350" swAng="7697136"/>
              </a:path>
            </a:pathLst>
          </a:custGeom>
          <a:noFill/>
          <a:ln cap="rnd" w="25560">
            <a:solidFill>
              <a:srgbClr val="3333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12193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n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6400" y="2286000"/>
            <a:ext cx="8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20" y="27432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SL-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05680" y="26668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59b"/>
                </a:solidFill>
                <a:latin typeface="Arial"/>
              </a:rPr>
              <a:t>P2P 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3280" y="339732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icast K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00360" y="35812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ulticast K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81480" y="13716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M/ADSL-Zugangsnetz basiert auf vorkonfigurierten P2P- PVCs zwischen MAS und ADSL-Ho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M-PVCs bilden separate Subnet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ffic-Profil der virtuellen Verbind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cast Kanal: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cast: Kanal:  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2438280"/>
            <a:ext cx="609840" cy="289080"/>
          </a:xfrm>
          <a:prstGeom prst="ellipse">
            <a:avLst/>
          </a:prstGeom>
          <a:noFill/>
          <a:ln w="25560">
            <a:solidFill>
              <a:srgbClr val="ffe59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4440" y="914400"/>
            <a:ext cx="74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ation/Dienstqualität im ATM/ADSL Zugangsnetz mit IP-Multicas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nette-mrtg" descr=""/>
          <p:cNvPicPr/>
          <p:nvPr/>
        </p:nvPicPr>
        <p:blipFill>
          <a:blip r:embed="rId1"/>
          <a:stretch/>
        </p:blipFill>
        <p:spPr>
          <a:xfrm>
            <a:off x="228600" y="1457280"/>
            <a:ext cx="4714920" cy="1971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5105520" y="18288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rgestellt ist der über die FastEthernet- Schnittst. des MAS ein- und ausgehende Datenverkehr im Zeitraum 5/00 - 1/01  (Tagesdurchschnittswerte in kByte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: eth0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 Speed: 12500.0 kByte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00" y="99072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hresüberblick Datendurchsatz des MAS V.1 im ATM/ADSL Zugangsnet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ette-mrtg_atmd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4714920" cy="1971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1800" y="411480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esprofil ATM-Traffic des MAS V.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" y="3505320"/>
            <a:ext cx="557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: anette, RZ RWTH-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anette.rz.rwth-aachen.de (137.226.38.250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05520" y="4876920"/>
            <a:ext cx="403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rgestellt ist der über die ATM-Schnittst. des MAS ein- und ausgehende ATM-Datenverkehr am 18. 01.01 in Cell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terface: ATM Card 0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 Speed: 365.5 kCell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MulticastMessungen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228600" y="1143000"/>
            <a:ext cx="723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-Evaluierung IP-Multicast Access Server V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ast-Datendurchsatz im MAS-Labor-Testbed mit 4 ADSL-Ho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238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981080"/>
            <a:ext cx="1600200" cy="4496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0f0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1981080"/>
            <a:ext cx="6629400" cy="4496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1f1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14800" y="2743200"/>
            <a:ext cx="922320" cy="266688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298320" y="3048120"/>
            <a:ext cx="816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77080" y="28195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841480" y="3504960"/>
            <a:ext cx="0" cy="9903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72160" y="38401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84280" y="2743200"/>
            <a:ext cx="88920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066680" y="39625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1295280" y="5105520"/>
            <a:ext cx="106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46480" y="52578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876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bluetwist" descr=""/>
          <p:cNvPicPr/>
          <p:nvPr/>
        </p:nvPicPr>
        <p:blipFill>
          <a:blip r:embed="rId1"/>
          <a:stretch/>
        </p:blipFill>
        <p:spPr>
          <a:xfrm>
            <a:off x="5029200" y="51451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97120" y="51055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71840" y="61498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e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83280" y="26668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bluetwist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4572000" y="28195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7120" y="28954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73280" y="2514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2971800"/>
            <a:ext cx="5335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6858000" y="2590920"/>
            <a:ext cx="685800" cy="53316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019920" y="502920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945400" y="502920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bluetwist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97120" y="35812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19920" y="358128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5400" y="35812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bluetwist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4572000" y="426708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97120" y="434340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019920" y="434340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45400" y="434340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00800" y="3733920"/>
            <a:ext cx="4557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19920" y="289548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5400" y="28954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61400" y="4873680"/>
            <a:ext cx="561960" cy="536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2160" y="4921200"/>
            <a:ext cx="460440" cy="439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37360" y="4952880"/>
            <a:ext cx="5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6"/>
          <a:stretch/>
        </p:blipFill>
        <p:spPr>
          <a:xfrm>
            <a:off x="762120" y="350532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065240" y="441972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1840" y="22860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EBAX 3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0" y="22860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OMIS 5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58000" y="3352680"/>
            <a:ext cx="685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804" name=""/>
          <p:cNvGrpSpPr/>
          <p:nvPr/>
        </p:nvGrpSpPr>
        <p:grpSpPr>
          <a:xfrm>
            <a:off x="6400800" y="4114800"/>
            <a:ext cx="1143000" cy="533520"/>
            <a:chOff x="6400800" y="4114800"/>
            <a:chExt cx="1143000" cy="533520"/>
          </a:xfrm>
        </p:grpSpPr>
        <p:sp>
          <p:nvSpPr>
            <p:cNvPr id="805" name=""/>
            <p:cNvSpPr/>
            <p:nvPr/>
          </p:nvSpPr>
          <p:spPr>
            <a:xfrm>
              <a:off x="6400800" y="4495680"/>
              <a:ext cx="45576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6" name="" descr=""/>
            <p:cNvPicPr/>
            <p:nvPr/>
          </p:nvPicPr>
          <p:blipFill>
            <a:blip r:embed="rId8"/>
            <a:stretch/>
          </p:blipFill>
          <p:spPr>
            <a:xfrm>
              <a:off x="6858000" y="4114800"/>
              <a:ext cx="68580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"/>
          <p:cNvGrpSpPr/>
          <p:nvPr/>
        </p:nvGrpSpPr>
        <p:grpSpPr>
          <a:xfrm>
            <a:off x="6400800" y="4800600"/>
            <a:ext cx="1143000" cy="533520"/>
            <a:chOff x="6400800" y="4800600"/>
            <a:chExt cx="1143000" cy="533520"/>
          </a:xfrm>
        </p:grpSpPr>
        <p:sp>
          <p:nvSpPr>
            <p:cNvPr id="808" name=""/>
            <p:cNvSpPr/>
            <p:nvPr/>
          </p:nvSpPr>
          <p:spPr>
            <a:xfrm>
              <a:off x="6400800" y="5181480"/>
              <a:ext cx="45576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9"/>
            <a:stretch/>
          </p:blipFill>
          <p:spPr>
            <a:xfrm>
              <a:off x="6858000" y="4800600"/>
              <a:ext cx="6858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"/>
          <p:cNvSpPr/>
          <p:nvPr/>
        </p:nvSpPr>
        <p:spPr>
          <a:xfrm>
            <a:off x="7735680" y="2666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3568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35680" y="411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34240" y="48006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08320" y="4495680"/>
            <a:ext cx="1066680" cy="1600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61680" y="4648320"/>
            <a:ext cx="99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990720" y="3657600"/>
            <a:ext cx="304200" cy="152280"/>
            <a:chOff x="990720" y="3657600"/>
            <a:chExt cx="304200" cy="152280"/>
          </a:xfrm>
        </p:grpSpPr>
        <p:sp>
          <p:nvSpPr>
            <p:cNvPr id="817" name=""/>
            <p:cNvSpPr/>
            <p:nvPr/>
          </p:nvSpPr>
          <p:spPr>
            <a:xfrm>
              <a:off x="990720" y="3657600"/>
              <a:ext cx="15192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8960" y="3657600"/>
              <a:ext cx="759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400800" y="4191120"/>
            <a:ext cx="914040" cy="457200"/>
            <a:chOff x="6400800" y="4191120"/>
            <a:chExt cx="914040" cy="457200"/>
          </a:xfrm>
        </p:grpSpPr>
        <p:grpSp>
          <p:nvGrpSpPr>
            <p:cNvPr id="820" name=""/>
            <p:cNvGrpSpPr/>
            <p:nvPr/>
          </p:nvGrpSpPr>
          <p:grpSpPr>
            <a:xfrm>
              <a:off x="7010640" y="4191120"/>
              <a:ext cx="304200" cy="152280"/>
              <a:chOff x="7010640" y="4191120"/>
              <a:chExt cx="304200" cy="152280"/>
            </a:xfrm>
          </p:grpSpPr>
          <p:sp>
            <p:nvSpPr>
              <p:cNvPr id="821" name=""/>
              <p:cNvSpPr/>
              <p:nvPr/>
            </p:nvSpPr>
            <p:spPr>
              <a:xfrm>
                <a:off x="7010640" y="419112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238880" y="419112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400800" y="434340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914400" y="41148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gradFill rotWithShape="0">
            <a:gsLst>
              <a:gs pos="0">
                <a:srgbClr val="3333cc"/>
              </a:gs>
              <a:gs pos="50000">
                <a:srgbClr val="ff0066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58640" y="6095880"/>
            <a:ext cx="35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TM/ADSL - Netz, NEC  Heidel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52240" y="3505320"/>
            <a:ext cx="4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vidcam02" descr=""/>
          <p:cNvPicPr/>
          <p:nvPr/>
        </p:nvPicPr>
        <p:blipFill>
          <a:blip r:embed="rId10"/>
          <a:stretch/>
        </p:blipFill>
        <p:spPr>
          <a:xfrm>
            <a:off x="609480" y="426708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828" name="sound08" descr=""/>
          <p:cNvPicPr/>
          <p:nvPr/>
        </p:nvPicPr>
        <p:blipFill>
          <a:blip r:embed="rId11"/>
          <a:stretch/>
        </p:blipFill>
        <p:spPr>
          <a:xfrm>
            <a:off x="1219320" y="4267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29" name=""/>
          <p:cNvGrpSpPr/>
          <p:nvPr/>
        </p:nvGrpSpPr>
        <p:grpSpPr>
          <a:xfrm>
            <a:off x="6400800" y="5486400"/>
            <a:ext cx="609480" cy="304920"/>
            <a:chOff x="6400800" y="5486400"/>
            <a:chExt cx="609480" cy="304920"/>
          </a:xfrm>
        </p:grpSpPr>
        <p:pic>
          <p:nvPicPr>
            <p:cNvPr id="830" name="vidcam02" descr=""/>
            <p:cNvPicPr/>
            <p:nvPr/>
          </p:nvPicPr>
          <p:blipFill>
            <a:blip r:embed="rId12"/>
            <a:stretch/>
          </p:blipFill>
          <p:spPr>
            <a:xfrm>
              <a:off x="6400800" y="548640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sound08" descr=""/>
            <p:cNvPicPr/>
            <p:nvPr/>
          </p:nvPicPr>
          <p:blipFill>
            <a:blip r:embed="rId13"/>
            <a:stretch/>
          </p:blipFill>
          <p:spPr>
            <a:xfrm>
              <a:off x="6705720" y="548640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6400800" y="3429000"/>
            <a:ext cx="914040" cy="457200"/>
            <a:chOff x="6400800" y="3429000"/>
            <a:chExt cx="914040" cy="457200"/>
          </a:xfrm>
        </p:grpSpPr>
        <p:grpSp>
          <p:nvGrpSpPr>
            <p:cNvPr id="833" name=""/>
            <p:cNvGrpSpPr/>
            <p:nvPr/>
          </p:nvGrpSpPr>
          <p:grpSpPr>
            <a:xfrm>
              <a:off x="7010640" y="3429000"/>
              <a:ext cx="304200" cy="152280"/>
              <a:chOff x="7010640" y="3429000"/>
              <a:chExt cx="304200" cy="152280"/>
            </a:xfrm>
          </p:grpSpPr>
          <p:sp>
            <p:nvSpPr>
              <p:cNvPr id="834" name=""/>
              <p:cNvSpPr/>
              <p:nvPr/>
            </p:nvSpPr>
            <p:spPr>
              <a:xfrm>
                <a:off x="7010640" y="342900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38880" y="342900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400800" y="358128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400800" y="4876920"/>
            <a:ext cx="914040" cy="457200"/>
            <a:chOff x="6400800" y="4876920"/>
            <a:chExt cx="914040" cy="457200"/>
          </a:xfrm>
        </p:grpSpPr>
        <p:grpSp>
          <p:nvGrpSpPr>
            <p:cNvPr id="838" name=""/>
            <p:cNvGrpSpPr/>
            <p:nvPr/>
          </p:nvGrpSpPr>
          <p:grpSpPr>
            <a:xfrm>
              <a:off x="7010640" y="4876920"/>
              <a:ext cx="304200" cy="152280"/>
              <a:chOff x="7010640" y="4876920"/>
              <a:chExt cx="304200" cy="152280"/>
            </a:xfrm>
          </p:grpSpPr>
          <p:sp>
            <p:nvSpPr>
              <p:cNvPr id="839" name=""/>
              <p:cNvSpPr/>
              <p:nvPr/>
            </p:nvSpPr>
            <p:spPr>
              <a:xfrm>
                <a:off x="7010640" y="487692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38880" y="487692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6400800" y="502920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400800" y="2666880"/>
            <a:ext cx="914040" cy="457200"/>
            <a:chOff x="6400800" y="2666880"/>
            <a:chExt cx="914040" cy="457200"/>
          </a:xfrm>
        </p:grpSpPr>
        <p:grpSp>
          <p:nvGrpSpPr>
            <p:cNvPr id="843" name=""/>
            <p:cNvGrpSpPr/>
            <p:nvPr/>
          </p:nvGrpSpPr>
          <p:grpSpPr>
            <a:xfrm>
              <a:off x="7010640" y="2666880"/>
              <a:ext cx="304200" cy="152280"/>
              <a:chOff x="7010640" y="2666880"/>
              <a:chExt cx="304200" cy="152280"/>
            </a:xfrm>
          </p:grpSpPr>
          <p:sp>
            <p:nvSpPr>
              <p:cNvPr id="844" name=""/>
              <p:cNvSpPr/>
              <p:nvPr/>
            </p:nvSpPr>
            <p:spPr>
              <a:xfrm>
                <a:off x="7010640" y="266688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238880" y="266688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6400800" y="281916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85560" y="1143000"/>
            <a:ext cx="5965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-Evaluierung IP-Multicast Access Server V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bau des MAS-Labor-Testbe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7600" y="22096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13520" y="2133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mpfä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-Evaluierung IP-Multicast Access Server V.1 im Labor-Testb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bed-Komponen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Sen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l Pentium II 300 MHz,128 MB Hauptspeicher und Intel EtherExpress Pro 10/100 Netzwerkk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Multicast Access Serv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nette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al Pentium III 500 MHz mit 512 MB Hauptspeicher und 3COM 3c905c Netzwerkkarte, ForeRunner 155LE 155 Mbit/s ATM-K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4 ADSL-Clien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iedl. low-end PCs mit je ForeRunner 25LE 25 Mbit/s ATM-K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Switche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Xylan Ethernet Switch, NEC ATOMIS 5se ATM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ADSL Device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EC Optical Network Unit  (NEBAX 300), 4 NEC ADSL Mod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iguratin ATM-PVCs für Multicast-Traffic: 4 Mbits/s pro ADSL-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ßprogramm: modifizierte Version von nttcp V. 1.46, Messung Datendurch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zykl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n von Multicast-Datenströmem zu den 4 ADSL-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tion der Datenraten (0.8 Mbits/s - 4.3 Mbits/s) und Vergleich Sender-/Empfänger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ergebnis: MAS überträgt verlustfrei und synchron zu allen Hosts im Testb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ußfolgerung: Leistungsfähigkeit  MAS V.1 voll ausreichend für die derzeit in Aachen gegebene ATM/ADSL Netzinfrastruktur, Engpässe sind nicht zu erw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09480" y="1600200"/>
            <a:ext cx="3810240" cy="4786200"/>
          </a:xfrm>
          <a:prstGeom prst="rect">
            <a:avLst/>
          </a:prstGeom>
          <a:gradFill rotWithShape="0">
            <a:gsLst>
              <a:gs pos="0">
                <a:srgbClr val="dcdc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saufw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 Verfügbarkeit und Betriebsfäh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 direktes IP-Multi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ektive Konfigurations- kontrolle, da  jeder PVC separates Subnetz bil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he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gute Performance und Testergebni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stungsfähigkeit voll ausreichend für ADSL-Netz bis zu 24 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0" y="1600200"/>
            <a:ext cx="3809880" cy="4786200"/>
          </a:xfrm>
          <a:prstGeom prst="rect">
            <a:avLst/>
          </a:prstGeom>
          <a:gradFill rotWithShape="0">
            <a:gsLst>
              <a:gs pos="0">
                <a:srgbClr val="dfdf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cast Daten-Replikation durch Router-Dae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bei größerer Anzahl von Hosts zu Leistungs-engpässen füh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r ATM-PVC zu den ADSL Hosts bildet separates Subn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alierbar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igurationsaufw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ungen im Zugangsnetz erfordern Reboot von MAS &amp;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56080" y="1066680"/>
            <a:ext cx="49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 des IP-Multicast Access Server V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2 Multicast Access Server V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er Lösungsansatz für IP-Multicast über AT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S (Multicast Address Resolution Server)/ MCS (Multicas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S verwaltet Daten über die Abbildung von Multicast Adressen der Vermittlungssch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CS übernimmt die Multicast-Kommunikation (Replication/Forwa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FC 2022, IETF proposed standard, basiert auf ATM-Netzen mit SV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derzeit keine ATM-SVC Unterstützung im Zugangsnet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&gt; Multicast over PVC: NEC Lösungsansatz für Zugangs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MARS/MCS für ATM-Netzwerke basierend auf ATM PV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ARS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pping von IP-Multicast-Adressen auf ATM-Adressen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CS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likation und Weiterleiten der Multicast-Daten, Anbindung Hosts und MCS über ATM-PV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3/4 00: Implementierung Prototyp MoPVC unter LINUX mit eingeschränktem Funktionsumfang un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3/4 00: Integration des Medienfilters in MCS und Evalu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2 Multicast Access Server V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689040" y="1617840"/>
            <a:ext cx="3423600" cy="2010960"/>
            <a:chOff x="689040" y="1617840"/>
            <a:chExt cx="3423600" cy="2010960"/>
          </a:xfrm>
        </p:grpSpPr>
        <p:sp>
          <p:nvSpPr>
            <p:cNvPr id="860" name=""/>
            <p:cNvSpPr/>
            <p:nvPr/>
          </p:nvSpPr>
          <p:spPr>
            <a:xfrm>
              <a:off x="689040" y="1617840"/>
              <a:ext cx="3423600" cy="2010960"/>
            </a:xfrm>
            <a:custGeom>
              <a:avLst/>
              <a:gdLst/>
              <a:ahLst/>
              <a:rect l="l" t="t" r="r" b="b"/>
              <a:pathLst>
                <a:path w="1008" h="696">
                  <a:moveTo>
                    <a:pt x="91" y="465"/>
                  </a:moveTo>
                  <a:lnTo>
                    <a:pt x="72" y="461"/>
                  </a:lnTo>
                  <a:lnTo>
                    <a:pt x="55" y="455"/>
                  </a:lnTo>
                  <a:lnTo>
                    <a:pt x="39" y="445"/>
                  </a:lnTo>
                  <a:lnTo>
                    <a:pt x="26" y="434"/>
                  </a:lnTo>
                  <a:lnTo>
                    <a:pt x="15" y="420"/>
                  </a:lnTo>
                  <a:lnTo>
                    <a:pt x="7" y="404"/>
                  </a:lnTo>
                  <a:lnTo>
                    <a:pt x="2" y="387"/>
                  </a:lnTo>
                  <a:lnTo>
                    <a:pt x="0" y="369"/>
                  </a:lnTo>
                  <a:lnTo>
                    <a:pt x="1" y="356"/>
                  </a:lnTo>
                  <a:lnTo>
                    <a:pt x="3" y="344"/>
                  </a:lnTo>
                  <a:lnTo>
                    <a:pt x="8" y="333"/>
                  </a:lnTo>
                  <a:lnTo>
                    <a:pt x="13" y="322"/>
                  </a:lnTo>
                  <a:lnTo>
                    <a:pt x="21" y="311"/>
                  </a:lnTo>
                  <a:lnTo>
                    <a:pt x="29" y="302"/>
                  </a:lnTo>
                  <a:lnTo>
                    <a:pt x="39" y="294"/>
                  </a:lnTo>
                  <a:lnTo>
                    <a:pt x="50" y="287"/>
                  </a:lnTo>
                  <a:lnTo>
                    <a:pt x="50" y="288"/>
                  </a:lnTo>
                  <a:lnTo>
                    <a:pt x="38" y="274"/>
                  </a:lnTo>
                  <a:lnTo>
                    <a:pt x="29" y="258"/>
                  </a:lnTo>
                  <a:lnTo>
                    <a:pt x="24" y="241"/>
                  </a:lnTo>
                  <a:lnTo>
                    <a:pt x="22" y="223"/>
                  </a:lnTo>
                  <a:lnTo>
                    <a:pt x="23" y="213"/>
                  </a:lnTo>
                  <a:lnTo>
                    <a:pt x="24" y="204"/>
                  </a:lnTo>
                  <a:lnTo>
                    <a:pt x="30" y="186"/>
                  </a:lnTo>
                  <a:lnTo>
                    <a:pt x="40" y="169"/>
                  </a:lnTo>
                  <a:lnTo>
                    <a:pt x="52" y="155"/>
                  </a:lnTo>
                  <a:lnTo>
                    <a:pt x="67" y="143"/>
                  </a:lnTo>
                  <a:lnTo>
                    <a:pt x="84" y="135"/>
                  </a:lnTo>
                  <a:lnTo>
                    <a:pt x="104" y="129"/>
                  </a:lnTo>
                  <a:lnTo>
                    <a:pt x="114" y="128"/>
                  </a:lnTo>
                  <a:lnTo>
                    <a:pt x="124" y="127"/>
                  </a:lnTo>
                  <a:lnTo>
                    <a:pt x="130" y="128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48" y="108"/>
                  </a:lnTo>
                  <a:lnTo>
                    <a:pt x="164" y="91"/>
                  </a:lnTo>
                  <a:lnTo>
                    <a:pt x="182" y="77"/>
                  </a:lnTo>
                  <a:lnTo>
                    <a:pt x="201" y="65"/>
                  </a:lnTo>
                  <a:lnTo>
                    <a:pt x="222" y="55"/>
                  </a:lnTo>
                  <a:lnTo>
                    <a:pt x="245" y="48"/>
                  </a:lnTo>
                  <a:lnTo>
                    <a:pt x="268" y="44"/>
                  </a:lnTo>
                  <a:lnTo>
                    <a:pt x="292" y="42"/>
                  </a:lnTo>
                  <a:lnTo>
                    <a:pt x="316" y="44"/>
                  </a:lnTo>
                  <a:lnTo>
                    <a:pt x="340" y="48"/>
                  </a:lnTo>
                  <a:lnTo>
                    <a:pt x="362" y="56"/>
                  </a:lnTo>
                  <a:lnTo>
                    <a:pt x="384" y="66"/>
                  </a:lnTo>
                  <a:lnTo>
                    <a:pt x="384" y="66"/>
                  </a:lnTo>
                  <a:lnTo>
                    <a:pt x="396" y="51"/>
                  </a:lnTo>
                  <a:lnTo>
                    <a:pt x="409" y="38"/>
                  </a:lnTo>
                  <a:lnTo>
                    <a:pt x="424" y="27"/>
                  </a:lnTo>
                  <a:lnTo>
                    <a:pt x="441" y="18"/>
                  </a:lnTo>
                  <a:lnTo>
                    <a:pt x="458" y="10"/>
                  </a:lnTo>
                  <a:lnTo>
                    <a:pt x="476" y="5"/>
                  </a:lnTo>
                  <a:lnTo>
                    <a:pt x="495" y="1"/>
                  </a:lnTo>
                  <a:lnTo>
                    <a:pt x="515" y="0"/>
                  </a:lnTo>
                  <a:lnTo>
                    <a:pt x="528" y="1"/>
                  </a:lnTo>
                  <a:lnTo>
                    <a:pt x="541" y="2"/>
                  </a:lnTo>
                  <a:lnTo>
                    <a:pt x="565" y="8"/>
                  </a:lnTo>
                  <a:lnTo>
                    <a:pt x="588" y="17"/>
                  </a:lnTo>
                  <a:lnTo>
                    <a:pt x="609" y="29"/>
                  </a:lnTo>
                  <a:lnTo>
                    <a:pt x="628" y="45"/>
                  </a:lnTo>
                  <a:lnTo>
                    <a:pt x="644" y="63"/>
                  </a:lnTo>
                  <a:lnTo>
                    <a:pt x="657" y="83"/>
                  </a:lnTo>
                  <a:lnTo>
                    <a:pt x="666" y="106"/>
                  </a:lnTo>
                  <a:lnTo>
                    <a:pt x="666" y="105"/>
                  </a:lnTo>
                  <a:lnTo>
                    <a:pt x="682" y="97"/>
                  </a:lnTo>
                  <a:lnTo>
                    <a:pt x="700" y="91"/>
                  </a:lnTo>
                  <a:lnTo>
                    <a:pt x="718" y="87"/>
                  </a:lnTo>
                  <a:lnTo>
                    <a:pt x="737" y="86"/>
                  </a:lnTo>
                  <a:lnTo>
                    <a:pt x="751" y="87"/>
                  </a:lnTo>
                  <a:lnTo>
                    <a:pt x="764" y="89"/>
                  </a:lnTo>
                  <a:lnTo>
                    <a:pt x="777" y="92"/>
                  </a:lnTo>
                  <a:lnTo>
                    <a:pt x="790" y="96"/>
                  </a:lnTo>
                  <a:lnTo>
                    <a:pt x="802" y="101"/>
                  </a:lnTo>
                  <a:lnTo>
                    <a:pt x="813" y="107"/>
                  </a:lnTo>
                  <a:lnTo>
                    <a:pt x="833" y="123"/>
                  </a:lnTo>
                  <a:lnTo>
                    <a:pt x="841" y="132"/>
                  </a:lnTo>
                  <a:lnTo>
                    <a:pt x="849" y="141"/>
                  </a:lnTo>
                  <a:lnTo>
                    <a:pt x="856" y="151"/>
                  </a:lnTo>
                  <a:lnTo>
                    <a:pt x="861" y="162"/>
                  </a:lnTo>
                  <a:lnTo>
                    <a:pt x="866" y="174"/>
                  </a:lnTo>
                  <a:lnTo>
                    <a:pt x="869" y="186"/>
                  </a:lnTo>
                  <a:lnTo>
                    <a:pt x="871" y="198"/>
                  </a:lnTo>
                  <a:lnTo>
                    <a:pt x="872" y="211"/>
                  </a:lnTo>
                  <a:lnTo>
                    <a:pt x="872" y="212"/>
                  </a:lnTo>
                  <a:lnTo>
                    <a:pt x="886" y="215"/>
                  </a:lnTo>
                  <a:lnTo>
                    <a:pt x="900" y="218"/>
                  </a:lnTo>
                  <a:lnTo>
                    <a:pt x="914" y="223"/>
                  </a:lnTo>
                  <a:lnTo>
                    <a:pt x="926" y="229"/>
                  </a:lnTo>
                  <a:lnTo>
                    <a:pt x="949" y="243"/>
                  </a:lnTo>
                  <a:lnTo>
                    <a:pt x="969" y="262"/>
                  </a:lnTo>
                  <a:lnTo>
                    <a:pt x="978" y="272"/>
                  </a:lnTo>
                  <a:lnTo>
                    <a:pt x="986" y="283"/>
                  </a:lnTo>
                  <a:lnTo>
                    <a:pt x="992" y="294"/>
                  </a:lnTo>
                  <a:lnTo>
                    <a:pt x="998" y="306"/>
                  </a:lnTo>
                  <a:lnTo>
                    <a:pt x="1002" y="319"/>
                  </a:lnTo>
                  <a:lnTo>
                    <a:pt x="1005" y="332"/>
                  </a:lnTo>
                  <a:lnTo>
                    <a:pt x="1007" y="345"/>
                  </a:lnTo>
                  <a:lnTo>
                    <a:pt x="1008" y="359"/>
                  </a:lnTo>
                  <a:lnTo>
                    <a:pt x="1007" y="371"/>
                  </a:lnTo>
                  <a:lnTo>
                    <a:pt x="1006" y="383"/>
                  </a:lnTo>
                  <a:lnTo>
                    <a:pt x="1003" y="395"/>
                  </a:lnTo>
                  <a:lnTo>
                    <a:pt x="999" y="406"/>
                  </a:lnTo>
                  <a:lnTo>
                    <a:pt x="989" y="429"/>
                  </a:lnTo>
                  <a:lnTo>
                    <a:pt x="975" y="449"/>
                  </a:lnTo>
                  <a:lnTo>
                    <a:pt x="975" y="449"/>
                  </a:lnTo>
                  <a:lnTo>
                    <a:pt x="979" y="460"/>
                  </a:lnTo>
                  <a:lnTo>
                    <a:pt x="982" y="472"/>
                  </a:lnTo>
                  <a:lnTo>
                    <a:pt x="984" y="483"/>
                  </a:lnTo>
                  <a:lnTo>
                    <a:pt x="985" y="495"/>
                  </a:lnTo>
                  <a:lnTo>
                    <a:pt x="983" y="515"/>
                  </a:lnTo>
                  <a:lnTo>
                    <a:pt x="978" y="533"/>
                  </a:lnTo>
                  <a:lnTo>
                    <a:pt x="970" y="550"/>
                  </a:lnTo>
                  <a:lnTo>
                    <a:pt x="959" y="566"/>
                  </a:lnTo>
                  <a:lnTo>
                    <a:pt x="946" y="580"/>
                  </a:lnTo>
                  <a:lnTo>
                    <a:pt x="930" y="592"/>
                  </a:lnTo>
                  <a:lnTo>
                    <a:pt x="912" y="601"/>
                  </a:lnTo>
                  <a:lnTo>
                    <a:pt x="893" y="608"/>
                  </a:lnTo>
                  <a:lnTo>
                    <a:pt x="894" y="609"/>
                  </a:lnTo>
                  <a:lnTo>
                    <a:pt x="889" y="627"/>
                  </a:lnTo>
                  <a:lnTo>
                    <a:pt x="880" y="644"/>
                  </a:lnTo>
                  <a:lnTo>
                    <a:pt x="869" y="659"/>
                  </a:lnTo>
                  <a:lnTo>
                    <a:pt x="855" y="671"/>
                  </a:lnTo>
                  <a:lnTo>
                    <a:pt x="839" y="682"/>
                  </a:lnTo>
                  <a:lnTo>
                    <a:pt x="821" y="689"/>
                  </a:lnTo>
                  <a:lnTo>
                    <a:pt x="802" y="694"/>
                  </a:lnTo>
                  <a:lnTo>
                    <a:pt x="782" y="696"/>
                  </a:lnTo>
                  <a:lnTo>
                    <a:pt x="770" y="695"/>
                  </a:lnTo>
                  <a:lnTo>
                    <a:pt x="758" y="693"/>
                  </a:lnTo>
                  <a:lnTo>
                    <a:pt x="746" y="690"/>
                  </a:lnTo>
                  <a:lnTo>
                    <a:pt x="735" y="686"/>
                  </a:lnTo>
                  <a:lnTo>
                    <a:pt x="724" y="681"/>
                  </a:lnTo>
                  <a:lnTo>
                    <a:pt x="714" y="674"/>
                  </a:lnTo>
                  <a:lnTo>
                    <a:pt x="704" y="667"/>
                  </a:lnTo>
                  <a:lnTo>
                    <a:pt x="696" y="658"/>
                  </a:lnTo>
                  <a:lnTo>
                    <a:pt x="696" y="658"/>
                  </a:lnTo>
                  <a:lnTo>
                    <a:pt x="688" y="667"/>
                  </a:lnTo>
                  <a:lnTo>
                    <a:pt x="680" y="674"/>
                  </a:lnTo>
                  <a:lnTo>
                    <a:pt x="670" y="681"/>
                  </a:lnTo>
                  <a:lnTo>
                    <a:pt x="660" y="686"/>
                  </a:lnTo>
                  <a:lnTo>
                    <a:pt x="650" y="690"/>
                  </a:lnTo>
                  <a:lnTo>
                    <a:pt x="639" y="693"/>
                  </a:lnTo>
                  <a:lnTo>
                    <a:pt x="627" y="695"/>
                  </a:lnTo>
                  <a:lnTo>
                    <a:pt x="615" y="696"/>
                  </a:lnTo>
                  <a:lnTo>
                    <a:pt x="601" y="695"/>
                  </a:lnTo>
                  <a:lnTo>
                    <a:pt x="587" y="692"/>
                  </a:lnTo>
                  <a:lnTo>
                    <a:pt x="574" y="688"/>
                  </a:lnTo>
                  <a:lnTo>
                    <a:pt x="561" y="682"/>
                  </a:lnTo>
                  <a:lnTo>
                    <a:pt x="550" y="674"/>
                  </a:lnTo>
                  <a:lnTo>
                    <a:pt x="540" y="665"/>
                  </a:lnTo>
                  <a:lnTo>
                    <a:pt x="531" y="654"/>
                  </a:lnTo>
                  <a:lnTo>
                    <a:pt x="524" y="643"/>
                  </a:lnTo>
                  <a:lnTo>
                    <a:pt x="524" y="641"/>
                  </a:lnTo>
                  <a:lnTo>
                    <a:pt x="505" y="656"/>
                  </a:lnTo>
                  <a:lnTo>
                    <a:pt x="495" y="661"/>
                  </a:lnTo>
                  <a:lnTo>
                    <a:pt x="484" y="666"/>
                  </a:lnTo>
                  <a:lnTo>
                    <a:pt x="473" y="670"/>
                  </a:lnTo>
                  <a:lnTo>
                    <a:pt x="461" y="673"/>
                  </a:lnTo>
                  <a:lnTo>
                    <a:pt x="449" y="674"/>
                  </a:lnTo>
                  <a:lnTo>
                    <a:pt x="437" y="675"/>
                  </a:lnTo>
                  <a:lnTo>
                    <a:pt x="420" y="674"/>
                  </a:lnTo>
                  <a:lnTo>
                    <a:pt x="403" y="671"/>
                  </a:lnTo>
                  <a:lnTo>
                    <a:pt x="388" y="665"/>
                  </a:lnTo>
                  <a:lnTo>
                    <a:pt x="373" y="658"/>
                  </a:lnTo>
                  <a:lnTo>
                    <a:pt x="359" y="649"/>
                  </a:lnTo>
                  <a:lnTo>
                    <a:pt x="347" y="639"/>
                  </a:lnTo>
                  <a:lnTo>
                    <a:pt x="336" y="627"/>
                  </a:lnTo>
                  <a:lnTo>
                    <a:pt x="327" y="613"/>
                  </a:lnTo>
                  <a:lnTo>
                    <a:pt x="326" y="612"/>
                  </a:lnTo>
                  <a:lnTo>
                    <a:pt x="308" y="621"/>
                  </a:lnTo>
                  <a:lnTo>
                    <a:pt x="288" y="627"/>
                  </a:lnTo>
                  <a:lnTo>
                    <a:pt x="268" y="631"/>
                  </a:lnTo>
                  <a:lnTo>
                    <a:pt x="247" y="632"/>
                  </a:lnTo>
                  <a:lnTo>
                    <a:pt x="231" y="631"/>
                  </a:lnTo>
                  <a:lnTo>
                    <a:pt x="215" y="629"/>
                  </a:lnTo>
                  <a:lnTo>
                    <a:pt x="200" y="625"/>
                  </a:lnTo>
                  <a:lnTo>
                    <a:pt x="186" y="620"/>
                  </a:lnTo>
                  <a:lnTo>
                    <a:pt x="172" y="614"/>
                  </a:lnTo>
                  <a:lnTo>
                    <a:pt x="159" y="607"/>
                  </a:lnTo>
                  <a:lnTo>
                    <a:pt x="147" y="598"/>
                  </a:lnTo>
                  <a:lnTo>
                    <a:pt x="135" y="589"/>
                  </a:lnTo>
                  <a:lnTo>
                    <a:pt x="125" y="578"/>
                  </a:lnTo>
                  <a:lnTo>
                    <a:pt x="116" y="567"/>
                  </a:lnTo>
                  <a:lnTo>
                    <a:pt x="108" y="555"/>
                  </a:lnTo>
                  <a:lnTo>
                    <a:pt x="101" y="542"/>
                  </a:lnTo>
                  <a:lnTo>
                    <a:pt x="96" y="528"/>
                  </a:lnTo>
                  <a:lnTo>
                    <a:pt x="92" y="514"/>
                  </a:lnTo>
                  <a:lnTo>
                    <a:pt x="90" y="499"/>
                  </a:lnTo>
                  <a:lnTo>
                    <a:pt x="89" y="484"/>
                  </a:lnTo>
                  <a:lnTo>
                    <a:pt x="90" y="474"/>
                  </a:lnTo>
                  <a:lnTo>
                    <a:pt x="91" y="464"/>
                  </a:lnTo>
                  <a:lnTo>
                    <a:pt x="91" y="4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9040" y="1617840"/>
              <a:ext cx="3423600" cy="2010960"/>
            </a:xfrm>
            <a:custGeom>
              <a:avLst/>
              <a:gdLst/>
              <a:ahLst/>
              <a:rect l="l" t="t" r="r" b="b"/>
              <a:pathLst>
                <a:path w="1008" h="696">
                  <a:moveTo>
                    <a:pt x="91" y="465"/>
                  </a:moveTo>
                  <a:lnTo>
                    <a:pt x="72" y="461"/>
                  </a:lnTo>
                  <a:lnTo>
                    <a:pt x="55" y="455"/>
                  </a:lnTo>
                  <a:lnTo>
                    <a:pt x="39" y="445"/>
                  </a:lnTo>
                  <a:lnTo>
                    <a:pt x="26" y="434"/>
                  </a:lnTo>
                  <a:lnTo>
                    <a:pt x="15" y="420"/>
                  </a:lnTo>
                  <a:lnTo>
                    <a:pt x="7" y="404"/>
                  </a:lnTo>
                  <a:lnTo>
                    <a:pt x="2" y="387"/>
                  </a:lnTo>
                  <a:lnTo>
                    <a:pt x="0" y="369"/>
                  </a:lnTo>
                  <a:lnTo>
                    <a:pt x="1" y="356"/>
                  </a:lnTo>
                  <a:lnTo>
                    <a:pt x="3" y="344"/>
                  </a:lnTo>
                  <a:lnTo>
                    <a:pt x="8" y="333"/>
                  </a:lnTo>
                  <a:lnTo>
                    <a:pt x="13" y="322"/>
                  </a:lnTo>
                  <a:lnTo>
                    <a:pt x="21" y="311"/>
                  </a:lnTo>
                  <a:lnTo>
                    <a:pt x="29" y="302"/>
                  </a:lnTo>
                  <a:lnTo>
                    <a:pt x="39" y="294"/>
                  </a:lnTo>
                  <a:lnTo>
                    <a:pt x="50" y="287"/>
                  </a:lnTo>
                  <a:lnTo>
                    <a:pt x="50" y="288"/>
                  </a:lnTo>
                  <a:lnTo>
                    <a:pt x="38" y="274"/>
                  </a:lnTo>
                  <a:lnTo>
                    <a:pt x="29" y="258"/>
                  </a:lnTo>
                  <a:lnTo>
                    <a:pt x="24" y="241"/>
                  </a:lnTo>
                  <a:lnTo>
                    <a:pt x="22" y="223"/>
                  </a:lnTo>
                  <a:lnTo>
                    <a:pt x="23" y="213"/>
                  </a:lnTo>
                  <a:lnTo>
                    <a:pt x="24" y="204"/>
                  </a:lnTo>
                  <a:lnTo>
                    <a:pt x="30" y="186"/>
                  </a:lnTo>
                  <a:lnTo>
                    <a:pt x="40" y="169"/>
                  </a:lnTo>
                  <a:lnTo>
                    <a:pt x="52" y="155"/>
                  </a:lnTo>
                  <a:lnTo>
                    <a:pt x="67" y="143"/>
                  </a:lnTo>
                  <a:lnTo>
                    <a:pt x="84" y="135"/>
                  </a:lnTo>
                  <a:lnTo>
                    <a:pt x="104" y="129"/>
                  </a:lnTo>
                  <a:lnTo>
                    <a:pt x="114" y="128"/>
                  </a:lnTo>
                  <a:lnTo>
                    <a:pt x="124" y="127"/>
                  </a:lnTo>
                  <a:lnTo>
                    <a:pt x="130" y="128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48" y="108"/>
                  </a:lnTo>
                  <a:lnTo>
                    <a:pt x="164" y="91"/>
                  </a:lnTo>
                  <a:lnTo>
                    <a:pt x="182" y="77"/>
                  </a:lnTo>
                  <a:lnTo>
                    <a:pt x="201" y="65"/>
                  </a:lnTo>
                  <a:lnTo>
                    <a:pt x="222" y="55"/>
                  </a:lnTo>
                  <a:lnTo>
                    <a:pt x="245" y="48"/>
                  </a:lnTo>
                  <a:lnTo>
                    <a:pt x="268" y="44"/>
                  </a:lnTo>
                  <a:lnTo>
                    <a:pt x="292" y="42"/>
                  </a:lnTo>
                  <a:lnTo>
                    <a:pt x="316" y="44"/>
                  </a:lnTo>
                  <a:lnTo>
                    <a:pt x="340" y="48"/>
                  </a:lnTo>
                  <a:lnTo>
                    <a:pt x="362" y="56"/>
                  </a:lnTo>
                  <a:lnTo>
                    <a:pt x="384" y="66"/>
                  </a:lnTo>
                  <a:lnTo>
                    <a:pt x="384" y="66"/>
                  </a:lnTo>
                  <a:lnTo>
                    <a:pt x="396" y="51"/>
                  </a:lnTo>
                  <a:lnTo>
                    <a:pt x="409" y="38"/>
                  </a:lnTo>
                  <a:lnTo>
                    <a:pt x="424" y="27"/>
                  </a:lnTo>
                  <a:lnTo>
                    <a:pt x="441" y="18"/>
                  </a:lnTo>
                  <a:lnTo>
                    <a:pt x="458" y="10"/>
                  </a:lnTo>
                  <a:lnTo>
                    <a:pt x="476" y="5"/>
                  </a:lnTo>
                  <a:lnTo>
                    <a:pt x="495" y="1"/>
                  </a:lnTo>
                  <a:lnTo>
                    <a:pt x="515" y="0"/>
                  </a:lnTo>
                  <a:lnTo>
                    <a:pt x="528" y="1"/>
                  </a:lnTo>
                  <a:lnTo>
                    <a:pt x="541" y="2"/>
                  </a:lnTo>
                  <a:lnTo>
                    <a:pt x="565" y="8"/>
                  </a:lnTo>
                  <a:lnTo>
                    <a:pt x="588" y="17"/>
                  </a:lnTo>
                  <a:lnTo>
                    <a:pt x="609" y="29"/>
                  </a:lnTo>
                  <a:lnTo>
                    <a:pt x="628" y="45"/>
                  </a:lnTo>
                  <a:lnTo>
                    <a:pt x="644" y="63"/>
                  </a:lnTo>
                  <a:lnTo>
                    <a:pt x="657" y="83"/>
                  </a:lnTo>
                  <a:lnTo>
                    <a:pt x="666" y="106"/>
                  </a:lnTo>
                  <a:lnTo>
                    <a:pt x="666" y="105"/>
                  </a:lnTo>
                  <a:lnTo>
                    <a:pt x="682" y="97"/>
                  </a:lnTo>
                  <a:lnTo>
                    <a:pt x="700" y="91"/>
                  </a:lnTo>
                  <a:lnTo>
                    <a:pt x="718" y="87"/>
                  </a:lnTo>
                  <a:lnTo>
                    <a:pt x="737" y="86"/>
                  </a:lnTo>
                  <a:lnTo>
                    <a:pt x="751" y="87"/>
                  </a:lnTo>
                  <a:lnTo>
                    <a:pt x="764" y="89"/>
                  </a:lnTo>
                  <a:lnTo>
                    <a:pt x="777" y="92"/>
                  </a:lnTo>
                  <a:lnTo>
                    <a:pt x="790" y="96"/>
                  </a:lnTo>
                  <a:lnTo>
                    <a:pt x="802" y="101"/>
                  </a:lnTo>
                  <a:lnTo>
                    <a:pt x="813" y="107"/>
                  </a:lnTo>
                  <a:lnTo>
                    <a:pt x="833" y="123"/>
                  </a:lnTo>
                  <a:lnTo>
                    <a:pt x="841" y="132"/>
                  </a:lnTo>
                  <a:lnTo>
                    <a:pt x="849" y="141"/>
                  </a:lnTo>
                  <a:lnTo>
                    <a:pt x="856" y="151"/>
                  </a:lnTo>
                  <a:lnTo>
                    <a:pt x="861" y="162"/>
                  </a:lnTo>
                  <a:lnTo>
                    <a:pt x="866" y="174"/>
                  </a:lnTo>
                  <a:lnTo>
                    <a:pt x="869" y="186"/>
                  </a:lnTo>
                  <a:lnTo>
                    <a:pt x="871" y="198"/>
                  </a:lnTo>
                  <a:lnTo>
                    <a:pt x="872" y="211"/>
                  </a:lnTo>
                  <a:lnTo>
                    <a:pt x="872" y="212"/>
                  </a:lnTo>
                  <a:lnTo>
                    <a:pt x="886" y="215"/>
                  </a:lnTo>
                  <a:lnTo>
                    <a:pt x="900" y="218"/>
                  </a:lnTo>
                  <a:lnTo>
                    <a:pt x="914" y="223"/>
                  </a:lnTo>
                  <a:lnTo>
                    <a:pt x="926" y="229"/>
                  </a:lnTo>
                  <a:lnTo>
                    <a:pt x="949" y="243"/>
                  </a:lnTo>
                  <a:lnTo>
                    <a:pt x="969" y="262"/>
                  </a:lnTo>
                  <a:lnTo>
                    <a:pt x="978" y="272"/>
                  </a:lnTo>
                  <a:lnTo>
                    <a:pt x="986" y="283"/>
                  </a:lnTo>
                  <a:lnTo>
                    <a:pt x="992" y="294"/>
                  </a:lnTo>
                  <a:lnTo>
                    <a:pt x="998" y="306"/>
                  </a:lnTo>
                  <a:lnTo>
                    <a:pt x="1002" y="319"/>
                  </a:lnTo>
                  <a:lnTo>
                    <a:pt x="1005" y="332"/>
                  </a:lnTo>
                  <a:lnTo>
                    <a:pt x="1007" y="345"/>
                  </a:lnTo>
                  <a:lnTo>
                    <a:pt x="1008" y="359"/>
                  </a:lnTo>
                  <a:lnTo>
                    <a:pt x="1007" y="371"/>
                  </a:lnTo>
                  <a:lnTo>
                    <a:pt x="1006" y="383"/>
                  </a:lnTo>
                  <a:lnTo>
                    <a:pt x="1003" y="395"/>
                  </a:lnTo>
                  <a:lnTo>
                    <a:pt x="999" y="406"/>
                  </a:lnTo>
                  <a:lnTo>
                    <a:pt x="989" y="429"/>
                  </a:lnTo>
                  <a:lnTo>
                    <a:pt x="975" y="449"/>
                  </a:lnTo>
                  <a:lnTo>
                    <a:pt x="975" y="449"/>
                  </a:lnTo>
                  <a:lnTo>
                    <a:pt x="979" y="460"/>
                  </a:lnTo>
                  <a:lnTo>
                    <a:pt x="982" y="472"/>
                  </a:lnTo>
                  <a:lnTo>
                    <a:pt x="984" y="483"/>
                  </a:lnTo>
                  <a:lnTo>
                    <a:pt x="985" y="495"/>
                  </a:lnTo>
                  <a:lnTo>
                    <a:pt x="983" y="515"/>
                  </a:lnTo>
                  <a:lnTo>
                    <a:pt x="978" y="533"/>
                  </a:lnTo>
                  <a:lnTo>
                    <a:pt x="970" y="550"/>
                  </a:lnTo>
                  <a:lnTo>
                    <a:pt x="959" y="566"/>
                  </a:lnTo>
                  <a:lnTo>
                    <a:pt x="946" y="580"/>
                  </a:lnTo>
                  <a:lnTo>
                    <a:pt x="930" y="592"/>
                  </a:lnTo>
                  <a:lnTo>
                    <a:pt x="912" y="601"/>
                  </a:lnTo>
                  <a:lnTo>
                    <a:pt x="893" y="608"/>
                  </a:lnTo>
                  <a:lnTo>
                    <a:pt x="894" y="609"/>
                  </a:lnTo>
                  <a:lnTo>
                    <a:pt x="889" y="627"/>
                  </a:lnTo>
                  <a:lnTo>
                    <a:pt x="880" y="644"/>
                  </a:lnTo>
                  <a:lnTo>
                    <a:pt x="869" y="659"/>
                  </a:lnTo>
                  <a:lnTo>
                    <a:pt x="855" y="671"/>
                  </a:lnTo>
                  <a:lnTo>
                    <a:pt x="839" y="682"/>
                  </a:lnTo>
                  <a:lnTo>
                    <a:pt x="821" y="689"/>
                  </a:lnTo>
                  <a:lnTo>
                    <a:pt x="802" y="694"/>
                  </a:lnTo>
                  <a:lnTo>
                    <a:pt x="782" y="696"/>
                  </a:lnTo>
                  <a:lnTo>
                    <a:pt x="770" y="695"/>
                  </a:lnTo>
                  <a:lnTo>
                    <a:pt x="758" y="693"/>
                  </a:lnTo>
                  <a:lnTo>
                    <a:pt x="746" y="690"/>
                  </a:lnTo>
                  <a:lnTo>
                    <a:pt x="735" y="686"/>
                  </a:lnTo>
                  <a:lnTo>
                    <a:pt x="724" y="681"/>
                  </a:lnTo>
                  <a:lnTo>
                    <a:pt x="714" y="674"/>
                  </a:lnTo>
                  <a:lnTo>
                    <a:pt x="704" y="667"/>
                  </a:lnTo>
                  <a:lnTo>
                    <a:pt x="696" y="658"/>
                  </a:lnTo>
                  <a:lnTo>
                    <a:pt x="696" y="658"/>
                  </a:lnTo>
                  <a:lnTo>
                    <a:pt x="688" y="667"/>
                  </a:lnTo>
                  <a:lnTo>
                    <a:pt x="680" y="674"/>
                  </a:lnTo>
                  <a:lnTo>
                    <a:pt x="670" y="681"/>
                  </a:lnTo>
                  <a:lnTo>
                    <a:pt x="660" y="686"/>
                  </a:lnTo>
                  <a:lnTo>
                    <a:pt x="650" y="690"/>
                  </a:lnTo>
                  <a:lnTo>
                    <a:pt x="639" y="693"/>
                  </a:lnTo>
                  <a:lnTo>
                    <a:pt x="627" y="695"/>
                  </a:lnTo>
                  <a:lnTo>
                    <a:pt x="615" y="696"/>
                  </a:lnTo>
                  <a:lnTo>
                    <a:pt x="601" y="695"/>
                  </a:lnTo>
                  <a:lnTo>
                    <a:pt x="587" y="692"/>
                  </a:lnTo>
                  <a:lnTo>
                    <a:pt x="574" y="688"/>
                  </a:lnTo>
                  <a:lnTo>
                    <a:pt x="561" y="682"/>
                  </a:lnTo>
                  <a:lnTo>
                    <a:pt x="550" y="674"/>
                  </a:lnTo>
                  <a:lnTo>
                    <a:pt x="540" y="665"/>
                  </a:lnTo>
                  <a:lnTo>
                    <a:pt x="531" y="654"/>
                  </a:lnTo>
                  <a:lnTo>
                    <a:pt x="524" y="643"/>
                  </a:lnTo>
                  <a:lnTo>
                    <a:pt x="524" y="641"/>
                  </a:lnTo>
                  <a:lnTo>
                    <a:pt x="505" y="656"/>
                  </a:lnTo>
                  <a:lnTo>
                    <a:pt x="495" y="661"/>
                  </a:lnTo>
                  <a:lnTo>
                    <a:pt x="484" y="666"/>
                  </a:lnTo>
                  <a:lnTo>
                    <a:pt x="473" y="670"/>
                  </a:lnTo>
                  <a:lnTo>
                    <a:pt x="461" y="673"/>
                  </a:lnTo>
                  <a:lnTo>
                    <a:pt x="449" y="674"/>
                  </a:lnTo>
                  <a:lnTo>
                    <a:pt x="437" y="675"/>
                  </a:lnTo>
                  <a:lnTo>
                    <a:pt x="420" y="674"/>
                  </a:lnTo>
                  <a:lnTo>
                    <a:pt x="403" y="671"/>
                  </a:lnTo>
                  <a:lnTo>
                    <a:pt x="388" y="665"/>
                  </a:lnTo>
                  <a:lnTo>
                    <a:pt x="373" y="658"/>
                  </a:lnTo>
                  <a:lnTo>
                    <a:pt x="359" y="649"/>
                  </a:lnTo>
                  <a:lnTo>
                    <a:pt x="347" y="639"/>
                  </a:lnTo>
                  <a:lnTo>
                    <a:pt x="336" y="627"/>
                  </a:lnTo>
                  <a:lnTo>
                    <a:pt x="327" y="613"/>
                  </a:lnTo>
                  <a:lnTo>
                    <a:pt x="326" y="612"/>
                  </a:lnTo>
                  <a:lnTo>
                    <a:pt x="308" y="621"/>
                  </a:lnTo>
                  <a:lnTo>
                    <a:pt x="288" y="627"/>
                  </a:lnTo>
                  <a:lnTo>
                    <a:pt x="268" y="631"/>
                  </a:lnTo>
                  <a:lnTo>
                    <a:pt x="247" y="632"/>
                  </a:lnTo>
                  <a:lnTo>
                    <a:pt x="231" y="631"/>
                  </a:lnTo>
                  <a:lnTo>
                    <a:pt x="215" y="629"/>
                  </a:lnTo>
                  <a:lnTo>
                    <a:pt x="200" y="625"/>
                  </a:lnTo>
                  <a:lnTo>
                    <a:pt x="186" y="620"/>
                  </a:lnTo>
                  <a:lnTo>
                    <a:pt x="172" y="614"/>
                  </a:lnTo>
                  <a:lnTo>
                    <a:pt x="159" y="607"/>
                  </a:lnTo>
                  <a:lnTo>
                    <a:pt x="147" y="598"/>
                  </a:lnTo>
                  <a:lnTo>
                    <a:pt x="135" y="589"/>
                  </a:lnTo>
                  <a:lnTo>
                    <a:pt x="125" y="578"/>
                  </a:lnTo>
                  <a:lnTo>
                    <a:pt x="116" y="567"/>
                  </a:lnTo>
                  <a:lnTo>
                    <a:pt x="108" y="555"/>
                  </a:lnTo>
                  <a:lnTo>
                    <a:pt x="101" y="542"/>
                  </a:lnTo>
                  <a:lnTo>
                    <a:pt x="96" y="528"/>
                  </a:lnTo>
                  <a:lnTo>
                    <a:pt x="92" y="514"/>
                  </a:lnTo>
                  <a:lnTo>
                    <a:pt x="90" y="499"/>
                  </a:lnTo>
                  <a:lnTo>
                    <a:pt x="89" y="484"/>
                  </a:lnTo>
                  <a:lnTo>
                    <a:pt x="90" y="474"/>
                  </a:lnTo>
                  <a:lnTo>
                    <a:pt x="91" y="464"/>
                  </a:lnTo>
                  <a:lnTo>
                    <a:pt x="91" y="465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58240" y="2409120"/>
              <a:ext cx="200880" cy="3780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13"/>
                  </a:moveTo>
                  <a:lnTo>
                    <a:pt x="12" y="7"/>
                  </a:lnTo>
                  <a:lnTo>
                    <a:pt x="25" y="3"/>
                  </a:lnTo>
                  <a:lnTo>
                    <a:pt x="3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150920" y="1987200"/>
              <a:ext cx="87480" cy="17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13" y="2"/>
                  </a:lnTo>
                  <a:lnTo>
                    <a:pt x="26" y="6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38960" y="1808280"/>
              <a:ext cx="53640" cy="80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8"/>
                  </a:moveTo>
                  <a:lnTo>
                    <a:pt x="8" y="14"/>
                  </a:lnTo>
                  <a:lnTo>
                    <a:pt x="16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51280" y="1923840"/>
              <a:ext cx="19800" cy="87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95520" y="2226960"/>
              <a:ext cx="254880" cy="3319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75" y="0"/>
                  </a:moveTo>
                  <a:lnTo>
                    <a:pt x="75" y="1"/>
                  </a:lnTo>
                  <a:lnTo>
                    <a:pt x="75" y="1"/>
                  </a:lnTo>
                  <a:lnTo>
                    <a:pt x="74" y="19"/>
                  </a:lnTo>
                  <a:lnTo>
                    <a:pt x="70" y="37"/>
                  </a:lnTo>
                  <a:lnTo>
                    <a:pt x="63" y="53"/>
                  </a:lnTo>
                  <a:lnTo>
                    <a:pt x="55" y="69"/>
                  </a:lnTo>
                  <a:lnTo>
                    <a:pt x="44" y="83"/>
                  </a:lnTo>
                  <a:lnTo>
                    <a:pt x="31" y="95"/>
                  </a:lnTo>
                  <a:lnTo>
                    <a:pt x="16" y="106"/>
                  </a:lnTo>
                  <a:lnTo>
                    <a:pt x="0" y="115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84760" y="2790720"/>
              <a:ext cx="115200" cy="1242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0"/>
                  </a:moveTo>
                  <a:lnTo>
                    <a:pt x="11" y="10"/>
                  </a:lnTo>
                  <a:lnTo>
                    <a:pt x="20" y="20"/>
                  </a:lnTo>
                  <a:lnTo>
                    <a:pt x="27" y="31"/>
                  </a:lnTo>
                  <a:lnTo>
                    <a:pt x="34" y="43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5280" y="3316680"/>
              <a:ext cx="3600" cy="601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11"/>
                  </a:lnTo>
                  <a:lnTo>
                    <a:pt x="0" y="21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91960" y="3443760"/>
              <a:ext cx="60840" cy="75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6"/>
                  </a:move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38280" y="3411720"/>
              <a:ext cx="30600" cy="6336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22"/>
                  </a:moveTo>
                  <a:lnTo>
                    <a:pt x="4" y="11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95680" y="3322800"/>
              <a:ext cx="105480" cy="633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0"/>
                  </a:moveTo>
                  <a:lnTo>
                    <a:pt x="16" y="12"/>
                  </a:lnTo>
                  <a:lnTo>
                    <a:pt x="0" y="22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97920" y="2894760"/>
              <a:ext cx="16920" cy="633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2" y="11"/>
                  </a:lnTo>
                  <a:lnTo>
                    <a:pt x="5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1312920" y="2074320"/>
              <a:ext cx="1960200" cy="118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tabLst>
                  <a:tab algn="l" pos="0"/>
                  <a:tab algn="l" pos="281160"/>
                  <a:tab algn="l" pos="561960"/>
                  <a:tab algn="l" pos="843120"/>
                  <a:tab algn="l" pos="1123920"/>
                  <a:tab algn="l" pos="1405080"/>
                  <a:tab algn="l" pos="1685880"/>
                  <a:tab algn="l" pos="1967040"/>
                  <a:tab algn="l" pos="2247840"/>
                  <a:tab algn="l" pos="2529000"/>
                  <a:tab algn="l" pos="2809800"/>
                  <a:tab algn="l" pos="3090960"/>
                  <a:tab algn="l" pos="3371760"/>
                  <a:tab algn="l" pos="3652920"/>
                  <a:tab algn="l" pos="3933720"/>
                  <a:tab algn="l" pos="4214880"/>
                  <a:tab algn="l" pos="4495680"/>
                  <a:tab algn="l" pos="4776840"/>
                  <a:tab algn="l" pos="5057640"/>
                  <a:tab algn="l" pos="5338800"/>
                  <a:tab algn="l" pos="5619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18960" y="1427040"/>
            <a:ext cx="781200" cy="510840"/>
            <a:chOff x="318960" y="1427040"/>
            <a:chExt cx="781200" cy="510840"/>
          </a:xfrm>
        </p:grpSpPr>
        <p:grpSp>
          <p:nvGrpSpPr>
            <p:cNvPr id="875" name=""/>
            <p:cNvGrpSpPr/>
            <p:nvPr/>
          </p:nvGrpSpPr>
          <p:grpSpPr>
            <a:xfrm>
              <a:off x="318960" y="1427040"/>
              <a:ext cx="781200" cy="510840"/>
              <a:chOff x="318960" y="1427040"/>
              <a:chExt cx="781200" cy="5108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318960" y="1427040"/>
                <a:ext cx="781200" cy="510840"/>
                <a:chOff x="318960" y="1427040"/>
                <a:chExt cx="781200" cy="51084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318960" y="1427040"/>
                  <a:ext cx="781200" cy="510840"/>
                  <a:chOff x="318960" y="1427040"/>
                  <a:chExt cx="781200" cy="51084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386640" y="1638000"/>
                    <a:ext cx="651600" cy="29988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18960" y="1427040"/>
                    <a:ext cx="781200" cy="248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0" name=""/>
                <p:cNvSpPr/>
                <p:nvPr/>
              </p:nvSpPr>
              <p:spPr>
                <a:xfrm>
                  <a:off x="900720" y="1801800"/>
                  <a:ext cx="128880" cy="612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9960" y="1702440"/>
                  <a:ext cx="222120" cy="2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2760" y="1702440"/>
                  <a:ext cx="130320" cy="10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83" name=""/>
              <p:cNvSpPr/>
              <p:nvPr/>
            </p:nvSpPr>
            <p:spPr>
              <a:xfrm flipV="1">
                <a:off x="750600" y="1782720"/>
                <a:ext cx="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506880" y="1840320"/>
              <a:ext cx="5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97440" y="2500200"/>
            <a:ext cx="614160" cy="44604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79880" y="1695600"/>
            <a:ext cx="614160" cy="42048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32080" y="3259080"/>
            <a:ext cx="561960" cy="37800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0" y="2125800"/>
            <a:ext cx="782640" cy="510840"/>
            <a:chOff x="0" y="2125800"/>
            <a:chExt cx="782640" cy="510840"/>
          </a:xfrm>
        </p:grpSpPr>
        <p:grpSp>
          <p:nvGrpSpPr>
            <p:cNvPr id="889" name=""/>
            <p:cNvGrpSpPr/>
            <p:nvPr/>
          </p:nvGrpSpPr>
          <p:grpSpPr>
            <a:xfrm>
              <a:off x="0" y="2125800"/>
              <a:ext cx="782640" cy="510840"/>
              <a:chOff x="0" y="2125800"/>
              <a:chExt cx="782640" cy="51084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0" y="2125800"/>
                <a:ext cx="782640" cy="510840"/>
                <a:chOff x="0" y="2125800"/>
                <a:chExt cx="782640" cy="510840"/>
              </a:xfrm>
            </p:grpSpPr>
            <p:grpSp>
              <p:nvGrpSpPr>
                <p:cNvPr id="891" name=""/>
                <p:cNvGrpSpPr/>
                <p:nvPr/>
              </p:nvGrpSpPr>
              <p:grpSpPr>
                <a:xfrm>
                  <a:off x="0" y="2125800"/>
                  <a:ext cx="782640" cy="510840"/>
                  <a:chOff x="0" y="2125800"/>
                  <a:chExt cx="782640" cy="51084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68040" y="2336760"/>
                    <a:ext cx="652680" cy="29988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0" y="2125800"/>
                    <a:ext cx="782640" cy="248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4" name=""/>
                <p:cNvSpPr/>
                <p:nvPr/>
              </p:nvSpPr>
              <p:spPr>
                <a:xfrm>
                  <a:off x="582840" y="2500560"/>
                  <a:ext cx="128880" cy="612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360" y="2401200"/>
                  <a:ext cx="222480" cy="2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2401200"/>
                  <a:ext cx="130680" cy="10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97" name=""/>
              <p:cNvSpPr/>
              <p:nvPr/>
            </p:nvSpPr>
            <p:spPr>
              <a:xfrm flipV="1">
                <a:off x="432360" y="2481480"/>
                <a:ext cx="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188280" y="2539080"/>
              <a:ext cx="51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68280" y="2990880"/>
            <a:ext cx="782640" cy="510840"/>
            <a:chOff x="368280" y="2990880"/>
            <a:chExt cx="782640" cy="510840"/>
          </a:xfrm>
        </p:grpSpPr>
        <p:grpSp>
          <p:nvGrpSpPr>
            <p:cNvPr id="900" name=""/>
            <p:cNvGrpSpPr/>
            <p:nvPr/>
          </p:nvGrpSpPr>
          <p:grpSpPr>
            <a:xfrm>
              <a:off x="368280" y="2990880"/>
              <a:ext cx="782640" cy="510840"/>
              <a:chOff x="368280" y="2990880"/>
              <a:chExt cx="782640" cy="51084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368280" y="2990880"/>
                <a:ext cx="782640" cy="510840"/>
                <a:chOff x="368280" y="2990880"/>
                <a:chExt cx="782640" cy="5108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68280" y="2990880"/>
                  <a:ext cx="782640" cy="510840"/>
                  <a:chOff x="368280" y="2990880"/>
                  <a:chExt cx="782640" cy="51084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436320" y="3201840"/>
                    <a:ext cx="652680" cy="29988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68280" y="2990880"/>
                    <a:ext cx="782640" cy="248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>
                  <a:off x="951120" y="3365640"/>
                  <a:ext cx="128880" cy="612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9640" y="3266280"/>
                  <a:ext cx="222480" cy="2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0" y="3266280"/>
                  <a:ext cx="130680" cy="10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08" name=""/>
              <p:cNvSpPr/>
              <p:nvPr/>
            </p:nvSpPr>
            <p:spPr>
              <a:xfrm flipV="1">
                <a:off x="800640" y="3346560"/>
                <a:ext cx="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556560" y="3404160"/>
              <a:ext cx="51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1084320" y="3394080"/>
            <a:ext cx="21477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676080" y="2500200"/>
            <a:ext cx="2555640" cy="8049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1033560" y="1874520"/>
            <a:ext cx="2247840" cy="13842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373560" y="2125800"/>
            <a:ext cx="0" cy="107928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80080" y="259092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PP PV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4343400"/>
            <a:ext cx="3111120" cy="2084040"/>
            <a:chOff x="5334120" y="4343400"/>
            <a:chExt cx="3111120" cy="2084040"/>
          </a:xfrm>
        </p:grpSpPr>
        <p:sp>
          <p:nvSpPr>
            <p:cNvPr id="916" name=""/>
            <p:cNvSpPr/>
            <p:nvPr/>
          </p:nvSpPr>
          <p:spPr>
            <a:xfrm>
              <a:off x="5334120" y="4343400"/>
              <a:ext cx="3111120" cy="2084040"/>
            </a:xfrm>
            <a:custGeom>
              <a:avLst/>
              <a:gdLst/>
              <a:ahLst/>
              <a:rect l="l" t="t" r="r" b="b"/>
              <a:pathLst>
                <a:path w="1008" h="696">
                  <a:moveTo>
                    <a:pt x="91" y="465"/>
                  </a:moveTo>
                  <a:lnTo>
                    <a:pt x="72" y="461"/>
                  </a:lnTo>
                  <a:lnTo>
                    <a:pt x="55" y="455"/>
                  </a:lnTo>
                  <a:lnTo>
                    <a:pt x="39" y="445"/>
                  </a:lnTo>
                  <a:lnTo>
                    <a:pt x="26" y="434"/>
                  </a:lnTo>
                  <a:lnTo>
                    <a:pt x="15" y="420"/>
                  </a:lnTo>
                  <a:lnTo>
                    <a:pt x="7" y="404"/>
                  </a:lnTo>
                  <a:lnTo>
                    <a:pt x="2" y="387"/>
                  </a:lnTo>
                  <a:lnTo>
                    <a:pt x="0" y="369"/>
                  </a:lnTo>
                  <a:lnTo>
                    <a:pt x="1" y="356"/>
                  </a:lnTo>
                  <a:lnTo>
                    <a:pt x="3" y="344"/>
                  </a:lnTo>
                  <a:lnTo>
                    <a:pt x="8" y="333"/>
                  </a:lnTo>
                  <a:lnTo>
                    <a:pt x="13" y="322"/>
                  </a:lnTo>
                  <a:lnTo>
                    <a:pt x="21" y="311"/>
                  </a:lnTo>
                  <a:lnTo>
                    <a:pt x="29" y="302"/>
                  </a:lnTo>
                  <a:lnTo>
                    <a:pt x="39" y="294"/>
                  </a:lnTo>
                  <a:lnTo>
                    <a:pt x="50" y="287"/>
                  </a:lnTo>
                  <a:lnTo>
                    <a:pt x="50" y="288"/>
                  </a:lnTo>
                  <a:lnTo>
                    <a:pt x="38" y="274"/>
                  </a:lnTo>
                  <a:lnTo>
                    <a:pt x="29" y="258"/>
                  </a:lnTo>
                  <a:lnTo>
                    <a:pt x="24" y="241"/>
                  </a:lnTo>
                  <a:lnTo>
                    <a:pt x="22" y="223"/>
                  </a:lnTo>
                  <a:lnTo>
                    <a:pt x="23" y="213"/>
                  </a:lnTo>
                  <a:lnTo>
                    <a:pt x="24" y="204"/>
                  </a:lnTo>
                  <a:lnTo>
                    <a:pt x="30" y="186"/>
                  </a:lnTo>
                  <a:lnTo>
                    <a:pt x="40" y="169"/>
                  </a:lnTo>
                  <a:lnTo>
                    <a:pt x="52" y="155"/>
                  </a:lnTo>
                  <a:lnTo>
                    <a:pt x="67" y="143"/>
                  </a:lnTo>
                  <a:lnTo>
                    <a:pt x="84" y="135"/>
                  </a:lnTo>
                  <a:lnTo>
                    <a:pt x="104" y="129"/>
                  </a:lnTo>
                  <a:lnTo>
                    <a:pt x="114" y="128"/>
                  </a:lnTo>
                  <a:lnTo>
                    <a:pt x="124" y="127"/>
                  </a:lnTo>
                  <a:lnTo>
                    <a:pt x="130" y="128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48" y="108"/>
                  </a:lnTo>
                  <a:lnTo>
                    <a:pt x="164" y="91"/>
                  </a:lnTo>
                  <a:lnTo>
                    <a:pt x="182" y="77"/>
                  </a:lnTo>
                  <a:lnTo>
                    <a:pt x="201" y="65"/>
                  </a:lnTo>
                  <a:lnTo>
                    <a:pt x="222" y="55"/>
                  </a:lnTo>
                  <a:lnTo>
                    <a:pt x="245" y="48"/>
                  </a:lnTo>
                  <a:lnTo>
                    <a:pt x="268" y="44"/>
                  </a:lnTo>
                  <a:lnTo>
                    <a:pt x="292" y="42"/>
                  </a:lnTo>
                  <a:lnTo>
                    <a:pt x="316" y="44"/>
                  </a:lnTo>
                  <a:lnTo>
                    <a:pt x="340" y="48"/>
                  </a:lnTo>
                  <a:lnTo>
                    <a:pt x="362" y="56"/>
                  </a:lnTo>
                  <a:lnTo>
                    <a:pt x="384" y="66"/>
                  </a:lnTo>
                  <a:lnTo>
                    <a:pt x="384" y="66"/>
                  </a:lnTo>
                  <a:lnTo>
                    <a:pt x="396" y="51"/>
                  </a:lnTo>
                  <a:lnTo>
                    <a:pt x="409" y="38"/>
                  </a:lnTo>
                  <a:lnTo>
                    <a:pt x="424" y="27"/>
                  </a:lnTo>
                  <a:lnTo>
                    <a:pt x="441" y="18"/>
                  </a:lnTo>
                  <a:lnTo>
                    <a:pt x="458" y="10"/>
                  </a:lnTo>
                  <a:lnTo>
                    <a:pt x="476" y="5"/>
                  </a:lnTo>
                  <a:lnTo>
                    <a:pt x="495" y="1"/>
                  </a:lnTo>
                  <a:lnTo>
                    <a:pt x="515" y="0"/>
                  </a:lnTo>
                  <a:lnTo>
                    <a:pt x="528" y="1"/>
                  </a:lnTo>
                  <a:lnTo>
                    <a:pt x="541" y="2"/>
                  </a:lnTo>
                  <a:lnTo>
                    <a:pt x="565" y="8"/>
                  </a:lnTo>
                  <a:lnTo>
                    <a:pt x="588" y="17"/>
                  </a:lnTo>
                  <a:lnTo>
                    <a:pt x="609" y="29"/>
                  </a:lnTo>
                  <a:lnTo>
                    <a:pt x="628" y="45"/>
                  </a:lnTo>
                  <a:lnTo>
                    <a:pt x="644" y="63"/>
                  </a:lnTo>
                  <a:lnTo>
                    <a:pt x="657" y="83"/>
                  </a:lnTo>
                  <a:lnTo>
                    <a:pt x="666" y="106"/>
                  </a:lnTo>
                  <a:lnTo>
                    <a:pt x="666" y="105"/>
                  </a:lnTo>
                  <a:lnTo>
                    <a:pt x="682" y="97"/>
                  </a:lnTo>
                  <a:lnTo>
                    <a:pt x="700" y="91"/>
                  </a:lnTo>
                  <a:lnTo>
                    <a:pt x="718" y="87"/>
                  </a:lnTo>
                  <a:lnTo>
                    <a:pt x="737" y="86"/>
                  </a:lnTo>
                  <a:lnTo>
                    <a:pt x="751" y="87"/>
                  </a:lnTo>
                  <a:lnTo>
                    <a:pt x="764" y="89"/>
                  </a:lnTo>
                  <a:lnTo>
                    <a:pt x="777" y="92"/>
                  </a:lnTo>
                  <a:lnTo>
                    <a:pt x="790" y="96"/>
                  </a:lnTo>
                  <a:lnTo>
                    <a:pt x="802" y="101"/>
                  </a:lnTo>
                  <a:lnTo>
                    <a:pt x="813" y="107"/>
                  </a:lnTo>
                  <a:lnTo>
                    <a:pt x="833" y="123"/>
                  </a:lnTo>
                  <a:lnTo>
                    <a:pt x="841" y="132"/>
                  </a:lnTo>
                  <a:lnTo>
                    <a:pt x="849" y="141"/>
                  </a:lnTo>
                  <a:lnTo>
                    <a:pt x="856" y="151"/>
                  </a:lnTo>
                  <a:lnTo>
                    <a:pt x="861" y="162"/>
                  </a:lnTo>
                  <a:lnTo>
                    <a:pt x="866" y="174"/>
                  </a:lnTo>
                  <a:lnTo>
                    <a:pt x="869" y="186"/>
                  </a:lnTo>
                  <a:lnTo>
                    <a:pt x="871" y="198"/>
                  </a:lnTo>
                  <a:lnTo>
                    <a:pt x="872" y="211"/>
                  </a:lnTo>
                  <a:lnTo>
                    <a:pt x="872" y="212"/>
                  </a:lnTo>
                  <a:lnTo>
                    <a:pt x="886" y="215"/>
                  </a:lnTo>
                  <a:lnTo>
                    <a:pt x="900" y="218"/>
                  </a:lnTo>
                  <a:lnTo>
                    <a:pt x="914" y="223"/>
                  </a:lnTo>
                  <a:lnTo>
                    <a:pt x="926" y="229"/>
                  </a:lnTo>
                  <a:lnTo>
                    <a:pt x="949" y="243"/>
                  </a:lnTo>
                  <a:lnTo>
                    <a:pt x="969" y="262"/>
                  </a:lnTo>
                  <a:lnTo>
                    <a:pt x="978" y="272"/>
                  </a:lnTo>
                  <a:lnTo>
                    <a:pt x="986" y="283"/>
                  </a:lnTo>
                  <a:lnTo>
                    <a:pt x="992" y="294"/>
                  </a:lnTo>
                  <a:lnTo>
                    <a:pt x="998" y="306"/>
                  </a:lnTo>
                  <a:lnTo>
                    <a:pt x="1002" y="319"/>
                  </a:lnTo>
                  <a:lnTo>
                    <a:pt x="1005" y="332"/>
                  </a:lnTo>
                  <a:lnTo>
                    <a:pt x="1007" y="345"/>
                  </a:lnTo>
                  <a:lnTo>
                    <a:pt x="1008" y="359"/>
                  </a:lnTo>
                  <a:lnTo>
                    <a:pt x="1007" y="371"/>
                  </a:lnTo>
                  <a:lnTo>
                    <a:pt x="1006" y="383"/>
                  </a:lnTo>
                  <a:lnTo>
                    <a:pt x="1003" y="395"/>
                  </a:lnTo>
                  <a:lnTo>
                    <a:pt x="999" y="406"/>
                  </a:lnTo>
                  <a:lnTo>
                    <a:pt x="989" y="429"/>
                  </a:lnTo>
                  <a:lnTo>
                    <a:pt x="975" y="449"/>
                  </a:lnTo>
                  <a:lnTo>
                    <a:pt x="975" y="449"/>
                  </a:lnTo>
                  <a:lnTo>
                    <a:pt x="979" y="460"/>
                  </a:lnTo>
                  <a:lnTo>
                    <a:pt x="982" y="472"/>
                  </a:lnTo>
                  <a:lnTo>
                    <a:pt x="984" y="483"/>
                  </a:lnTo>
                  <a:lnTo>
                    <a:pt x="985" y="495"/>
                  </a:lnTo>
                  <a:lnTo>
                    <a:pt x="983" y="515"/>
                  </a:lnTo>
                  <a:lnTo>
                    <a:pt x="978" y="533"/>
                  </a:lnTo>
                  <a:lnTo>
                    <a:pt x="970" y="550"/>
                  </a:lnTo>
                  <a:lnTo>
                    <a:pt x="959" y="566"/>
                  </a:lnTo>
                  <a:lnTo>
                    <a:pt x="946" y="580"/>
                  </a:lnTo>
                  <a:lnTo>
                    <a:pt x="930" y="592"/>
                  </a:lnTo>
                  <a:lnTo>
                    <a:pt x="912" y="601"/>
                  </a:lnTo>
                  <a:lnTo>
                    <a:pt x="893" y="608"/>
                  </a:lnTo>
                  <a:lnTo>
                    <a:pt x="894" y="609"/>
                  </a:lnTo>
                  <a:lnTo>
                    <a:pt x="889" y="627"/>
                  </a:lnTo>
                  <a:lnTo>
                    <a:pt x="880" y="644"/>
                  </a:lnTo>
                  <a:lnTo>
                    <a:pt x="869" y="659"/>
                  </a:lnTo>
                  <a:lnTo>
                    <a:pt x="855" y="671"/>
                  </a:lnTo>
                  <a:lnTo>
                    <a:pt x="839" y="682"/>
                  </a:lnTo>
                  <a:lnTo>
                    <a:pt x="821" y="689"/>
                  </a:lnTo>
                  <a:lnTo>
                    <a:pt x="802" y="694"/>
                  </a:lnTo>
                  <a:lnTo>
                    <a:pt x="782" y="696"/>
                  </a:lnTo>
                  <a:lnTo>
                    <a:pt x="770" y="695"/>
                  </a:lnTo>
                  <a:lnTo>
                    <a:pt x="758" y="693"/>
                  </a:lnTo>
                  <a:lnTo>
                    <a:pt x="746" y="690"/>
                  </a:lnTo>
                  <a:lnTo>
                    <a:pt x="735" y="686"/>
                  </a:lnTo>
                  <a:lnTo>
                    <a:pt x="724" y="681"/>
                  </a:lnTo>
                  <a:lnTo>
                    <a:pt x="714" y="674"/>
                  </a:lnTo>
                  <a:lnTo>
                    <a:pt x="704" y="667"/>
                  </a:lnTo>
                  <a:lnTo>
                    <a:pt x="696" y="658"/>
                  </a:lnTo>
                  <a:lnTo>
                    <a:pt x="696" y="658"/>
                  </a:lnTo>
                  <a:lnTo>
                    <a:pt x="688" y="667"/>
                  </a:lnTo>
                  <a:lnTo>
                    <a:pt x="680" y="674"/>
                  </a:lnTo>
                  <a:lnTo>
                    <a:pt x="670" y="681"/>
                  </a:lnTo>
                  <a:lnTo>
                    <a:pt x="660" y="686"/>
                  </a:lnTo>
                  <a:lnTo>
                    <a:pt x="650" y="690"/>
                  </a:lnTo>
                  <a:lnTo>
                    <a:pt x="639" y="693"/>
                  </a:lnTo>
                  <a:lnTo>
                    <a:pt x="627" y="695"/>
                  </a:lnTo>
                  <a:lnTo>
                    <a:pt x="615" y="696"/>
                  </a:lnTo>
                  <a:lnTo>
                    <a:pt x="601" y="695"/>
                  </a:lnTo>
                  <a:lnTo>
                    <a:pt x="587" y="692"/>
                  </a:lnTo>
                  <a:lnTo>
                    <a:pt x="574" y="688"/>
                  </a:lnTo>
                  <a:lnTo>
                    <a:pt x="561" y="682"/>
                  </a:lnTo>
                  <a:lnTo>
                    <a:pt x="550" y="674"/>
                  </a:lnTo>
                  <a:lnTo>
                    <a:pt x="540" y="665"/>
                  </a:lnTo>
                  <a:lnTo>
                    <a:pt x="531" y="654"/>
                  </a:lnTo>
                  <a:lnTo>
                    <a:pt x="524" y="643"/>
                  </a:lnTo>
                  <a:lnTo>
                    <a:pt x="524" y="641"/>
                  </a:lnTo>
                  <a:lnTo>
                    <a:pt x="505" y="656"/>
                  </a:lnTo>
                  <a:lnTo>
                    <a:pt x="495" y="661"/>
                  </a:lnTo>
                  <a:lnTo>
                    <a:pt x="484" y="666"/>
                  </a:lnTo>
                  <a:lnTo>
                    <a:pt x="473" y="670"/>
                  </a:lnTo>
                  <a:lnTo>
                    <a:pt x="461" y="673"/>
                  </a:lnTo>
                  <a:lnTo>
                    <a:pt x="449" y="674"/>
                  </a:lnTo>
                  <a:lnTo>
                    <a:pt x="437" y="675"/>
                  </a:lnTo>
                  <a:lnTo>
                    <a:pt x="420" y="674"/>
                  </a:lnTo>
                  <a:lnTo>
                    <a:pt x="403" y="671"/>
                  </a:lnTo>
                  <a:lnTo>
                    <a:pt x="388" y="665"/>
                  </a:lnTo>
                  <a:lnTo>
                    <a:pt x="373" y="658"/>
                  </a:lnTo>
                  <a:lnTo>
                    <a:pt x="359" y="649"/>
                  </a:lnTo>
                  <a:lnTo>
                    <a:pt x="347" y="639"/>
                  </a:lnTo>
                  <a:lnTo>
                    <a:pt x="336" y="627"/>
                  </a:lnTo>
                  <a:lnTo>
                    <a:pt x="327" y="613"/>
                  </a:lnTo>
                  <a:lnTo>
                    <a:pt x="326" y="612"/>
                  </a:lnTo>
                  <a:lnTo>
                    <a:pt x="308" y="621"/>
                  </a:lnTo>
                  <a:lnTo>
                    <a:pt x="288" y="627"/>
                  </a:lnTo>
                  <a:lnTo>
                    <a:pt x="268" y="631"/>
                  </a:lnTo>
                  <a:lnTo>
                    <a:pt x="247" y="632"/>
                  </a:lnTo>
                  <a:lnTo>
                    <a:pt x="231" y="631"/>
                  </a:lnTo>
                  <a:lnTo>
                    <a:pt x="215" y="629"/>
                  </a:lnTo>
                  <a:lnTo>
                    <a:pt x="200" y="625"/>
                  </a:lnTo>
                  <a:lnTo>
                    <a:pt x="186" y="620"/>
                  </a:lnTo>
                  <a:lnTo>
                    <a:pt x="172" y="614"/>
                  </a:lnTo>
                  <a:lnTo>
                    <a:pt x="159" y="607"/>
                  </a:lnTo>
                  <a:lnTo>
                    <a:pt x="147" y="598"/>
                  </a:lnTo>
                  <a:lnTo>
                    <a:pt x="135" y="589"/>
                  </a:lnTo>
                  <a:lnTo>
                    <a:pt x="125" y="578"/>
                  </a:lnTo>
                  <a:lnTo>
                    <a:pt x="116" y="567"/>
                  </a:lnTo>
                  <a:lnTo>
                    <a:pt x="108" y="555"/>
                  </a:lnTo>
                  <a:lnTo>
                    <a:pt x="101" y="542"/>
                  </a:lnTo>
                  <a:lnTo>
                    <a:pt x="96" y="528"/>
                  </a:lnTo>
                  <a:lnTo>
                    <a:pt x="92" y="514"/>
                  </a:lnTo>
                  <a:lnTo>
                    <a:pt x="90" y="499"/>
                  </a:lnTo>
                  <a:lnTo>
                    <a:pt x="89" y="484"/>
                  </a:lnTo>
                  <a:lnTo>
                    <a:pt x="90" y="474"/>
                  </a:lnTo>
                  <a:lnTo>
                    <a:pt x="91" y="464"/>
                  </a:lnTo>
                  <a:lnTo>
                    <a:pt x="91" y="4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34120" y="4343400"/>
              <a:ext cx="3111120" cy="2084040"/>
            </a:xfrm>
            <a:custGeom>
              <a:avLst/>
              <a:gdLst/>
              <a:ahLst/>
              <a:rect l="l" t="t" r="r" b="b"/>
              <a:pathLst>
                <a:path w="1008" h="696">
                  <a:moveTo>
                    <a:pt x="91" y="465"/>
                  </a:moveTo>
                  <a:lnTo>
                    <a:pt x="72" y="461"/>
                  </a:lnTo>
                  <a:lnTo>
                    <a:pt x="55" y="455"/>
                  </a:lnTo>
                  <a:lnTo>
                    <a:pt x="39" y="445"/>
                  </a:lnTo>
                  <a:lnTo>
                    <a:pt x="26" y="434"/>
                  </a:lnTo>
                  <a:lnTo>
                    <a:pt x="15" y="420"/>
                  </a:lnTo>
                  <a:lnTo>
                    <a:pt x="7" y="404"/>
                  </a:lnTo>
                  <a:lnTo>
                    <a:pt x="2" y="387"/>
                  </a:lnTo>
                  <a:lnTo>
                    <a:pt x="0" y="369"/>
                  </a:lnTo>
                  <a:lnTo>
                    <a:pt x="1" y="356"/>
                  </a:lnTo>
                  <a:lnTo>
                    <a:pt x="3" y="344"/>
                  </a:lnTo>
                  <a:lnTo>
                    <a:pt x="8" y="333"/>
                  </a:lnTo>
                  <a:lnTo>
                    <a:pt x="13" y="322"/>
                  </a:lnTo>
                  <a:lnTo>
                    <a:pt x="21" y="311"/>
                  </a:lnTo>
                  <a:lnTo>
                    <a:pt x="29" y="302"/>
                  </a:lnTo>
                  <a:lnTo>
                    <a:pt x="39" y="294"/>
                  </a:lnTo>
                  <a:lnTo>
                    <a:pt x="50" y="287"/>
                  </a:lnTo>
                  <a:lnTo>
                    <a:pt x="50" y="288"/>
                  </a:lnTo>
                  <a:lnTo>
                    <a:pt x="38" y="274"/>
                  </a:lnTo>
                  <a:lnTo>
                    <a:pt x="29" y="258"/>
                  </a:lnTo>
                  <a:lnTo>
                    <a:pt x="24" y="241"/>
                  </a:lnTo>
                  <a:lnTo>
                    <a:pt x="22" y="223"/>
                  </a:lnTo>
                  <a:lnTo>
                    <a:pt x="23" y="213"/>
                  </a:lnTo>
                  <a:lnTo>
                    <a:pt x="24" y="204"/>
                  </a:lnTo>
                  <a:lnTo>
                    <a:pt x="30" y="186"/>
                  </a:lnTo>
                  <a:lnTo>
                    <a:pt x="40" y="169"/>
                  </a:lnTo>
                  <a:lnTo>
                    <a:pt x="52" y="155"/>
                  </a:lnTo>
                  <a:lnTo>
                    <a:pt x="67" y="143"/>
                  </a:lnTo>
                  <a:lnTo>
                    <a:pt x="84" y="135"/>
                  </a:lnTo>
                  <a:lnTo>
                    <a:pt x="104" y="129"/>
                  </a:lnTo>
                  <a:lnTo>
                    <a:pt x="114" y="128"/>
                  </a:lnTo>
                  <a:lnTo>
                    <a:pt x="124" y="127"/>
                  </a:lnTo>
                  <a:lnTo>
                    <a:pt x="130" y="128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48" y="108"/>
                  </a:lnTo>
                  <a:lnTo>
                    <a:pt x="164" y="91"/>
                  </a:lnTo>
                  <a:lnTo>
                    <a:pt x="182" y="77"/>
                  </a:lnTo>
                  <a:lnTo>
                    <a:pt x="201" y="65"/>
                  </a:lnTo>
                  <a:lnTo>
                    <a:pt x="222" y="55"/>
                  </a:lnTo>
                  <a:lnTo>
                    <a:pt x="245" y="48"/>
                  </a:lnTo>
                  <a:lnTo>
                    <a:pt x="268" y="44"/>
                  </a:lnTo>
                  <a:lnTo>
                    <a:pt x="292" y="42"/>
                  </a:lnTo>
                  <a:lnTo>
                    <a:pt x="316" y="44"/>
                  </a:lnTo>
                  <a:lnTo>
                    <a:pt x="340" y="48"/>
                  </a:lnTo>
                  <a:lnTo>
                    <a:pt x="362" y="56"/>
                  </a:lnTo>
                  <a:lnTo>
                    <a:pt x="384" y="66"/>
                  </a:lnTo>
                  <a:lnTo>
                    <a:pt x="384" y="66"/>
                  </a:lnTo>
                  <a:lnTo>
                    <a:pt x="396" y="51"/>
                  </a:lnTo>
                  <a:lnTo>
                    <a:pt x="409" y="38"/>
                  </a:lnTo>
                  <a:lnTo>
                    <a:pt x="424" y="27"/>
                  </a:lnTo>
                  <a:lnTo>
                    <a:pt x="441" y="18"/>
                  </a:lnTo>
                  <a:lnTo>
                    <a:pt x="458" y="10"/>
                  </a:lnTo>
                  <a:lnTo>
                    <a:pt x="476" y="5"/>
                  </a:lnTo>
                  <a:lnTo>
                    <a:pt x="495" y="1"/>
                  </a:lnTo>
                  <a:lnTo>
                    <a:pt x="515" y="0"/>
                  </a:lnTo>
                  <a:lnTo>
                    <a:pt x="528" y="1"/>
                  </a:lnTo>
                  <a:lnTo>
                    <a:pt x="541" y="2"/>
                  </a:lnTo>
                  <a:lnTo>
                    <a:pt x="565" y="8"/>
                  </a:lnTo>
                  <a:lnTo>
                    <a:pt x="588" y="17"/>
                  </a:lnTo>
                  <a:lnTo>
                    <a:pt x="609" y="29"/>
                  </a:lnTo>
                  <a:lnTo>
                    <a:pt x="628" y="45"/>
                  </a:lnTo>
                  <a:lnTo>
                    <a:pt x="644" y="63"/>
                  </a:lnTo>
                  <a:lnTo>
                    <a:pt x="657" y="83"/>
                  </a:lnTo>
                  <a:lnTo>
                    <a:pt x="666" y="106"/>
                  </a:lnTo>
                  <a:lnTo>
                    <a:pt x="666" y="105"/>
                  </a:lnTo>
                  <a:lnTo>
                    <a:pt x="682" y="97"/>
                  </a:lnTo>
                  <a:lnTo>
                    <a:pt x="700" y="91"/>
                  </a:lnTo>
                  <a:lnTo>
                    <a:pt x="718" y="87"/>
                  </a:lnTo>
                  <a:lnTo>
                    <a:pt x="737" y="86"/>
                  </a:lnTo>
                  <a:lnTo>
                    <a:pt x="751" y="87"/>
                  </a:lnTo>
                  <a:lnTo>
                    <a:pt x="764" y="89"/>
                  </a:lnTo>
                  <a:lnTo>
                    <a:pt x="777" y="92"/>
                  </a:lnTo>
                  <a:lnTo>
                    <a:pt x="790" y="96"/>
                  </a:lnTo>
                  <a:lnTo>
                    <a:pt x="802" y="101"/>
                  </a:lnTo>
                  <a:lnTo>
                    <a:pt x="813" y="107"/>
                  </a:lnTo>
                  <a:lnTo>
                    <a:pt x="833" y="123"/>
                  </a:lnTo>
                  <a:lnTo>
                    <a:pt x="841" y="132"/>
                  </a:lnTo>
                  <a:lnTo>
                    <a:pt x="849" y="141"/>
                  </a:lnTo>
                  <a:lnTo>
                    <a:pt x="856" y="151"/>
                  </a:lnTo>
                  <a:lnTo>
                    <a:pt x="861" y="162"/>
                  </a:lnTo>
                  <a:lnTo>
                    <a:pt x="866" y="174"/>
                  </a:lnTo>
                  <a:lnTo>
                    <a:pt x="869" y="186"/>
                  </a:lnTo>
                  <a:lnTo>
                    <a:pt x="871" y="198"/>
                  </a:lnTo>
                  <a:lnTo>
                    <a:pt x="872" y="211"/>
                  </a:lnTo>
                  <a:lnTo>
                    <a:pt x="872" y="212"/>
                  </a:lnTo>
                  <a:lnTo>
                    <a:pt x="886" y="215"/>
                  </a:lnTo>
                  <a:lnTo>
                    <a:pt x="900" y="218"/>
                  </a:lnTo>
                  <a:lnTo>
                    <a:pt x="914" y="223"/>
                  </a:lnTo>
                  <a:lnTo>
                    <a:pt x="926" y="229"/>
                  </a:lnTo>
                  <a:lnTo>
                    <a:pt x="949" y="243"/>
                  </a:lnTo>
                  <a:lnTo>
                    <a:pt x="969" y="262"/>
                  </a:lnTo>
                  <a:lnTo>
                    <a:pt x="978" y="272"/>
                  </a:lnTo>
                  <a:lnTo>
                    <a:pt x="986" y="283"/>
                  </a:lnTo>
                  <a:lnTo>
                    <a:pt x="992" y="294"/>
                  </a:lnTo>
                  <a:lnTo>
                    <a:pt x="998" y="306"/>
                  </a:lnTo>
                  <a:lnTo>
                    <a:pt x="1002" y="319"/>
                  </a:lnTo>
                  <a:lnTo>
                    <a:pt x="1005" y="332"/>
                  </a:lnTo>
                  <a:lnTo>
                    <a:pt x="1007" y="345"/>
                  </a:lnTo>
                  <a:lnTo>
                    <a:pt x="1008" y="359"/>
                  </a:lnTo>
                  <a:lnTo>
                    <a:pt x="1007" y="371"/>
                  </a:lnTo>
                  <a:lnTo>
                    <a:pt x="1006" y="383"/>
                  </a:lnTo>
                  <a:lnTo>
                    <a:pt x="1003" y="395"/>
                  </a:lnTo>
                  <a:lnTo>
                    <a:pt x="999" y="406"/>
                  </a:lnTo>
                  <a:lnTo>
                    <a:pt x="989" y="429"/>
                  </a:lnTo>
                  <a:lnTo>
                    <a:pt x="975" y="449"/>
                  </a:lnTo>
                  <a:lnTo>
                    <a:pt x="975" y="449"/>
                  </a:lnTo>
                  <a:lnTo>
                    <a:pt x="979" y="460"/>
                  </a:lnTo>
                  <a:lnTo>
                    <a:pt x="982" y="472"/>
                  </a:lnTo>
                  <a:lnTo>
                    <a:pt x="984" y="483"/>
                  </a:lnTo>
                  <a:lnTo>
                    <a:pt x="985" y="495"/>
                  </a:lnTo>
                  <a:lnTo>
                    <a:pt x="983" y="515"/>
                  </a:lnTo>
                  <a:lnTo>
                    <a:pt x="978" y="533"/>
                  </a:lnTo>
                  <a:lnTo>
                    <a:pt x="970" y="550"/>
                  </a:lnTo>
                  <a:lnTo>
                    <a:pt x="959" y="566"/>
                  </a:lnTo>
                  <a:lnTo>
                    <a:pt x="946" y="580"/>
                  </a:lnTo>
                  <a:lnTo>
                    <a:pt x="930" y="592"/>
                  </a:lnTo>
                  <a:lnTo>
                    <a:pt x="912" y="601"/>
                  </a:lnTo>
                  <a:lnTo>
                    <a:pt x="893" y="608"/>
                  </a:lnTo>
                  <a:lnTo>
                    <a:pt x="894" y="609"/>
                  </a:lnTo>
                  <a:lnTo>
                    <a:pt x="889" y="627"/>
                  </a:lnTo>
                  <a:lnTo>
                    <a:pt x="880" y="644"/>
                  </a:lnTo>
                  <a:lnTo>
                    <a:pt x="869" y="659"/>
                  </a:lnTo>
                  <a:lnTo>
                    <a:pt x="855" y="671"/>
                  </a:lnTo>
                  <a:lnTo>
                    <a:pt x="839" y="682"/>
                  </a:lnTo>
                  <a:lnTo>
                    <a:pt x="821" y="689"/>
                  </a:lnTo>
                  <a:lnTo>
                    <a:pt x="802" y="694"/>
                  </a:lnTo>
                  <a:lnTo>
                    <a:pt x="782" y="696"/>
                  </a:lnTo>
                  <a:lnTo>
                    <a:pt x="770" y="695"/>
                  </a:lnTo>
                  <a:lnTo>
                    <a:pt x="758" y="693"/>
                  </a:lnTo>
                  <a:lnTo>
                    <a:pt x="746" y="690"/>
                  </a:lnTo>
                  <a:lnTo>
                    <a:pt x="735" y="686"/>
                  </a:lnTo>
                  <a:lnTo>
                    <a:pt x="724" y="681"/>
                  </a:lnTo>
                  <a:lnTo>
                    <a:pt x="714" y="674"/>
                  </a:lnTo>
                  <a:lnTo>
                    <a:pt x="704" y="667"/>
                  </a:lnTo>
                  <a:lnTo>
                    <a:pt x="696" y="658"/>
                  </a:lnTo>
                  <a:lnTo>
                    <a:pt x="696" y="658"/>
                  </a:lnTo>
                  <a:lnTo>
                    <a:pt x="688" y="667"/>
                  </a:lnTo>
                  <a:lnTo>
                    <a:pt x="680" y="674"/>
                  </a:lnTo>
                  <a:lnTo>
                    <a:pt x="670" y="681"/>
                  </a:lnTo>
                  <a:lnTo>
                    <a:pt x="660" y="686"/>
                  </a:lnTo>
                  <a:lnTo>
                    <a:pt x="650" y="690"/>
                  </a:lnTo>
                  <a:lnTo>
                    <a:pt x="639" y="693"/>
                  </a:lnTo>
                  <a:lnTo>
                    <a:pt x="627" y="695"/>
                  </a:lnTo>
                  <a:lnTo>
                    <a:pt x="615" y="696"/>
                  </a:lnTo>
                  <a:lnTo>
                    <a:pt x="601" y="695"/>
                  </a:lnTo>
                  <a:lnTo>
                    <a:pt x="587" y="692"/>
                  </a:lnTo>
                  <a:lnTo>
                    <a:pt x="574" y="688"/>
                  </a:lnTo>
                  <a:lnTo>
                    <a:pt x="561" y="682"/>
                  </a:lnTo>
                  <a:lnTo>
                    <a:pt x="550" y="674"/>
                  </a:lnTo>
                  <a:lnTo>
                    <a:pt x="540" y="665"/>
                  </a:lnTo>
                  <a:lnTo>
                    <a:pt x="531" y="654"/>
                  </a:lnTo>
                  <a:lnTo>
                    <a:pt x="524" y="643"/>
                  </a:lnTo>
                  <a:lnTo>
                    <a:pt x="524" y="641"/>
                  </a:lnTo>
                  <a:lnTo>
                    <a:pt x="505" y="656"/>
                  </a:lnTo>
                  <a:lnTo>
                    <a:pt x="495" y="661"/>
                  </a:lnTo>
                  <a:lnTo>
                    <a:pt x="484" y="666"/>
                  </a:lnTo>
                  <a:lnTo>
                    <a:pt x="473" y="670"/>
                  </a:lnTo>
                  <a:lnTo>
                    <a:pt x="461" y="673"/>
                  </a:lnTo>
                  <a:lnTo>
                    <a:pt x="449" y="674"/>
                  </a:lnTo>
                  <a:lnTo>
                    <a:pt x="437" y="675"/>
                  </a:lnTo>
                  <a:lnTo>
                    <a:pt x="420" y="674"/>
                  </a:lnTo>
                  <a:lnTo>
                    <a:pt x="403" y="671"/>
                  </a:lnTo>
                  <a:lnTo>
                    <a:pt x="388" y="665"/>
                  </a:lnTo>
                  <a:lnTo>
                    <a:pt x="373" y="658"/>
                  </a:lnTo>
                  <a:lnTo>
                    <a:pt x="359" y="649"/>
                  </a:lnTo>
                  <a:lnTo>
                    <a:pt x="347" y="639"/>
                  </a:lnTo>
                  <a:lnTo>
                    <a:pt x="336" y="627"/>
                  </a:lnTo>
                  <a:lnTo>
                    <a:pt x="327" y="613"/>
                  </a:lnTo>
                  <a:lnTo>
                    <a:pt x="326" y="612"/>
                  </a:lnTo>
                  <a:lnTo>
                    <a:pt x="308" y="621"/>
                  </a:lnTo>
                  <a:lnTo>
                    <a:pt x="288" y="627"/>
                  </a:lnTo>
                  <a:lnTo>
                    <a:pt x="268" y="631"/>
                  </a:lnTo>
                  <a:lnTo>
                    <a:pt x="247" y="632"/>
                  </a:lnTo>
                  <a:lnTo>
                    <a:pt x="231" y="631"/>
                  </a:lnTo>
                  <a:lnTo>
                    <a:pt x="215" y="629"/>
                  </a:lnTo>
                  <a:lnTo>
                    <a:pt x="200" y="625"/>
                  </a:lnTo>
                  <a:lnTo>
                    <a:pt x="186" y="620"/>
                  </a:lnTo>
                  <a:lnTo>
                    <a:pt x="172" y="614"/>
                  </a:lnTo>
                  <a:lnTo>
                    <a:pt x="159" y="607"/>
                  </a:lnTo>
                  <a:lnTo>
                    <a:pt x="147" y="598"/>
                  </a:lnTo>
                  <a:lnTo>
                    <a:pt x="135" y="589"/>
                  </a:lnTo>
                  <a:lnTo>
                    <a:pt x="125" y="578"/>
                  </a:lnTo>
                  <a:lnTo>
                    <a:pt x="116" y="567"/>
                  </a:lnTo>
                  <a:lnTo>
                    <a:pt x="108" y="555"/>
                  </a:lnTo>
                  <a:lnTo>
                    <a:pt x="101" y="542"/>
                  </a:lnTo>
                  <a:lnTo>
                    <a:pt x="96" y="528"/>
                  </a:lnTo>
                  <a:lnTo>
                    <a:pt x="92" y="514"/>
                  </a:lnTo>
                  <a:lnTo>
                    <a:pt x="90" y="499"/>
                  </a:lnTo>
                  <a:lnTo>
                    <a:pt x="89" y="484"/>
                  </a:lnTo>
                  <a:lnTo>
                    <a:pt x="90" y="474"/>
                  </a:lnTo>
                  <a:lnTo>
                    <a:pt x="91" y="464"/>
                  </a:lnTo>
                  <a:lnTo>
                    <a:pt x="91" y="465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87840" y="5163480"/>
              <a:ext cx="182520" cy="3924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13"/>
                  </a:moveTo>
                  <a:lnTo>
                    <a:pt x="12" y="7"/>
                  </a:lnTo>
                  <a:lnTo>
                    <a:pt x="25" y="3"/>
                  </a:lnTo>
                  <a:lnTo>
                    <a:pt x="3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53880" y="4726080"/>
              <a:ext cx="79560" cy="180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13" y="2"/>
                  </a:lnTo>
                  <a:lnTo>
                    <a:pt x="26" y="6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69920" y="4540680"/>
              <a:ext cx="48960" cy="83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8"/>
                  </a:moveTo>
                  <a:lnTo>
                    <a:pt x="8" y="14"/>
                  </a:lnTo>
                  <a:lnTo>
                    <a:pt x="16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89720" y="4660200"/>
              <a:ext cx="18000" cy="9000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93280" y="4974840"/>
              <a:ext cx="231480" cy="34416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75" y="0"/>
                  </a:moveTo>
                  <a:lnTo>
                    <a:pt x="75" y="1"/>
                  </a:lnTo>
                  <a:lnTo>
                    <a:pt x="75" y="1"/>
                  </a:lnTo>
                  <a:lnTo>
                    <a:pt x="74" y="19"/>
                  </a:lnTo>
                  <a:lnTo>
                    <a:pt x="70" y="37"/>
                  </a:lnTo>
                  <a:lnTo>
                    <a:pt x="63" y="53"/>
                  </a:lnTo>
                  <a:lnTo>
                    <a:pt x="55" y="69"/>
                  </a:lnTo>
                  <a:lnTo>
                    <a:pt x="44" y="83"/>
                  </a:lnTo>
                  <a:lnTo>
                    <a:pt x="31" y="95"/>
                  </a:lnTo>
                  <a:lnTo>
                    <a:pt x="16" y="106"/>
                  </a:lnTo>
                  <a:lnTo>
                    <a:pt x="0" y="115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237880" y="5558760"/>
              <a:ext cx="104760" cy="12888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0"/>
                  </a:moveTo>
                  <a:lnTo>
                    <a:pt x="11" y="10"/>
                  </a:lnTo>
                  <a:lnTo>
                    <a:pt x="20" y="20"/>
                  </a:lnTo>
                  <a:lnTo>
                    <a:pt x="27" y="31"/>
                  </a:lnTo>
                  <a:lnTo>
                    <a:pt x="34" y="43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93160" y="6104160"/>
              <a:ext cx="3240" cy="622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11"/>
                  </a:lnTo>
                  <a:lnTo>
                    <a:pt x="0" y="21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26800" y="6235920"/>
              <a:ext cx="55080" cy="777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6"/>
                  </a:move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923520" y="6202440"/>
              <a:ext cx="27720" cy="655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22"/>
                  </a:moveTo>
                  <a:lnTo>
                    <a:pt x="4" y="11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39600" y="6110280"/>
              <a:ext cx="95760" cy="65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0"/>
                  </a:moveTo>
                  <a:lnTo>
                    <a:pt x="16" y="12"/>
                  </a:lnTo>
                  <a:lnTo>
                    <a:pt x="0" y="22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14560" y="5666760"/>
              <a:ext cx="15120" cy="655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2" y="11"/>
                  </a:lnTo>
                  <a:lnTo>
                    <a:pt x="5" y="0"/>
                  </a:lnTo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901480" y="4816440"/>
              <a:ext cx="1781280" cy="1224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tabLst>
                  <a:tab algn="l" pos="0"/>
                  <a:tab algn="l" pos="281160"/>
                  <a:tab algn="l" pos="561960"/>
                  <a:tab algn="l" pos="843120"/>
                  <a:tab algn="l" pos="1123920"/>
                  <a:tab algn="l" pos="1405080"/>
                  <a:tab algn="l" pos="1685880"/>
                  <a:tab algn="l" pos="1967040"/>
                  <a:tab algn="l" pos="2247840"/>
                  <a:tab algn="l" pos="2529000"/>
                  <a:tab algn="l" pos="2809800"/>
                  <a:tab algn="l" pos="3090960"/>
                  <a:tab algn="l" pos="3371760"/>
                  <a:tab algn="l" pos="3652920"/>
                  <a:tab algn="l" pos="3933720"/>
                  <a:tab algn="l" pos="4214880"/>
                  <a:tab algn="l" pos="4495680"/>
                  <a:tab algn="l" pos="4776840"/>
                  <a:tab algn="l" pos="5057640"/>
                  <a:tab algn="l" pos="5338800"/>
                  <a:tab algn="l" pos="5619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008680" y="4157640"/>
            <a:ext cx="711000" cy="529920"/>
            <a:chOff x="5008680" y="4157640"/>
            <a:chExt cx="711000" cy="529920"/>
          </a:xfrm>
        </p:grpSpPr>
        <p:grpSp>
          <p:nvGrpSpPr>
            <p:cNvPr id="931" name=""/>
            <p:cNvGrpSpPr/>
            <p:nvPr/>
          </p:nvGrpSpPr>
          <p:grpSpPr>
            <a:xfrm>
              <a:off x="5008680" y="4157640"/>
              <a:ext cx="711000" cy="529920"/>
              <a:chOff x="5008680" y="4157640"/>
              <a:chExt cx="711000" cy="5299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5008680" y="4157640"/>
                <a:ext cx="711000" cy="529920"/>
                <a:chOff x="5008680" y="4157640"/>
                <a:chExt cx="711000" cy="52992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5008680" y="4157640"/>
                  <a:ext cx="711000" cy="529920"/>
                  <a:chOff x="5008680" y="4157640"/>
                  <a:chExt cx="711000" cy="52992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>
                    <a:off x="5070240" y="4376520"/>
                    <a:ext cx="592920" cy="31104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008680" y="4157640"/>
                    <a:ext cx="711000" cy="25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6" name=""/>
                <p:cNvSpPr/>
                <p:nvPr/>
              </p:nvSpPr>
              <p:spPr>
                <a:xfrm>
                  <a:off x="5538240" y="4546440"/>
                  <a:ext cx="117360" cy="633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3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82480" y="4443480"/>
                  <a:ext cx="201960" cy="22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21880" y="4443480"/>
                  <a:ext cx="118800" cy="11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39" name=""/>
              <p:cNvSpPr/>
              <p:nvPr/>
            </p:nvSpPr>
            <p:spPr>
              <a:xfrm flipV="1">
                <a:off x="5401440" y="4527000"/>
                <a:ext cx="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5180040" y="45864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8352000" y="5268960"/>
            <a:ext cx="556920" cy="46368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08960" y="4435560"/>
            <a:ext cx="557280" cy="43812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5056200" y="5778360"/>
            <a:ext cx="711360" cy="531720"/>
            <a:chOff x="5056200" y="5778360"/>
            <a:chExt cx="711360" cy="531720"/>
          </a:xfrm>
        </p:grpSpPr>
        <p:grpSp>
          <p:nvGrpSpPr>
            <p:cNvPr id="944" name=""/>
            <p:cNvGrpSpPr/>
            <p:nvPr/>
          </p:nvGrpSpPr>
          <p:grpSpPr>
            <a:xfrm>
              <a:off x="5056200" y="5778360"/>
              <a:ext cx="711360" cy="531720"/>
              <a:chOff x="5056200" y="5778360"/>
              <a:chExt cx="711360" cy="531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056200" y="5778360"/>
                <a:ext cx="711360" cy="531720"/>
                <a:chOff x="5056200" y="5778360"/>
                <a:chExt cx="711360" cy="5317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5056200" y="5778360"/>
                  <a:ext cx="711360" cy="531720"/>
                  <a:chOff x="5056200" y="5778360"/>
                  <a:chExt cx="711360" cy="53172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5117760" y="5997960"/>
                    <a:ext cx="593280" cy="31212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056200" y="5778360"/>
                    <a:ext cx="711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9" name=""/>
                <p:cNvSpPr/>
                <p:nvPr/>
              </p:nvSpPr>
              <p:spPr>
                <a:xfrm>
                  <a:off x="5586120" y="6168600"/>
                  <a:ext cx="117360" cy="637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130000" y="6064920"/>
                  <a:ext cx="20232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69400" y="6064920"/>
                  <a:ext cx="118800" cy="11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52" name=""/>
              <p:cNvSpPr/>
              <p:nvPr/>
            </p:nvSpPr>
            <p:spPr>
              <a:xfrm flipV="1">
                <a:off x="5449320" y="6149160"/>
                <a:ext cx="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5227560" y="620856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flipH="1" flipV="1">
            <a:off x="6308640" y="5316120"/>
            <a:ext cx="1392480" cy="7873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5705280" y="4714560"/>
            <a:ext cx="649080" cy="647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381280" y="5316480"/>
            <a:ext cx="92700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55040" y="6058080"/>
            <a:ext cx="511200" cy="39024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5752800" y="5316480"/>
            <a:ext cx="555480" cy="649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72480" y="4876920"/>
            <a:ext cx="0" cy="117468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703760" y="4995720"/>
            <a:ext cx="711360" cy="529920"/>
            <a:chOff x="4703760" y="4995720"/>
            <a:chExt cx="711360" cy="529920"/>
          </a:xfrm>
        </p:grpSpPr>
        <p:grpSp>
          <p:nvGrpSpPr>
            <p:cNvPr id="961" name=""/>
            <p:cNvGrpSpPr/>
            <p:nvPr/>
          </p:nvGrpSpPr>
          <p:grpSpPr>
            <a:xfrm>
              <a:off x="4703760" y="4995720"/>
              <a:ext cx="711360" cy="529920"/>
              <a:chOff x="4703760" y="4995720"/>
              <a:chExt cx="711360" cy="52992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4703760" y="4995720"/>
                <a:ext cx="711360" cy="529920"/>
                <a:chOff x="4703760" y="4995720"/>
                <a:chExt cx="711360" cy="52992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4703760" y="4995720"/>
                  <a:ext cx="711360" cy="529920"/>
                  <a:chOff x="4703760" y="4995720"/>
                  <a:chExt cx="711360" cy="52992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4765320" y="5214600"/>
                    <a:ext cx="593280" cy="311040"/>
                  </a:xfrm>
                  <a:prstGeom prst="rect">
                    <a:avLst/>
                  </a:prstGeom>
                  <a:solidFill>
                    <a:srgbClr val="3333cc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pPr algn="ctr">
                      <a:tabLst>
                        <a:tab algn="l" pos="0"/>
                        <a:tab algn="l" pos="281160"/>
                        <a:tab algn="l" pos="561960"/>
                        <a:tab algn="l" pos="843120"/>
                        <a:tab algn="l" pos="1123920"/>
                        <a:tab algn="l" pos="1405080"/>
                        <a:tab algn="l" pos="1685880"/>
                        <a:tab algn="l" pos="1967040"/>
                        <a:tab algn="l" pos="2247840"/>
                        <a:tab algn="l" pos="2529000"/>
                        <a:tab algn="l" pos="2809800"/>
                        <a:tab algn="l" pos="3090960"/>
                        <a:tab algn="l" pos="3371760"/>
                        <a:tab algn="l" pos="3652920"/>
                        <a:tab algn="l" pos="3933720"/>
                        <a:tab algn="l" pos="4214880"/>
                        <a:tab algn="l" pos="4495680"/>
                        <a:tab algn="l" pos="4776840"/>
                        <a:tab algn="l" pos="5057640"/>
                        <a:tab algn="l" pos="5338800"/>
                        <a:tab algn="l" pos="56196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03760" y="4995720"/>
                    <a:ext cx="711360" cy="25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640" rIns="864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6" name=""/>
                <p:cNvSpPr/>
                <p:nvPr/>
              </p:nvSpPr>
              <p:spPr>
                <a:xfrm>
                  <a:off x="5233680" y="5384520"/>
                  <a:ext cx="117360" cy="633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640" rIns="864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777560" y="5281560"/>
                  <a:ext cx="202320" cy="22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016960" y="5281560"/>
                  <a:ext cx="118800" cy="11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9" name=""/>
              <p:cNvSpPr/>
              <p:nvPr/>
            </p:nvSpPr>
            <p:spPr>
              <a:xfrm flipV="1">
                <a:off x="5096880" y="5365080"/>
                <a:ext cx="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" rIns="864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875120" y="542448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" rIns="864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6384240" y="52182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PMP 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24400" y="2057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/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156720" y="486396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/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43400" y="1447920"/>
            <a:ext cx="5029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unkt-zu-Punkt PVCs (P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720" indent="-110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jedem Host und M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72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ives Forwarding der Multicast-Pakete zu den Hosts die einer Multicastgruppe beigetreten sin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72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Replikation wird auf der Netzwerkebene (Kernel) ausgefüh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4191120"/>
            <a:ext cx="49528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unkt-zu-Mehrpunkt PVC (PM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986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Verbindung zu allen Hosts im L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98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selektives forwarding der Multicast-Pakete zu den Empfängern möglich: broadcast zu allen Hosts -&gt; floo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98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Replikation sehr effizient, da sie auf der ATM-Schicht ausgeführt wi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66440" y="99072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ätze zum MCS-Data-Forwarding übert ATM-PV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2 Multicast Access Server V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1828800"/>
            <a:ext cx="3810240" cy="4114800"/>
          </a:xfrm>
          <a:prstGeom prst="rect">
            <a:avLst/>
          </a:prstGeom>
          <a:gradFill rotWithShape="0">
            <a:gsLst>
              <a:gs pos="0">
                <a:srgbClr val="dcdc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-konform (RFC 20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gration auf ATM SVC Umgebungen mögl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izient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lastet die Router CPU im Fall der Daten-Replikation auf dem ATM Level, d.h  nur bei PMP PVC zu allen 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chitektur erweiterbar von einem auf mehrere MCS, die  verschiedene Hosts oder Multicast-Gruppen bedie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3400" y="1828800"/>
            <a:ext cx="3809880" cy="4114800"/>
          </a:xfrm>
          <a:prstGeom prst="rect">
            <a:avLst/>
          </a:prstGeom>
          <a:gradFill rotWithShape="0">
            <a:gsLst>
              <a:gs pos="0">
                <a:srgbClr val="dfdf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saufwand h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izient nur wenn ATM -Umgebung PMP- PVC unterstützt, NEC-Geräte unterstützen keine PMP-PV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alierbarkeit (bei ATM-PVC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VC-Unterstützung für Zugangsnetze nicht abseh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igurations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: kein echter Vorteil gegenüber MAS V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6600" y="1295280"/>
            <a:ext cx="59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 des IP-Multicast Access Server V.2 (MoP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571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238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schwerpunk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28800" y="1295280"/>
            <a:ext cx="5257800" cy="4267440"/>
            <a:chOff x="1828800" y="1295280"/>
            <a:chExt cx="5257800" cy="4267440"/>
          </a:xfrm>
        </p:grpSpPr>
        <p:sp>
          <p:nvSpPr>
            <p:cNvPr id="58" name=""/>
            <p:cNvSpPr/>
            <p:nvPr/>
          </p:nvSpPr>
          <p:spPr>
            <a:xfrm>
              <a:off x="1828800" y="1295280"/>
              <a:ext cx="5257800" cy="42674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telekids" descr=""/>
            <p:cNvPicPr/>
            <p:nvPr/>
          </p:nvPicPr>
          <p:blipFill>
            <a:blip r:embed="rId1"/>
            <a:stretch/>
          </p:blipFill>
          <p:spPr>
            <a:xfrm>
              <a:off x="2286000" y="2971800"/>
              <a:ext cx="206244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televidkonf" descr=""/>
            <p:cNvPicPr/>
            <p:nvPr/>
          </p:nvPicPr>
          <p:blipFill>
            <a:blip r:embed="rId2"/>
            <a:stretch/>
          </p:blipFill>
          <p:spPr>
            <a:xfrm>
              <a:off x="3124440" y="1760400"/>
              <a:ext cx="176184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telestud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182880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94880" y="4114800"/>
              <a:ext cx="375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ilprojekt 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active Home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über AD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1066680"/>
            <a:ext cx="3124080" cy="2057400"/>
            <a:chOff x="0" y="1066680"/>
            <a:chExt cx="3124080" cy="2057400"/>
          </a:xfrm>
        </p:grpSpPr>
        <p:grpSp>
          <p:nvGrpSpPr>
            <p:cNvPr id="64" name=""/>
            <p:cNvGrpSpPr/>
            <p:nvPr/>
          </p:nvGrpSpPr>
          <p:grpSpPr>
            <a:xfrm>
              <a:off x="0" y="1066680"/>
              <a:ext cx="3124080" cy="2057400"/>
              <a:chOff x="0" y="1066680"/>
              <a:chExt cx="3124080" cy="205740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1066680"/>
                <a:ext cx="3124080" cy="2057400"/>
              </a:xfrm>
              <a:prstGeom prst="ellipse">
                <a:avLst/>
              </a:prstGeom>
              <a:solidFill>
                <a:srgbClr val="cc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6240" y="1447920"/>
                <a:ext cx="2803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DSL-Feldversu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ur Erprobung v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le-Lehrszenari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068840" y="259092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248520" y="1523880"/>
            <a:ext cx="2666880" cy="21337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4040" y="190512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Multic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Zugangs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1040" y="3124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886200"/>
            <a:ext cx="2819520" cy="2362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41911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zeu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Medien- Skalieru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8760" y="5715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8600" y="4038480"/>
            <a:ext cx="2494080" cy="2057400"/>
            <a:chOff x="228600" y="4038480"/>
            <a:chExt cx="2494080" cy="2057400"/>
          </a:xfrm>
        </p:grpSpPr>
        <p:sp>
          <p:nvSpPr>
            <p:cNvPr id="75" name=""/>
            <p:cNvSpPr/>
            <p:nvPr/>
          </p:nvSpPr>
          <p:spPr>
            <a:xfrm>
              <a:off x="228600" y="4114440"/>
              <a:ext cx="2438640" cy="19814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4160" y="4038480"/>
              <a:ext cx="2108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alu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leTeac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ldversu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9200" y="556236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DFN-Logo" descr=""/>
          <p:cNvPicPr/>
          <p:nvPr/>
        </p:nvPicPr>
        <p:blipFill>
          <a:blip r:embed="rId4"/>
          <a:stretch/>
        </p:blipFill>
        <p:spPr>
          <a:xfrm>
            <a:off x="4800600" y="1752480"/>
            <a:ext cx="76212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RWTH-Logo" descr=""/>
          <p:cNvPicPr/>
          <p:nvPr/>
        </p:nvPicPr>
        <p:blipFill>
          <a:blip r:embed="rId5"/>
          <a:stretch/>
        </p:blipFill>
        <p:spPr>
          <a:xfrm>
            <a:off x="2819520" y="2743200"/>
            <a:ext cx="1676160" cy="5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uni_mannheim" descr=""/>
          <p:cNvPicPr/>
          <p:nvPr/>
        </p:nvPicPr>
        <p:blipFill>
          <a:blip r:embed="rId6"/>
          <a:stretch/>
        </p:blipFill>
        <p:spPr>
          <a:xfrm>
            <a:off x="4343400" y="327672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NEC_only" descr=""/>
          <p:cNvPicPr/>
          <p:nvPr/>
        </p:nvPicPr>
        <p:blipFill>
          <a:blip r:embed="rId7"/>
          <a:stretch/>
        </p:blipFill>
        <p:spPr>
          <a:xfrm>
            <a:off x="5257800" y="3581280"/>
            <a:ext cx="1143000" cy="3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4800600" y="1676520"/>
            <a:ext cx="32515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 3  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kzeuge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en-Skalierung/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Fi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32640" y="4114800"/>
            <a:ext cx="23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3.4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dien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11430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ierung eines Medienfilters für Multicast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übertragung im ATM/ADSL-Zugangsne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 des Filters in den MCS-Prototyp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 Multicast Access Server V.2  (MoPV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 Medienfil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CS-Lastkontrolle durch intelligentes Packet-Dro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eines  Überlaufs der MCS Input-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ung hierarchisch codierter Video-Datenströme (layered H.26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entscheidung auf der Basis von RTP Layer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filtern von Paketen höherer Schichten zu Erhalt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r Bildqual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3/00: Implementierung und Evaluierung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unterschiedlicher Filter-Policies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Test mit dem Video-Codec der Universität Man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447920" y="5181480"/>
            <a:ext cx="190476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469880" y="5197320"/>
            <a:ext cx="20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47920" y="3581280"/>
            <a:ext cx="19047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33720" y="3900600"/>
            <a:ext cx="0" cy="59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19320" y="3900600"/>
            <a:ext cx="4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22360" y="393876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cklog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447920" y="2514600"/>
            <a:ext cx="55371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00320" y="397656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00320" y="403848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95640" y="4100400"/>
            <a:ext cx="3045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95640" y="4162320"/>
            <a:ext cx="3045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3900600"/>
            <a:ext cx="0" cy="59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75280" y="5181480"/>
            <a:ext cx="19051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97600" y="5197320"/>
            <a:ext cx="20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75280" y="3581280"/>
            <a:ext cx="1905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61080" y="4038480"/>
            <a:ext cx="0" cy="5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46680" y="4633920"/>
            <a:ext cx="4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9960" y="41641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827680" y="437364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827680" y="443556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823000" y="449748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823000" y="4559400"/>
            <a:ext cx="3049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203880" y="4038480"/>
            <a:ext cx="0" cy="5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98176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98508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8508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98508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47920" y="1981080"/>
            <a:ext cx="5537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98508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061040" y="19782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er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061040" y="28195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3 (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89840" y="3851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089840" y="51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55680" y="1828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5680" y="36576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9360" y="22986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35640" y="4597560"/>
            <a:ext cx="132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lip_start_xmit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84880" y="37972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_queue_xmit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410080" y="3276720"/>
            <a:ext cx="134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_queue_xmit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587920" y="26668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_send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632040" y="3276720"/>
            <a:ext cx="138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_mcs_forward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60640" y="266688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Routing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31840" y="3273480"/>
            <a:ext cx="7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_rcv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816200" y="2664000"/>
            <a:ext cx="15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_local_deliver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336760" y="374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33676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33676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79396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1480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2670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1804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91804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91804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360520" y="5067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89200" y="4865760"/>
            <a:ext cx="15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nterrupt / netif_rx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1498680" y="4191120"/>
            <a:ext cx="1320840" cy="826560"/>
            <a:chOff x="1498680" y="4191120"/>
            <a:chExt cx="1320840" cy="826560"/>
          </a:xfrm>
        </p:grpSpPr>
        <p:sp>
          <p:nvSpPr>
            <p:cNvPr id="1044" name=""/>
            <p:cNvSpPr/>
            <p:nvPr/>
          </p:nvSpPr>
          <p:spPr>
            <a:xfrm>
              <a:off x="2133720" y="4572000"/>
              <a:ext cx="457200" cy="304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909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19520" y="4191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2590560" y="4724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498680" y="4703760"/>
              <a:ext cx="384120" cy="75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76440" y="4941720"/>
              <a:ext cx="23004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1920" y="4751280"/>
              <a:ext cx="759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1806480" y="4751280"/>
              <a:ext cx="763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89080" y="458784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362320" y="441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93800" y="4527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84440" y="4524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2019240" y="3565440"/>
            <a:ext cx="77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ET_B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2336760" y="34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27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35640" y="4749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409200" y="3581280"/>
            <a:ext cx="15951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CS 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673280" y="1676520"/>
            <a:ext cx="1312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acke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ocal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101200" y="1676520"/>
            <a:ext cx="1677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acket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ocal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60360" y="5638680"/>
            <a:ext cx="2142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coming Packet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ll network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(ethernet, ATM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90960" y="5638680"/>
            <a:ext cx="2262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ulticast Packets to the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TM network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9640" y="1143000"/>
            <a:ext cx="73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S Packet Forwarding  und Integration des Medienfilters im MoPV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71600" y="4267080"/>
            <a:ext cx="2057400" cy="838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4920" y="2514600"/>
            <a:ext cx="144756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4920" y="28195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ERARCHICAL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28800" y="26668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28800" y="2971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276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828800" y="35812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31840" y="3645000"/>
            <a:ext cx="1800" cy="304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414036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95680" y="2577960"/>
            <a:ext cx="457200" cy="15264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29200" y="2577960"/>
            <a:ext cx="457200" cy="15264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95680" y="2870280"/>
            <a:ext cx="4572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2870280"/>
            <a:ext cx="4572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2413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05120" y="27176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05120" y="30225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84140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676520" y="4343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fferent str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95680" y="3149640"/>
            <a:ext cx="457200" cy="152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3441600"/>
            <a:ext cx="4572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95680" y="40132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9080" y="3657600"/>
            <a:ext cx="144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29200" y="3149640"/>
            <a:ext cx="457200" cy="152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029200" y="3441600"/>
            <a:ext cx="45720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6600" y="40132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463840" y="2514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10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63840" y="2773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63840" y="3078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0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438280" y="3962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1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38480" y="42670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capsulation RTP/UDP/IP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09880" y="1447920"/>
            <a:ext cx="38124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2000" y="1447920"/>
            <a:ext cx="4572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91120" y="1447920"/>
            <a:ext cx="3808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048120" y="1447920"/>
            <a:ext cx="7617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276720" y="14349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746520" y="1447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40360" y="1447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72000" y="16765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coding dependen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29200" y="1447920"/>
            <a:ext cx="1371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460840" y="1440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48120" y="1676520"/>
            <a:ext cx="144756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4952880" y="1676520"/>
            <a:ext cx="144792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91120" y="99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yer 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648320" y="1447920"/>
            <a:ext cx="14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62720" y="2514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0 pk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62720" y="2798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1 pk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562720" y="30909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2 pk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480" y="3733920"/>
            <a:ext cx="838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09480" y="3429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7277040" y="2666880"/>
          <a:ext cx="15242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7040" y="2666880"/>
                    <a:ext cx="152424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"/>
          <p:cNvSpPr/>
          <p:nvPr/>
        </p:nvSpPr>
        <p:spPr>
          <a:xfrm>
            <a:off x="7365960" y="361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62920" y="3200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2666880"/>
            <a:ext cx="38088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705720" y="3428640"/>
            <a:ext cx="30456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2720" y="3962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L-1 pk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96080" y="318600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055000" y="33894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077320" y="295740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443800" y="32767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5820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391520" y="3262320"/>
            <a:ext cx="304560" cy="76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7848720" y="3071520"/>
            <a:ext cx="22860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839000" y="3295800"/>
            <a:ext cx="233280" cy="128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8205840" y="3362040"/>
            <a:ext cx="22860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39240" y="3548160"/>
            <a:ext cx="144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8048520" y="2809800"/>
            <a:ext cx="76320" cy="152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490880" y="3043080"/>
            <a:ext cx="228600" cy="152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8229600" y="2919240"/>
            <a:ext cx="228600" cy="76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8534520" y="3128760"/>
            <a:ext cx="22860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534520" y="3429000"/>
            <a:ext cx="7596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81280" y="2500200"/>
            <a:ext cx="304920" cy="1752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276720" y="2500200"/>
            <a:ext cx="304560" cy="1752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2500200"/>
            <a:ext cx="304920" cy="175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41400">
            <a:off x="3049200" y="31086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241400">
            <a:off x="3351960" y="31068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16241400">
            <a:off x="3786120" y="312372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7619760" y="242424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7315200" y="1967040"/>
          <a:ext cx="68436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967040"/>
                    <a:ext cx="684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7" name=""/>
          <p:cNvSpPr/>
          <p:nvPr/>
        </p:nvSpPr>
        <p:spPr>
          <a:xfrm>
            <a:off x="3048120" y="4633920"/>
            <a:ext cx="914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H.2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228600" y="1371600"/>
          <a:ext cx="121932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37160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"/>
          <p:cNvSpPr/>
          <p:nvPr/>
        </p:nvSpPr>
        <p:spPr>
          <a:xfrm flipV="1">
            <a:off x="3429000" y="425304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14800" y="265284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114800" y="295740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14800" y="323676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114800" y="35164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410040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62120" y="19051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3440" y="5181480"/>
            <a:ext cx="8709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sche  Video-Codierung in Anlehnung an H.261-Verfahren (Layered H.261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zeugt Pakete mit unterschiedlichem Informationsgeh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Filterung hierarchischer Medienströme dient die Schichtnumm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nnzeichnung der Pakete durch RTP-Layer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ung des RTP Paket-Header um ein Feld, das die Schichtinformation ent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0060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035160" y="276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35160" y="2854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035160" y="294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035160" y="303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35160" y="312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016600" y="2765520"/>
            <a:ext cx="4572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016600" y="2854440"/>
            <a:ext cx="4572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016600" y="2943360"/>
            <a:ext cx="4572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81160" y="2714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iginal Bandbreite/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702400" y="2703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passung der Bandbreite  an die verfügbaren Ressourcen: Filterung von Paketen höherer Schich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5800" y="3276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 maximale Qualitä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588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 reduzierte Qualitä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603520" y="4915080"/>
            <a:ext cx="1523880" cy="76176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603520" y="5130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03520" y="4064040"/>
            <a:ext cx="838080" cy="469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51240" y="40766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2832120" y="4533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984400" y="4533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59400" y="6121440"/>
            <a:ext cx="6858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711680" y="6553080"/>
            <a:ext cx="3808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59400" y="61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5092560" y="61722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27400" y="5079960"/>
            <a:ext cx="13716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765440" y="50036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60840" y="4991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832440" y="4991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460840" y="560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680160" y="50292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553080" y="5029200"/>
            <a:ext cx="763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13400" y="5029200"/>
            <a:ext cx="76320" cy="5335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273720" y="5029200"/>
            <a:ext cx="7632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858000" y="529596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46240" y="4610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880240" y="4064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ze of the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87720" y="4076640"/>
            <a:ext cx="16765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41148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eue-state related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6424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21440" y="4305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22840" y="4292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22840" y="429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40360" y="5181480"/>
            <a:ext cx="13716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40360" y="5270400"/>
            <a:ext cx="13716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27400" y="53593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54760" y="535932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27400" y="543564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89520" y="543564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27400" y="551196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37240" y="55119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765440" y="513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765440" y="5245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65440" y="5372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752480" y="5473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52480" y="5600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11280" y="48639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511280" y="5003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511280" y="5143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11280" y="5270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384200" y="5483160"/>
            <a:ext cx="48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60840" y="4940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460840" y="50799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60840" y="5219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577960" y="3541680"/>
            <a:ext cx="1067040" cy="293760"/>
          </a:xfrm>
          <a:prstGeom prst="line">
            <a:avLst/>
          </a:prstGeom>
          <a:ln w="9360">
            <a:solidFill>
              <a:srgbClr val="c0c0c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863960" y="3541680"/>
            <a:ext cx="1625760" cy="370080"/>
          </a:xfrm>
          <a:prstGeom prst="line">
            <a:avLst/>
          </a:prstGeom>
          <a:ln w="9360">
            <a:solidFill>
              <a:srgbClr val="c0c0c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3" name=""/>
          <p:cNvGraphicFramePr/>
          <p:nvPr/>
        </p:nvGraphicFramePr>
        <p:xfrm>
          <a:off x="3340080" y="2627280"/>
          <a:ext cx="1781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0080" y="2627280"/>
                    <a:ext cx="1781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5" name=""/>
          <p:cNvSpPr/>
          <p:nvPr/>
        </p:nvSpPr>
        <p:spPr>
          <a:xfrm>
            <a:off x="317520" y="4927680"/>
            <a:ext cx="228600" cy="759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22440" y="4927680"/>
            <a:ext cx="228600" cy="759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27000" y="4927680"/>
            <a:ext cx="228600" cy="759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231920" y="4927680"/>
            <a:ext cx="228600" cy="759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17520" y="5079960"/>
            <a:ext cx="2286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22440" y="5079960"/>
            <a:ext cx="2286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927000" y="5079960"/>
            <a:ext cx="2286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231920" y="5079960"/>
            <a:ext cx="2286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7520" y="5232240"/>
            <a:ext cx="228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22440" y="5232240"/>
            <a:ext cx="228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927000" y="5232240"/>
            <a:ext cx="228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31920" y="5232240"/>
            <a:ext cx="228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17520" y="556272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22440" y="556272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27000" y="556272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31920" y="556272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0160" y="437976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deo-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ed H.2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5160" y="990720"/>
            <a:ext cx="8523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dienfilter zur Vermeidung von Engpässen beim Multicast Server (M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lterung durch intelligentes Packet Dropping auf der Basis der RTP-Schicht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zieltes Filtern von Paketen mit wenig Informationsgehalt, besser als Random-Dro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öhere Bildqualität beim Empfänger erzielt wir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Filter Policy Algorithmen: Packet-Dropping-Entscheidung anhand des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cket Layer Labels und dem aktuellen Zustand der Input (Backlog) Queue des M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2154240" y="3048120"/>
          <a:ext cx="64440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3048120"/>
                    <a:ext cx="6444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"/>
          <p:cNvGraphicFramePr/>
          <p:nvPr/>
        </p:nvGraphicFramePr>
        <p:xfrm>
          <a:off x="2801880" y="1219320"/>
          <a:ext cx="5410080" cy="40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1880" y="1219320"/>
                    <a:ext cx="541008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"/>
          <p:cNvGraphicFramePr/>
          <p:nvPr/>
        </p:nvGraphicFramePr>
        <p:xfrm>
          <a:off x="5105520" y="3048120"/>
          <a:ext cx="3920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048120"/>
                    <a:ext cx="3920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4554360" y="2616120"/>
            <a:ext cx="56376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6477120" y="4724280"/>
          <a:ext cx="77148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724280"/>
                    <a:ext cx="771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3" name=""/>
          <p:cNvSpPr/>
          <p:nvPr/>
        </p:nvSpPr>
        <p:spPr>
          <a:xfrm>
            <a:off x="3106800" y="3886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/ADS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725560" y="3505320"/>
            <a:ext cx="246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6400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35400" y="2590920"/>
            <a:ext cx="99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cast layered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584600" y="3149640"/>
            <a:ext cx="533520" cy="304920"/>
            <a:chOff x="4584600" y="3149640"/>
            <a:chExt cx="533520" cy="304920"/>
          </a:xfrm>
        </p:grpSpPr>
        <p:sp>
          <p:nvSpPr>
            <p:cNvPr id="1258" name=""/>
            <p:cNvSpPr/>
            <p:nvPr/>
          </p:nvSpPr>
          <p:spPr>
            <a:xfrm>
              <a:off x="4584600" y="3149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18120" y="3149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584600" y="34545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5872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9968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94028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4889520" y="292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410080" y="1600200"/>
            <a:ext cx="838440" cy="1447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486400" y="1676160"/>
            <a:ext cx="1752480" cy="14475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486400" y="2133360"/>
            <a:ext cx="2362320" cy="10666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5486400" y="2819520"/>
            <a:ext cx="2590920" cy="457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86400" y="33526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86400" y="3429000"/>
            <a:ext cx="2514600" cy="457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486400" y="3505320"/>
            <a:ext cx="2057400" cy="990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486400" y="3581280"/>
            <a:ext cx="106668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60600">
            <a:off x="6248520" y="434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376880" y="3606840"/>
            <a:ext cx="304560" cy="279360"/>
            <a:chOff x="4376880" y="3606840"/>
            <a:chExt cx="304560" cy="279360"/>
          </a:xfrm>
        </p:grpSpPr>
        <p:sp>
          <p:nvSpPr>
            <p:cNvPr id="1275" name=""/>
            <p:cNvSpPr/>
            <p:nvPr/>
          </p:nvSpPr>
          <p:spPr>
            <a:xfrm>
              <a:off x="4376880" y="3606840"/>
              <a:ext cx="30456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44560" y="3813480"/>
              <a:ext cx="16920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76880" y="3630960"/>
              <a:ext cx="6768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4613400" y="3630960"/>
              <a:ext cx="6732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44020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2916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19272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170840" y="1650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10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059680" y="2755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059680" y="330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45560" y="38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475400" y="444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87680" y="13716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5163840" y="3962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344680" y="220968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395440" y="226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79800" y="2463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30280" y="22860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f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79800" y="2463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30680" y="1066680"/>
            <a:ext cx="2197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ndard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tic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iv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sw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707000" y="1143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7" name=""/>
          <p:cNvGraphicFramePr/>
          <p:nvPr/>
        </p:nvGraphicFramePr>
        <p:xfrm>
          <a:off x="1963800" y="4267080"/>
          <a:ext cx="4021200" cy="2297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63800" y="4267080"/>
                    <a:ext cx="4021200" cy="2297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cxnSp>
        <p:nvCxnSpPr>
          <p:cNvPr id="1299" name=""/>
          <p:cNvCxnSpPr>
            <a:stCxn id="1250" idx="1"/>
            <a:endCxn id="1295" idx="1"/>
          </p:cNvCxnSpPr>
          <p:nvPr/>
        </p:nvCxnSpPr>
        <p:spPr>
          <a:xfrm flipH="1" rot="10800000">
            <a:off x="4554360" y="1615320"/>
            <a:ext cx="76680" cy="115344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0" name=""/>
          <p:cNvSpPr/>
          <p:nvPr/>
        </p:nvSpPr>
        <p:spPr>
          <a:xfrm>
            <a:off x="308880" y="914400"/>
            <a:ext cx="3566880" cy="9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erformance-Test verschiedener </a:t>
            </a:r>
            <a:br>
              <a:rPr sz="1800"/>
            </a:b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der Medienfilter-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im ATM/ADSL-Ne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1525320" y="403848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956480" y="185436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usammenfassung Arbeiten N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44792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4097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096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09960" y="1920960"/>
            <a:ext cx="799920" cy="4647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1920960"/>
            <a:ext cx="800280" cy="4647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101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4100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2103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0102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512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350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24800" y="1920960"/>
            <a:ext cx="5907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980520" y="1920960"/>
            <a:ext cx="5907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725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563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337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9352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0948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810560" y="1920960"/>
            <a:ext cx="79992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6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92540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094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457200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8680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0948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35240" y="2819520"/>
            <a:ext cx="216504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fbau Netzinfrastruktur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09680" y="2819520"/>
            <a:ext cx="2127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447920" y="3962520"/>
            <a:ext cx="31240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033720" y="4724280"/>
            <a:ext cx="31384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648320" y="47242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371600" y="236232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724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339920" y="380988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128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47920" y="3276720"/>
            <a:ext cx="31240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47920" y="32767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9480" y="563868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440" y="5105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676520" y="5791320"/>
            <a:ext cx="213336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676520" y="57913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3809880" y="2286000"/>
            <a:ext cx="4267440" cy="368280"/>
            <a:chOff x="3809880" y="2286000"/>
            <a:chExt cx="4267440" cy="368280"/>
          </a:xfrm>
        </p:grpSpPr>
        <p:sp>
          <p:nvSpPr>
            <p:cNvPr id="1350" name=""/>
            <p:cNvSpPr/>
            <p:nvPr/>
          </p:nvSpPr>
          <p:spPr>
            <a:xfrm>
              <a:off x="3809880" y="236232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0080" y="236232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010280" y="236232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20840" y="22860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84960" y="22860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16440" y="22860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809880" y="5562720"/>
            <a:ext cx="4267440" cy="368280"/>
            <a:chOff x="3809880" y="5562720"/>
            <a:chExt cx="4267440" cy="368280"/>
          </a:xfrm>
        </p:grpSpPr>
        <p:sp>
          <p:nvSpPr>
            <p:cNvPr id="1357" name=""/>
            <p:cNvSpPr/>
            <p:nvPr/>
          </p:nvSpPr>
          <p:spPr>
            <a:xfrm>
              <a:off x="3809880" y="56386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10080" y="56386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10280" y="56386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20840" y="5562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84960" y="5562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16440" y="55627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809880" y="3733920"/>
            <a:ext cx="4267440" cy="368280"/>
            <a:chOff x="3809880" y="3733920"/>
            <a:chExt cx="4267440" cy="368280"/>
          </a:xfrm>
        </p:grpSpPr>
        <p:sp>
          <p:nvSpPr>
            <p:cNvPr id="1364" name=""/>
            <p:cNvSpPr/>
            <p:nvPr/>
          </p:nvSpPr>
          <p:spPr>
            <a:xfrm>
              <a:off x="3809880" y="38098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10080" y="38098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10280" y="3809880"/>
              <a:ext cx="1067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020840" y="37339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84960" y="37339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716440" y="3733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2895480" y="3657600"/>
            <a:ext cx="228600" cy="228600"/>
          </a:xfrm>
          <a:prstGeom prst="flowChartCollat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95680" y="3886200"/>
            <a:ext cx="228600" cy="2286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85800" y="1066680"/>
            <a:ext cx="6781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lbjahresüberblick Arbeiten NEC zu TP1 und Milesto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82916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067040" y="32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06704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51496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295640" y="5791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098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048120" y="1600200"/>
            <a:ext cx="1066680" cy="320760"/>
          </a:xfrm>
          <a:prstGeom prst="parallelogram">
            <a:avLst>
              <a:gd name="adj" fmla="val 8313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676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267080" y="2743200"/>
            <a:ext cx="228600" cy="2286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267080" y="3429000"/>
            <a:ext cx="228600" cy="228600"/>
          </a:xfrm>
          <a:prstGeom prst="flowChartCollat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48120" y="4191120"/>
            <a:ext cx="15238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cast Betri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48120" y="4952880"/>
            <a:ext cx="15238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otyp MoPV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418640" y="2590920"/>
            <a:ext cx="26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nschluß 4 neuer Testteilnehmer </a:t>
            </a:r>
            <a:br>
              <a:rPr sz="1200"/>
            </a:b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bschluß AP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14800" y="4419720"/>
            <a:ext cx="45720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20440" y="342900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ginn IHL Feldversuch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48520" y="47242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ffdd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8840" y="36115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eric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724640" y="3886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bschluß AP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251040" y="4952880"/>
            <a:ext cx="224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Shift AP 2.2, wg. Integration </a:t>
            </a:r>
            <a:br>
              <a:rPr sz="1200"/>
            </a:b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Medien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48120" y="4724280"/>
            <a:ext cx="312408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5791320"/>
            <a:ext cx="228600" cy="2286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886560" y="579132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bschluß AP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743200" y="6019920"/>
            <a:ext cx="10666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ter Poli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48120" y="5181480"/>
            <a:ext cx="1523880" cy="24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.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95680" y="5105520"/>
            <a:ext cx="228600" cy="2286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50120" y="51055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1. Prototy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Netzanbindung Mannheim-Aach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MBone-Anbindung/Router-Konfiguration 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MoPVC (MAS V.2) einstel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den gegebenen Bedingungen kein Vorteil gegenüber MAS V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Multicast Access Server V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Medienfil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ion des Medienfilters in  MAS V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bereitungen für 2. Teleteaching Feldversuch im Sommersemester 20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st “mlb” im ATM/ADSL Zugangsn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pake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86080" y="1920960"/>
            <a:ext cx="6400800" cy="4647960"/>
            <a:chOff x="1486080" y="1920960"/>
            <a:chExt cx="6400800" cy="4647960"/>
          </a:xfrm>
        </p:grpSpPr>
        <p:grpSp>
          <p:nvGrpSpPr>
            <p:cNvPr id="86" name=""/>
            <p:cNvGrpSpPr/>
            <p:nvPr/>
          </p:nvGrpSpPr>
          <p:grpSpPr>
            <a:xfrm>
              <a:off x="1486080" y="1920960"/>
              <a:ext cx="6400800" cy="4647960"/>
              <a:chOff x="1486080" y="1920960"/>
              <a:chExt cx="6400800" cy="4647960"/>
            </a:xfrm>
          </p:grpSpPr>
          <p:sp>
            <p:nvSpPr>
              <p:cNvPr id="87" name=""/>
              <p:cNvSpPr/>
              <p:nvPr/>
            </p:nvSpPr>
            <p:spPr>
              <a:xfrm>
                <a:off x="148608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600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8628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620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648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640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8668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8660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5883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64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11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5684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13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94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41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6984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580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86880" y="1920960"/>
            <a:ext cx="79992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48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7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00200"/>
            <a:ext cx="1066680" cy="320760"/>
          </a:xfrm>
          <a:prstGeom prst="parallelogram">
            <a:avLst>
              <a:gd name="adj" fmla="val 8313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4832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92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432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08400" y="2514600"/>
            <a:ext cx="1842120" cy="246240"/>
            <a:chOff x="1508400" y="2514600"/>
            <a:chExt cx="1842120" cy="246240"/>
          </a:xfrm>
        </p:grpSpPr>
        <p:sp>
          <p:nvSpPr>
            <p:cNvPr id="115" name=""/>
            <p:cNvSpPr/>
            <p:nvPr/>
          </p:nvSpPr>
          <p:spPr>
            <a:xfrm>
              <a:off x="1510200" y="2514600"/>
              <a:ext cx="184032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ung ADSL Feldvers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0840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5640" y="2819520"/>
            <a:ext cx="1676880" cy="246240"/>
            <a:chOff x="2285640" y="2819520"/>
            <a:chExt cx="1676880" cy="246240"/>
          </a:xfrm>
        </p:grpSpPr>
        <p:sp>
          <p:nvSpPr>
            <p:cNvPr id="118" name=""/>
            <p:cNvSpPr/>
            <p:nvPr/>
          </p:nvSpPr>
          <p:spPr>
            <a:xfrm>
              <a:off x="2288160" y="2819520"/>
              <a:ext cx="167436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bau Netzinfrastruk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564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23880" y="3962520"/>
            <a:ext cx="31244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96252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0240" y="4267080"/>
            <a:ext cx="313848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2670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36232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56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15880" y="380988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724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17320" y="3124080"/>
            <a:ext cx="1608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ADSL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0400" y="3124080"/>
            <a:ext cx="1582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29000"/>
            <a:ext cx="6324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632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57200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648320"/>
            <a:ext cx="148212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forderungsanaly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5840" y="4952880"/>
            <a:ext cx="169236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e und Evalu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952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22600" y="5257800"/>
            <a:ext cx="173808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zifikation und Entwu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33400" y="5257800"/>
            <a:ext cx="1086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5562720"/>
            <a:ext cx="213372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79720" y="5638680"/>
            <a:ext cx="320688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Skalierungswerkze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3240" y="5943600"/>
            <a:ext cx="267336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und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94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5562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6248520"/>
            <a:ext cx="48769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6019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6324480"/>
            <a:ext cx="472428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ierung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6324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86200" y="2286000"/>
            <a:ext cx="4266720" cy="4254480"/>
            <a:chOff x="3886200" y="2286000"/>
            <a:chExt cx="4266720" cy="4254480"/>
          </a:xfrm>
        </p:grpSpPr>
        <p:grpSp>
          <p:nvGrpSpPr>
            <p:cNvPr id="151" name=""/>
            <p:cNvGrpSpPr/>
            <p:nvPr/>
          </p:nvGrpSpPr>
          <p:grpSpPr>
            <a:xfrm>
              <a:off x="3886200" y="2286000"/>
              <a:ext cx="4266720" cy="368280"/>
              <a:chOff x="3886200" y="2286000"/>
              <a:chExt cx="4266720" cy="368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6200" y="23623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86040" y="23623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86240" y="23623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680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6056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92400" y="2286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886200" y="6172200"/>
              <a:ext cx="4266720" cy="368280"/>
              <a:chOff x="3886200" y="6172200"/>
              <a:chExt cx="426672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3886200" y="62485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86040" y="62485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86240" y="624852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9680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6056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92400" y="61722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886200" y="4496040"/>
              <a:ext cx="4266720" cy="368280"/>
              <a:chOff x="3886200" y="4496040"/>
              <a:chExt cx="426672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3886200" y="457200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86040" y="457200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86240" y="457200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9680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6056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2400" y="4496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886200" y="3733920"/>
              <a:ext cx="4266720" cy="368280"/>
              <a:chOff x="3886200" y="3733920"/>
              <a:chExt cx="4266720" cy="368280"/>
            </a:xfrm>
          </p:grpSpPr>
          <p:sp>
            <p:nvSpPr>
              <p:cNvPr id="173" name=""/>
              <p:cNvSpPr/>
              <p:nvPr/>
            </p:nvSpPr>
            <p:spPr>
              <a:xfrm>
                <a:off x="3886200" y="381024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040" y="381024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86240" y="3810240"/>
                <a:ext cx="10666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9680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6056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2400" y="3733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2209680" y="4419720"/>
            <a:ext cx="5029200" cy="228600"/>
            <a:chOff x="2209680" y="4419720"/>
            <a:chExt cx="5029200" cy="228600"/>
          </a:xfrm>
        </p:grpSpPr>
        <p:sp>
          <p:nvSpPr>
            <p:cNvPr id="180" name=""/>
            <p:cNvSpPr/>
            <p:nvPr/>
          </p:nvSpPr>
          <p:spPr>
            <a:xfrm>
              <a:off x="220968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028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43360" y="2514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48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48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360" y="342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36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760" y="4267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24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880" y="4952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960" y="5257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960" y="5562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840" y="5943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680" y="571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1680" y="106668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blick “IHL über ADSL” laut Arbeitsp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219320"/>
            <a:ext cx="228600" cy="228600"/>
          </a:xfrm>
          <a:prstGeom prst="flowChartCollat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4440" y="11430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ktberich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pake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09760" y="1920960"/>
            <a:ext cx="6400800" cy="4647960"/>
            <a:chOff x="1409760" y="1920960"/>
            <a:chExt cx="6400800" cy="4647960"/>
          </a:xfrm>
        </p:grpSpPr>
        <p:grpSp>
          <p:nvGrpSpPr>
            <p:cNvPr id="203" name=""/>
            <p:cNvGrpSpPr/>
            <p:nvPr/>
          </p:nvGrpSpPr>
          <p:grpSpPr>
            <a:xfrm>
              <a:off x="1409760" y="1920960"/>
              <a:ext cx="6400800" cy="4647960"/>
              <a:chOff x="1409760" y="1920960"/>
              <a:chExt cx="6400800" cy="4647960"/>
            </a:xfrm>
          </p:grpSpPr>
          <p:sp>
            <p:nvSpPr>
              <p:cNvPr id="204" name=""/>
              <p:cNvSpPr/>
              <p:nvPr/>
            </p:nvSpPr>
            <p:spPr>
              <a:xfrm>
                <a:off x="140976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0968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0996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0988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1016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1008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10360" y="1920960"/>
                <a:ext cx="79992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10280" y="1920960"/>
                <a:ext cx="800280" cy="46479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5120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5008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8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805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50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308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3780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93520" y="1920960"/>
              <a:ext cx="590760" cy="3988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0948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10560" y="1920960"/>
            <a:ext cx="79992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6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540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57200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76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80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32080" y="2514600"/>
            <a:ext cx="1842120" cy="246240"/>
            <a:chOff x="1432080" y="2514600"/>
            <a:chExt cx="1842120" cy="246240"/>
          </a:xfrm>
        </p:grpSpPr>
        <p:sp>
          <p:nvSpPr>
            <p:cNvPr id="232" name=""/>
            <p:cNvSpPr/>
            <p:nvPr/>
          </p:nvSpPr>
          <p:spPr>
            <a:xfrm>
              <a:off x="1433880" y="2514600"/>
              <a:ext cx="184032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ung ADSL Feldvers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3208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09680" y="2819520"/>
            <a:ext cx="1676880" cy="246240"/>
            <a:chOff x="2209680" y="2819520"/>
            <a:chExt cx="1676880" cy="246240"/>
          </a:xfrm>
        </p:grpSpPr>
        <p:sp>
          <p:nvSpPr>
            <p:cNvPr id="235" name=""/>
            <p:cNvSpPr/>
            <p:nvPr/>
          </p:nvSpPr>
          <p:spPr>
            <a:xfrm>
              <a:off x="2212200" y="2819520"/>
              <a:ext cx="167436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bau Netzinfrastruk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96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447920" y="3962520"/>
            <a:ext cx="312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33920" y="4267080"/>
            <a:ext cx="31384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2670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36232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24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39920" y="380988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41000" y="3124080"/>
            <a:ext cx="1608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ADSL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24080" y="312408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429000"/>
            <a:ext cx="6324480" cy="24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57200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745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4648320"/>
            <a:ext cx="14821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forderungsanaly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9880" y="4952880"/>
            <a:ext cx="1692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e und Evalu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952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5257800"/>
            <a:ext cx="173808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zifikation und Entwu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57440" y="5257800"/>
            <a:ext cx="1085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5562720"/>
            <a:ext cx="2133360" cy="246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3760" y="5638680"/>
            <a:ext cx="32065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Skalierungswerkze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36920" y="5943600"/>
            <a:ext cx="2673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und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94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55627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6248520"/>
            <a:ext cx="48769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9360" y="6019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6324480"/>
            <a:ext cx="4724280" cy="246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ierung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6324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09880" y="2286000"/>
            <a:ext cx="4267440" cy="4254480"/>
            <a:chOff x="3809880" y="2286000"/>
            <a:chExt cx="4267440" cy="4254480"/>
          </a:xfrm>
        </p:grpSpPr>
        <p:grpSp>
          <p:nvGrpSpPr>
            <p:cNvPr id="268" name=""/>
            <p:cNvGrpSpPr/>
            <p:nvPr/>
          </p:nvGrpSpPr>
          <p:grpSpPr>
            <a:xfrm>
              <a:off x="3809880" y="2286000"/>
              <a:ext cx="4267440" cy="368280"/>
              <a:chOff x="3809880" y="2286000"/>
              <a:chExt cx="4267440" cy="36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38098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102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084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496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16440" y="2286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809880" y="6172200"/>
              <a:ext cx="4267440" cy="368280"/>
              <a:chOff x="3809880" y="6172200"/>
              <a:chExt cx="4267440" cy="368280"/>
            </a:xfrm>
          </p:grpSpPr>
          <p:sp>
            <p:nvSpPr>
              <p:cNvPr id="276" name=""/>
              <p:cNvSpPr/>
              <p:nvPr/>
            </p:nvSpPr>
            <p:spPr>
              <a:xfrm>
                <a:off x="38098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100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102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084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8496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16440" y="61722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809880" y="4496040"/>
              <a:ext cx="4267440" cy="368280"/>
              <a:chOff x="3809880" y="4496040"/>
              <a:chExt cx="4267440" cy="368280"/>
            </a:xfrm>
          </p:grpSpPr>
          <p:sp>
            <p:nvSpPr>
              <p:cNvPr id="283" name=""/>
              <p:cNvSpPr/>
              <p:nvPr/>
            </p:nvSpPr>
            <p:spPr>
              <a:xfrm>
                <a:off x="38098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100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102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2084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8496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16440" y="4496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809880" y="3733920"/>
              <a:ext cx="4267440" cy="368280"/>
              <a:chOff x="3809880" y="3733920"/>
              <a:chExt cx="4267440" cy="36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8098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100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102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2084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8496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16440" y="3733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419720"/>
            <a:ext cx="5029200" cy="228600"/>
            <a:chOff x="2133720" y="4419720"/>
            <a:chExt cx="5029200" cy="228600"/>
          </a:xfrm>
        </p:grpSpPr>
        <p:sp>
          <p:nvSpPr>
            <p:cNvPr id="297" name=""/>
            <p:cNvSpPr/>
            <p:nvPr/>
          </p:nvSpPr>
          <p:spPr>
            <a:xfrm>
              <a:off x="21337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39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41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91440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ordnung  z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partner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7040" y="2514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916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91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7040" y="342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704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7440" y="4267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528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560" y="4952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640" y="5257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640" y="5562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880" y="5943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360" y="571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28800" y="1066680"/>
            <a:ext cx="5638680" cy="380880"/>
            <a:chOff x="1828800" y="1066680"/>
            <a:chExt cx="5638680" cy="380880"/>
          </a:xfrm>
        </p:grpSpPr>
        <p:sp>
          <p:nvSpPr>
            <p:cNvPr id="315" name=""/>
            <p:cNvSpPr/>
            <p:nvPr/>
          </p:nvSpPr>
          <p:spPr>
            <a:xfrm>
              <a:off x="1828800" y="1066680"/>
              <a:ext cx="563868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82000" y="1143000"/>
              <a:ext cx="44748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08960" y="1143000"/>
              <a:ext cx="932040" cy="246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9320" y="1143000"/>
              <a:ext cx="56016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7640" y="1143000"/>
              <a:ext cx="616680" cy="246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2480" y="1143000"/>
              <a:ext cx="1101240" cy="246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2280" y="1143000"/>
              <a:ext cx="988560" cy="246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315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bjahresüberblick Arbeiten N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chgeführte Arbeiten Juli - Dezembe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1  ADSL Feldversu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1.2  Aufbau Netzinfrastruktur (No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1.4  Betreuung ADSL Feldversuch (Jul. - De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2  IP-Multicast Support im Zugangsnet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2.1  Multicast Access Server  V.1 (Mrouted) (Jul. - Dez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2.2  Multicast Access Server  V.2 (MoPVC)  (Jul. - De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3  Werkzeuge zur Medien-Skalierung/Filt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3.4  Implementierung  Medienfilter (Jul. - Ok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95880" y="2133720"/>
            <a:ext cx="457200" cy="457200"/>
            <a:chOff x="6095880" y="2133720"/>
            <a:chExt cx="457200" cy="457200"/>
          </a:xfrm>
        </p:grpSpPr>
        <p:sp>
          <p:nvSpPr>
            <p:cNvPr id="325" name=""/>
            <p:cNvSpPr/>
            <p:nvPr/>
          </p:nvSpPr>
          <p:spPr>
            <a:xfrm>
              <a:off x="6095880" y="2395440"/>
              <a:ext cx="130320" cy="195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226200" y="2133720"/>
              <a:ext cx="32688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391520" y="5257800"/>
            <a:ext cx="457200" cy="457200"/>
            <a:chOff x="7391520" y="5257800"/>
            <a:chExt cx="457200" cy="457200"/>
          </a:xfrm>
        </p:grpSpPr>
        <p:sp>
          <p:nvSpPr>
            <p:cNvPr id="328" name=""/>
            <p:cNvSpPr/>
            <p:nvPr/>
          </p:nvSpPr>
          <p:spPr>
            <a:xfrm>
              <a:off x="7391520" y="5519520"/>
              <a:ext cx="130320" cy="195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521840" y="5257800"/>
              <a:ext cx="32688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8534520" y="3657600"/>
            <a:ext cx="457200" cy="457200"/>
            <a:chOff x="8534520" y="3657600"/>
            <a:chExt cx="457200" cy="457200"/>
          </a:xfrm>
        </p:grpSpPr>
        <p:sp>
          <p:nvSpPr>
            <p:cNvPr id="331" name=""/>
            <p:cNvSpPr/>
            <p:nvPr/>
          </p:nvSpPr>
          <p:spPr>
            <a:xfrm>
              <a:off x="8534520" y="3919320"/>
              <a:ext cx="130320" cy="195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664840" y="3657600"/>
              <a:ext cx="32688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040" y="5867280"/>
            <a:ext cx="1643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pa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0" y="6019920"/>
            <a:ext cx="457200" cy="457200"/>
            <a:chOff x="2286000" y="6019920"/>
            <a:chExt cx="457200" cy="457200"/>
          </a:xfrm>
        </p:grpSpPr>
        <p:sp>
          <p:nvSpPr>
            <p:cNvPr id="335" name=""/>
            <p:cNvSpPr/>
            <p:nvPr/>
          </p:nvSpPr>
          <p:spPr>
            <a:xfrm>
              <a:off x="2286000" y="6281640"/>
              <a:ext cx="130320" cy="195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416320" y="6019920"/>
              <a:ext cx="326880" cy="4572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57200" y="5867280"/>
            <a:ext cx="2438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803840" y="1676520"/>
            <a:ext cx="307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 1  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SL Feldvers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0280" y="4038480"/>
            <a:ext cx="4713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1.2  Aufbau Netzinfra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1.4  Betreuung  ADSL Feldvers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napshot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400800" cy="51195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315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P 1 ADSL Feldver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snapshot09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828800" cy="1644840"/>
          </a:xfrm>
          <a:prstGeom prst="rect">
            <a:avLst/>
          </a:prstGeom>
          <a:ln w="0">
            <a:noFill/>
          </a:ln>
        </p:spPr>
      </p:pic>
      <p:pic>
        <p:nvPicPr>
          <p:cNvPr id="344" name="whiteboard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281952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280" y="96696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mentaufnahmen - Empfang der Vorlesung Multimediatechnik über 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315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  ADSL Feldversuch (Übersi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320" y="8380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Juli - Okto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aktische Erprobung des Multicast Access Servers im ADSL Zugangsne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-Multicast Betrieb für 6 Teilnehmer, Test der MBone-Tools im Zugangsn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trag auf Unterstützungszusage durch die Deutsche Telek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e Oktober: DT Aachen erteilt Zusage auf Freischaltung neuer Teilnehm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WTH Aachen stellt komplett auf G -WIN um, B-WIN Anbindung entfäl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mesterbeginn: Realisierung einer reservierten Netzanbindung zwischen VIROR-LAN (Mannheim) und G-WIN (Aachen) bleibt off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Nov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gangslösung Netzanbindung Mannheim-Aachen: Übertragung zwischen Mannheim und Aachen per Unicast Umsetzung auf Multicast mit Hilfe des Reflek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7.11.: DT schaltet 4 neue ADSL-Teilnehmer frei =&gt; 10 Multicast Teilneh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8.11. : Feldversuch IHL über ADSL: 1. erfolgreiche Übertragung einer TeleTeaching Session von Mannheim über ADSL und Multicast Access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Dez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lmäßige Übertragung der Vorlesung Multimediatechnik über 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valuierung Feldversuch: Hohe Paketverluste und Bandbreitenschwankungen =&gt; Antrag auf Einrichtung einer reservierten Leitung beim DFN durch Uni Mannhei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hleranalyse der MBone-Anbindung der RWTH,  Ersetzen von MRouted durch PI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6:41:55Z</dcterms:created>
  <dc:creator>brigitta</dc:creator>
  <dc:description/>
  <dc:language>en-US</dc:language>
  <cp:lastModifiedBy>Praktische Informatik IV</cp:lastModifiedBy>
  <cp:lastPrinted>2001-02-06T18:07:57Z</cp:lastPrinted>
  <dcterms:modified xsi:type="dcterms:W3CDTF">2001-08-20T12:02:27Z</dcterms:modified>
  <cp:revision>110</cp:revision>
  <dc:subject/>
  <dc:title>No Slide Title</dc:title>
</cp:coreProperties>
</file>